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_rels/notesSlide100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65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10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B892-F6B3-433D-AE0D-414A18D5F3F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Licenční podmín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autorské dílo, které jsem vytvořil já Ivan Ryant. Souhlasím s tím, aby toto dílo bylo používáno pro nekomerční výukové účely bez mého vědomí a bez nároku na odměnu. Jakákoli úprava tohoto díla musí obsahovat jednak odkaz na můj originál, jednak jméno a kontakt na upravovatele. Citace jakékoli části tohoto díla musí být provázena odkazem na zdroj podle ČSN ISO 690 a ČSN ISO 690-2. V ostatních případech se užití tohoto díla musí řídit příslušným ustanovením autorského záko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ruby: mnoho shora, málo zdola (pracné, ruční prá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estovací scénáře: jeden shora, mnoho zdola (lze generovat automatick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obrázek z webových stránek firmy Ra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obsahuje témata, která doplňují kurs MIT o softwarovém inženýrství (viz prezentace 2). Studenti s pomocí této prezentace mají samostatně pracovat na týmových projekte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Objekt je prvek systému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(je to elementární subsystém, ve většině vlastností se shoduje se systémem). Na rozdíl od systémů, pro objekty je charakteristický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polymorfismus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– ale to se tady zatím nedá vysvětl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tomek redefinuje metodu DejZáz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ědění se definuje mezi objekty, tj. v principu se může vytvořit jedna instance děděním z jiné instance (vytvoří se klon předka a přidají se do něj nové atributy a metody) - v některých programovacích jazycích se to tak dá opravdu dělat (např. v javascript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čel nemusí být jednoduchý, protože systém může sloužit několika postavám (actors), které mají několik uživatelských rolí. Kolik je postav, nejméně tolik je dílčích účelů systé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body"/>
          </p:nvPr>
        </p:nvSpPr>
        <p:spPr>
          <a:xfrm>
            <a:off x="914400" y="4346280"/>
            <a:ext cx="502920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teré nástroje podporují zmíněné taktik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automatické generování testů ze specifik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macrorecorder (záznam a opakování činnosti operáto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watches v debugger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kontrolní výpisy hodnot proměnný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trasování (krokování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breakpoin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- kontrolní výpisy (message boxy, výstup na LED u jednočipáků apod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zor! strukturní testy nenajdou chyby způsobené tím, že program něco nedělá (neplní požadavek) – problém „kdo nic nedělá, nic nezkazí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Pozn.: strukturní test vyžaduje přístup k vnitřní struktuře modulu, což je do jisté míry v rozporu s principem zapouzdření (komponen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ldImg"/>
          </p:nvPr>
        </p:nvSpPr>
        <p:spPr>
          <a:xfrm>
            <a:off x="1292400" y="797040"/>
            <a:ext cx="4273200" cy="32050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CB24-604A-4B1A-AFCD-EA858452C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D2E2-CFE8-4B24-9DB3-8E935DFA8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5489-10FE-4DED-AAD3-8D69B463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18CD-0667-4BE1-8587-775307E96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828F-55E3-4965-BF37-861594B7C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2BB2-AE20-4274-8874-43438348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784E-26F5-485A-B002-3BD9F4DE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191C-F322-4D0F-8C60-8963C334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872-A1D4-4685-B9F6-32C843FEB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EB9F-C612-4FF2-857F-86325A32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76C-5457-45BB-9027-C4E8EF6F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E092-6C92-4E86-AE55-E3681DEA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D783-74E6-4611-A2A3-6FD63581DDF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ryanti@acm.org" TargetMode="External"/><Relationship Id="rId2" Type="http://schemas.openxmlformats.org/officeDocument/2006/relationships/hyperlink" Target="mailto:ryanti@acm.or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hyperlink" Target="mailto:ryanti@acm.org" TargetMode="External"/><Relationship Id="rId2" Type="http://schemas.openxmlformats.org/officeDocument/2006/relationships/hyperlink" Target="mailto:ryanti@acm.org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s://en.wikipedia.org/wiki/Agile_software_developmen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www.joelonsoftware.com/2000/08/09/the-joel-test-12-steps-to-better-code/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ml.org/" TargetMode="External"/><Relationship Id="rId2" Type="http://schemas.openxmlformats.org/officeDocument/2006/relationships/hyperlink" Target="http://www.wikipedia.org/" TargetMode="Externa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gramování 3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(projektování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371600" y="4572000"/>
            <a:ext cx="6400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 (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ilto:ryan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acm.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Plán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600200"/>
          <a:ext cx="6629400" cy="4549680"/>
        </p:xfrm>
        <a:graphic>
          <a:graphicData uri="http://schemas.openxmlformats.org/drawingml/2006/table">
            <a:tbl>
              <a:tblPr/>
              <a:tblGrid>
                <a:gridCol w="1300320"/>
                <a:gridCol w="531720"/>
                <a:gridCol w="533160"/>
                <a:gridCol w="532080"/>
                <a:gridCol w="534960"/>
                <a:gridCol w="531720"/>
                <a:gridCol w="533520"/>
                <a:gridCol w="531720"/>
                <a:gridCol w="534960"/>
                <a:gridCol w="530280"/>
                <a:gridCol w="534960"/>
              </a:tblGrid>
              <a:tr h="39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ýza požadavk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án prá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CD, analytick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ý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ram tří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. scénáře,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živ. příruč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vrh řešení, technická dok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ování,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kument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ován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., instalace</a:t>
                      </a:r>
                      <a:br>
                        <a:rPr sz="1200"/>
                      </a:b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l. příruč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238880" y="1600200"/>
          <a:ext cx="1447920" cy="3170160"/>
        </p:xfrm>
        <a:graphic>
          <a:graphicData uri="http://schemas.openxmlformats.org/drawingml/2006/table">
            <a:tbl>
              <a:tblPr/>
              <a:tblGrid>
                <a:gridCol w="1033560"/>
                <a:gridCol w="414360"/>
              </a:tblGrid>
              <a:tr h="56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sel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jí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skoč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rd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b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ytlač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Oval 172"/>
          <p:cNvSpPr/>
          <p:nvPr/>
        </p:nvSpPr>
        <p:spPr>
          <a:xfrm>
            <a:off x="8381880" y="182880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173"/>
          <p:cNvSpPr/>
          <p:nvPr/>
        </p:nvSpPr>
        <p:spPr>
          <a:xfrm>
            <a:off x="8381880" y="236232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74"/>
          <p:cNvSpPr/>
          <p:nvPr/>
        </p:nvSpPr>
        <p:spPr>
          <a:xfrm>
            <a:off x="8381880" y="289548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75"/>
          <p:cNvSpPr/>
          <p:nvPr/>
        </p:nvSpPr>
        <p:spPr>
          <a:xfrm>
            <a:off x="8381880" y="34290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76"/>
          <p:cNvSpPr/>
          <p:nvPr/>
        </p:nvSpPr>
        <p:spPr>
          <a:xfrm>
            <a:off x="8381880" y="39625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77"/>
          <p:cNvSpPr/>
          <p:nvPr/>
        </p:nvSpPr>
        <p:spPr>
          <a:xfrm>
            <a:off x="8381880" y="441972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204"/>
          <p:cNvSpPr/>
          <p:nvPr/>
        </p:nvSpPr>
        <p:spPr>
          <a:xfrm>
            <a:off x="2486160" y="271476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207"/>
          <p:cNvSpPr/>
          <p:nvPr/>
        </p:nvSpPr>
        <p:spPr>
          <a:xfrm>
            <a:off x="3019320" y="426708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210"/>
          <p:cNvSpPr/>
          <p:nvPr/>
        </p:nvSpPr>
        <p:spPr>
          <a:xfrm>
            <a:off x="2495520" y="32004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11"/>
          <p:cNvSpPr/>
          <p:nvPr/>
        </p:nvSpPr>
        <p:spPr>
          <a:xfrm>
            <a:off x="2362320" y="36385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212"/>
          <p:cNvSpPr/>
          <p:nvPr/>
        </p:nvSpPr>
        <p:spPr>
          <a:xfrm>
            <a:off x="2600280" y="362916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13"/>
          <p:cNvSpPr/>
          <p:nvPr/>
        </p:nvSpPr>
        <p:spPr>
          <a:xfrm>
            <a:off x="2362320" y="387684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214"/>
          <p:cNvSpPr/>
          <p:nvPr/>
        </p:nvSpPr>
        <p:spPr>
          <a:xfrm>
            <a:off x="2600280" y="387684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15"/>
          <p:cNvSpPr/>
          <p:nvPr/>
        </p:nvSpPr>
        <p:spPr>
          <a:xfrm>
            <a:off x="2886120" y="361944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16"/>
          <p:cNvSpPr/>
          <p:nvPr/>
        </p:nvSpPr>
        <p:spPr>
          <a:xfrm>
            <a:off x="3124080" y="361008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17"/>
          <p:cNvSpPr/>
          <p:nvPr/>
        </p:nvSpPr>
        <p:spPr>
          <a:xfrm>
            <a:off x="2886120" y="385776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218"/>
          <p:cNvSpPr/>
          <p:nvPr/>
        </p:nvSpPr>
        <p:spPr>
          <a:xfrm>
            <a:off x="3124080" y="385776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219"/>
          <p:cNvSpPr/>
          <p:nvPr/>
        </p:nvSpPr>
        <p:spPr>
          <a:xfrm>
            <a:off x="3000240" y="37530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220"/>
          <p:cNvSpPr/>
          <p:nvPr/>
        </p:nvSpPr>
        <p:spPr>
          <a:xfrm>
            <a:off x="3505320" y="426708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21"/>
          <p:cNvSpPr/>
          <p:nvPr/>
        </p:nvSpPr>
        <p:spPr>
          <a:xfrm>
            <a:off x="3676680" y="463860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2"/>
          <p:cNvSpPr/>
          <p:nvPr/>
        </p:nvSpPr>
        <p:spPr>
          <a:xfrm>
            <a:off x="3438360" y="488628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3"/>
          <p:cNvSpPr/>
          <p:nvPr/>
        </p:nvSpPr>
        <p:spPr>
          <a:xfrm>
            <a:off x="3676680" y="48862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224"/>
          <p:cNvSpPr/>
          <p:nvPr/>
        </p:nvSpPr>
        <p:spPr>
          <a:xfrm>
            <a:off x="3438360" y="46483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25"/>
          <p:cNvSpPr/>
          <p:nvPr/>
        </p:nvSpPr>
        <p:spPr>
          <a:xfrm>
            <a:off x="3971880" y="4686480"/>
            <a:ext cx="123840" cy="1234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231"/>
          <p:cNvSpPr/>
          <p:nvPr/>
        </p:nvSpPr>
        <p:spPr>
          <a:xfrm>
            <a:off x="4734000" y="464832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32"/>
          <p:cNvSpPr/>
          <p:nvPr/>
        </p:nvSpPr>
        <p:spPr>
          <a:xfrm>
            <a:off x="4495680" y="489600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233"/>
          <p:cNvSpPr/>
          <p:nvPr/>
        </p:nvSpPr>
        <p:spPr>
          <a:xfrm>
            <a:off x="4734000" y="489600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234"/>
          <p:cNvSpPr/>
          <p:nvPr/>
        </p:nvSpPr>
        <p:spPr>
          <a:xfrm>
            <a:off x="4486320" y="46674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35"/>
          <p:cNvSpPr/>
          <p:nvPr/>
        </p:nvSpPr>
        <p:spPr>
          <a:xfrm>
            <a:off x="5057640" y="469584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40"/>
          <p:cNvSpPr/>
          <p:nvPr/>
        </p:nvSpPr>
        <p:spPr>
          <a:xfrm>
            <a:off x="5553000" y="461016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1"/>
          <p:cNvSpPr/>
          <p:nvPr/>
        </p:nvSpPr>
        <p:spPr>
          <a:xfrm>
            <a:off x="5800680" y="461952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242"/>
          <p:cNvSpPr/>
          <p:nvPr/>
        </p:nvSpPr>
        <p:spPr>
          <a:xfrm>
            <a:off x="5572080" y="493380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243"/>
          <p:cNvSpPr/>
          <p:nvPr/>
        </p:nvSpPr>
        <p:spPr>
          <a:xfrm>
            <a:off x="5810400" y="494352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244"/>
          <p:cNvSpPr/>
          <p:nvPr/>
        </p:nvSpPr>
        <p:spPr>
          <a:xfrm>
            <a:off x="5553000" y="477216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50"/>
          <p:cNvSpPr/>
          <p:nvPr/>
        </p:nvSpPr>
        <p:spPr>
          <a:xfrm>
            <a:off x="6105600" y="51721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52"/>
          <p:cNvSpPr/>
          <p:nvPr/>
        </p:nvSpPr>
        <p:spPr>
          <a:xfrm>
            <a:off x="6105600" y="541008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253"/>
          <p:cNvSpPr/>
          <p:nvPr/>
        </p:nvSpPr>
        <p:spPr>
          <a:xfrm>
            <a:off x="6343560" y="54100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54"/>
          <p:cNvSpPr/>
          <p:nvPr/>
        </p:nvSpPr>
        <p:spPr>
          <a:xfrm>
            <a:off x="6219720" y="53053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61"/>
          <p:cNvSpPr/>
          <p:nvPr/>
        </p:nvSpPr>
        <p:spPr>
          <a:xfrm>
            <a:off x="5038560" y="520056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62"/>
          <p:cNvSpPr/>
          <p:nvPr/>
        </p:nvSpPr>
        <p:spPr>
          <a:xfrm>
            <a:off x="5057640" y="543888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63"/>
          <p:cNvSpPr/>
          <p:nvPr/>
        </p:nvSpPr>
        <p:spPr>
          <a:xfrm>
            <a:off x="5276880" y="542916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264"/>
          <p:cNvSpPr/>
          <p:nvPr/>
        </p:nvSpPr>
        <p:spPr>
          <a:xfrm>
            <a:off x="5267160" y="521028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265"/>
          <p:cNvSpPr/>
          <p:nvPr/>
        </p:nvSpPr>
        <p:spPr>
          <a:xfrm>
            <a:off x="4514760" y="521028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70"/>
          <p:cNvSpPr/>
          <p:nvPr/>
        </p:nvSpPr>
        <p:spPr>
          <a:xfrm>
            <a:off x="6620040" y="567684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71"/>
          <p:cNvSpPr/>
          <p:nvPr/>
        </p:nvSpPr>
        <p:spPr>
          <a:xfrm>
            <a:off x="6858000" y="566748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72"/>
          <p:cNvSpPr/>
          <p:nvPr/>
        </p:nvSpPr>
        <p:spPr>
          <a:xfrm>
            <a:off x="6620040" y="591516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73"/>
          <p:cNvSpPr/>
          <p:nvPr/>
        </p:nvSpPr>
        <p:spPr>
          <a:xfrm>
            <a:off x="6858000" y="591516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274"/>
          <p:cNvSpPr/>
          <p:nvPr/>
        </p:nvSpPr>
        <p:spPr>
          <a:xfrm>
            <a:off x="6734160" y="58104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275"/>
          <p:cNvSpPr/>
          <p:nvPr/>
        </p:nvSpPr>
        <p:spPr>
          <a:xfrm>
            <a:off x="6229440" y="581976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276"/>
          <p:cNvSpPr/>
          <p:nvPr/>
        </p:nvSpPr>
        <p:spPr>
          <a:xfrm>
            <a:off x="4219560" y="515304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277"/>
          <p:cNvSpPr/>
          <p:nvPr/>
        </p:nvSpPr>
        <p:spPr>
          <a:xfrm>
            <a:off x="3981600" y="54007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278"/>
          <p:cNvSpPr/>
          <p:nvPr/>
        </p:nvSpPr>
        <p:spPr>
          <a:xfrm>
            <a:off x="4219560" y="540072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279"/>
          <p:cNvSpPr/>
          <p:nvPr/>
        </p:nvSpPr>
        <p:spPr>
          <a:xfrm>
            <a:off x="3981600" y="516240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80"/>
          <p:cNvSpPr/>
          <p:nvPr/>
        </p:nvSpPr>
        <p:spPr>
          <a:xfrm>
            <a:off x="4133880" y="48672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81"/>
          <p:cNvSpPr/>
          <p:nvPr/>
        </p:nvSpPr>
        <p:spPr>
          <a:xfrm>
            <a:off x="5219640" y="48672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82"/>
          <p:cNvSpPr/>
          <p:nvPr/>
        </p:nvSpPr>
        <p:spPr>
          <a:xfrm>
            <a:off x="6334200" y="516240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83"/>
          <p:cNvSpPr/>
          <p:nvPr/>
        </p:nvSpPr>
        <p:spPr>
          <a:xfrm>
            <a:off x="5791320" y="478152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84"/>
          <p:cNvSpPr/>
          <p:nvPr/>
        </p:nvSpPr>
        <p:spPr>
          <a:xfrm>
            <a:off x="4686480" y="5391000"/>
            <a:ext cx="12348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90"/>
          <p:cNvSpPr/>
          <p:nvPr/>
        </p:nvSpPr>
        <p:spPr>
          <a:xfrm>
            <a:off x="1819440" y="20383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91"/>
          <p:cNvSpPr/>
          <p:nvPr/>
        </p:nvSpPr>
        <p:spPr>
          <a:xfrm>
            <a:off x="2066760" y="204804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92"/>
          <p:cNvSpPr/>
          <p:nvPr/>
        </p:nvSpPr>
        <p:spPr>
          <a:xfrm>
            <a:off x="1838160" y="23623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93"/>
          <p:cNvSpPr/>
          <p:nvPr/>
        </p:nvSpPr>
        <p:spPr>
          <a:xfrm>
            <a:off x="2076480" y="23716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94"/>
          <p:cNvSpPr/>
          <p:nvPr/>
        </p:nvSpPr>
        <p:spPr>
          <a:xfrm>
            <a:off x="1819440" y="22003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95"/>
          <p:cNvSpPr/>
          <p:nvPr/>
        </p:nvSpPr>
        <p:spPr>
          <a:xfrm>
            <a:off x="2057400" y="220968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96"/>
          <p:cNvSpPr/>
          <p:nvPr/>
        </p:nvSpPr>
        <p:spPr>
          <a:xfrm>
            <a:off x="1828800" y="2562120"/>
            <a:ext cx="123840" cy="123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7"/>
          <p:cNvSpPr/>
          <p:nvPr/>
        </p:nvSpPr>
        <p:spPr>
          <a:xfrm>
            <a:off x="2076480" y="2571840"/>
            <a:ext cx="123840" cy="1238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298"/>
          <p:cNvSpPr/>
          <p:nvPr/>
        </p:nvSpPr>
        <p:spPr>
          <a:xfrm>
            <a:off x="1847880" y="2886120"/>
            <a:ext cx="123840" cy="123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299"/>
          <p:cNvSpPr/>
          <p:nvPr/>
        </p:nvSpPr>
        <p:spPr>
          <a:xfrm>
            <a:off x="2085840" y="2895480"/>
            <a:ext cx="123840" cy="1238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00"/>
          <p:cNvSpPr/>
          <p:nvPr/>
        </p:nvSpPr>
        <p:spPr>
          <a:xfrm>
            <a:off x="1828800" y="2724120"/>
            <a:ext cx="123840" cy="123840"/>
          </a:xfrm>
          <a:prstGeom prst="ellipse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01"/>
          <p:cNvSpPr/>
          <p:nvPr/>
        </p:nvSpPr>
        <p:spPr>
          <a:xfrm>
            <a:off x="2066760" y="2733840"/>
            <a:ext cx="123840" cy="123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685800" y="1650960"/>
            <a:ext cx="7772400" cy="474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hora do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čí jediný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stovací scéná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loha je zdánlivě brzy skoro hot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cné psaní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ocedur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(testov. příru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louhavé dokonč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ola naho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stovací příruby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píší jen pro rozpojené zpětné vazby v zacyklených modul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estovací scénáře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ze generovat automat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one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van Ryant (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ailto:ryanti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acm.org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006–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ational Unified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ITERMODEL"/>
          <p:cNvPicPr/>
          <p:nvPr/>
        </p:nvPicPr>
        <p:blipFill>
          <a:blip r:embed="rId1"/>
          <a:stretch/>
        </p:blipFill>
        <p:spPr>
          <a:xfrm>
            <a:off x="762120" y="1828800"/>
            <a:ext cx="76723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Ohnutá šipka 28"/>
          <p:cNvGrpSpPr/>
          <p:nvPr/>
        </p:nvGrpSpPr>
        <p:grpSpPr>
          <a:xfrm>
            <a:off x="1725480" y="2193840"/>
            <a:ext cx="2078280" cy="1573200"/>
            <a:chOff x="1725480" y="2193840"/>
            <a:chExt cx="2078280" cy="1573200"/>
          </a:xfrm>
        </p:grpSpPr>
        <p:pic>
          <p:nvPicPr>
            <p:cNvPr id="159" name="Ohnutá šipka 28" descr=""/>
            <p:cNvPicPr/>
            <p:nvPr/>
          </p:nvPicPr>
          <p:blipFill>
            <a:blip r:embed="rId1"/>
            <a:stretch/>
          </p:blipFill>
          <p:spPr>
            <a:xfrm>
              <a:off x="1725480" y="2193840"/>
              <a:ext cx="207828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rot="5400000">
              <a:off x="2032560" y="1967760"/>
              <a:ext cx="1463400" cy="19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ovéPole 4"/>
          <p:cNvSpPr/>
          <p:nvPr/>
        </p:nvSpPr>
        <p:spPr>
          <a:xfrm>
            <a:off x="677880" y="2133720"/>
            <a:ext cx="1092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ovéPole 5"/>
          <p:cNvSpPr/>
          <p:nvPr/>
        </p:nvSpPr>
        <p:spPr>
          <a:xfrm>
            <a:off x="2766960" y="3701880"/>
            <a:ext cx="1306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ovéPole 6"/>
          <p:cNvSpPr/>
          <p:nvPr/>
        </p:nvSpPr>
        <p:spPr>
          <a:xfrm>
            <a:off x="693000" y="3686040"/>
            <a:ext cx="110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Ohnutá šipka 14"/>
          <p:cNvGrpSpPr/>
          <p:nvPr/>
        </p:nvGrpSpPr>
        <p:grpSpPr>
          <a:xfrm>
            <a:off x="2901960" y="4071960"/>
            <a:ext cx="847800" cy="1433520"/>
            <a:chOff x="2901960" y="4071960"/>
            <a:chExt cx="847800" cy="1433520"/>
          </a:xfrm>
        </p:grpSpPr>
        <p:pic>
          <p:nvPicPr>
            <p:cNvPr id="165" name="Ohnutá šipka 14" descr=""/>
            <p:cNvPicPr/>
            <p:nvPr/>
          </p:nvPicPr>
          <p:blipFill>
            <a:blip r:embed="rId2"/>
            <a:stretch/>
          </p:blipFill>
          <p:spPr>
            <a:xfrm>
              <a:off x="2901960" y="4071960"/>
              <a:ext cx="847800" cy="14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rot="10800000">
              <a:off x="2957400" y="4102200"/>
              <a:ext cx="736560" cy="13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ational Unified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Ohnutá šipka 26"/>
          <p:cNvGrpSpPr/>
          <p:nvPr/>
        </p:nvGrpSpPr>
        <p:grpSpPr>
          <a:xfrm>
            <a:off x="938160" y="4022640"/>
            <a:ext cx="622440" cy="1397160"/>
            <a:chOff x="938160" y="4022640"/>
            <a:chExt cx="622440" cy="1397160"/>
          </a:xfrm>
        </p:grpSpPr>
        <p:pic>
          <p:nvPicPr>
            <p:cNvPr id="169" name="Ohnutá šipka 26" descr=""/>
            <p:cNvPicPr/>
            <p:nvPr/>
          </p:nvPicPr>
          <p:blipFill>
            <a:blip r:embed="rId3"/>
            <a:stretch/>
          </p:blipFill>
          <p:spPr>
            <a:xfrm>
              <a:off x="938160" y="4022640"/>
              <a:ext cx="62244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 rot="16200000">
              <a:off x="606240" y="4441680"/>
              <a:ext cx="1287360" cy="51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Ohnutá šipka 27"/>
          <p:cNvSpPr/>
          <p:nvPr/>
        </p:nvSpPr>
        <p:spPr>
          <a:xfrm>
            <a:off x="1060560" y="2665440"/>
            <a:ext cx="3359160" cy="1020600"/>
          </a:xfrm>
          <a:custGeom>
            <a:avLst/>
            <a:gdLst/>
            <a:ahLst/>
            <a:rect l="l" t="t" r="r" b="b"/>
            <a:pathLst>
              <a:path w="3359009" h="1020376">
                <a:moveTo>
                  <a:pt x="0" y="1020376"/>
                </a:moveTo>
                <a:lnTo>
                  <a:pt x="0" y="979637"/>
                </a:lnTo>
                <a:cubicBezTo>
                  <a:pt x="0" y="496538"/>
                  <a:pt x="391629" y="104909"/>
                  <a:pt x="874728" y="104909"/>
                </a:cubicBezTo>
                <a:lnTo>
                  <a:pt x="3103915" y="104910"/>
                </a:lnTo>
                <a:lnTo>
                  <a:pt x="3103915" y="0"/>
                </a:lnTo>
                <a:lnTo>
                  <a:pt x="3359009" y="214350"/>
                </a:lnTo>
                <a:lnTo>
                  <a:pt x="3103915" y="428701"/>
                </a:lnTo>
                <a:lnTo>
                  <a:pt x="3103915" y="323791"/>
                </a:lnTo>
                <a:lnTo>
                  <a:pt x="874728" y="323791"/>
                </a:lnTo>
                <a:cubicBezTo>
                  <a:pt x="512514" y="323791"/>
                  <a:pt x="218881" y="617424"/>
                  <a:pt x="218881" y="979638"/>
                </a:cubicBezTo>
                <a:lnTo>
                  <a:pt x="218881" y="1020376"/>
                </a:lnTo>
                <a:lnTo>
                  <a:pt x="0" y="1020376"/>
                </a:lnTo>
                <a:close/>
              </a:path>
            </a:pathLst>
          </a:cu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ovéPole 7"/>
          <p:cNvSpPr/>
          <p:nvPr/>
        </p:nvSpPr>
        <p:spPr>
          <a:xfrm>
            <a:off x="1517040" y="5083200"/>
            <a:ext cx="1410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hnutá šipka 29"/>
          <p:cNvSpPr/>
          <p:nvPr/>
        </p:nvSpPr>
        <p:spPr>
          <a:xfrm rot="5400000">
            <a:off x="5799240" y="2545560"/>
            <a:ext cx="1463760" cy="1973160"/>
          </a:xfrm>
          <a:custGeom>
            <a:avLst/>
            <a:gdLst/>
            <a:ahLst/>
            <a:rect l="l" t="t" r="r" b="b"/>
            <a:pathLst>
              <a:path w="1463881" h="1973060">
                <a:moveTo>
                  <a:pt x="0" y="1973060"/>
                </a:moveTo>
                <a:lnTo>
                  <a:pt x="0" y="1090496"/>
                </a:lnTo>
                <a:cubicBezTo>
                  <a:pt x="0" y="546785"/>
                  <a:pt x="440764" y="106021"/>
                  <a:pt x="984475" y="106021"/>
                </a:cubicBezTo>
                <a:lnTo>
                  <a:pt x="1197499" y="106022"/>
                </a:lnTo>
                <a:lnTo>
                  <a:pt x="1197499" y="0"/>
                </a:lnTo>
                <a:lnTo>
                  <a:pt x="1463881" y="202996"/>
                </a:lnTo>
                <a:lnTo>
                  <a:pt x="1197499" y="405993"/>
                </a:lnTo>
                <a:lnTo>
                  <a:pt x="1197499" y="299971"/>
                </a:lnTo>
                <a:lnTo>
                  <a:pt x="984475" y="299971"/>
                </a:lnTo>
                <a:cubicBezTo>
                  <a:pt x="547880" y="299971"/>
                  <a:pt x="193950" y="653901"/>
                  <a:pt x="193950" y="1090496"/>
                </a:cubicBezTo>
                <a:lnTo>
                  <a:pt x="193950" y="1973060"/>
                </a:lnTo>
                <a:lnTo>
                  <a:pt x="0" y="1973060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08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ovéPole 4"/>
          <p:cNvSpPr/>
          <p:nvPr/>
        </p:nvSpPr>
        <p:spPr>
          <a:xfrm>
            <a:off x="4444920" y="2711520"/>
            <a:ext cx="1092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ovéPole 5"/>
          <p:cNvSpPr/>
          <p:nvPr/>
        </p:nvSpPr>
        <p:spPr>
          <a:xfrm>
            <a:off x="6534000" y="4278240"/>
            <a:ext cx="13068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ab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ovéPole 6"/>
          <p:cNvSpPr/>
          <p:nvPr/>
        </p:nvSpPr>
        <p:spPr>
          <a:xfrm>
            <a:off x="4460400" y="4264200"/>
            <a:ext cx="11059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an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hnutá šipka 33"/>
          <p:cNvSpPr/>
          <p:nvPr/>
        </p:nvSpPr>
        <p:spPr>
          <a:xfrm rot="10800000">
            <a:off x="6724800" y="4680000"/>
            <a:ext cx="736560" cy="1325520"/>
          </a:xfrm>
          <a:custGeom>
            <a:avLst/>
            <a:gdLst/>
            <a:ahLst/>
            <a:rect l="l" t="t" r="r" b="b"/>
            <a:pathLst>
              <a:path w="736600" h="1325563">
                <a:moveTo>
                  <a:pt x="0" y="1325563"/>
                </a:moveTo>
                <a:lnTo>
                  <a:pt x="0" y="613514"/>
                </a:lnTo>
                <a:cubicBezTo>
                  <a:pt x="0" y="325531"/>
                  <a:pt x="233456" y="92075"/>
                  <a:pt x="521439" y="92075"/>
                </a:cubicBezTo>
                <a:lnTo>
                  <a:pt x="552450" y="92075"/>
                </a:lnTo>
                <a:lnTo>
                  <a:pt x="552450" y="0"/>
                </a:lnTo>
                <a:lnTo>
                  <a:pt x="736600" y="184150"/>
                </a:lnTo>
                <a:lnTo>
                  <a:pt x="552450" y="368300"/>
                </a:lnTo>
                <a:lnTo>
                  <a:pt x="552450" y="276225"/>
                </a:lnTo>
                <a:lnTo>
                  <a:pt x="521439" y="276225"/>
                </a:lnTo>
                <a:cubicBezTo>
                  <a:pt x="335159" y="276225"/>
                  <a:pt x="184150" y="427234"/>
                  <a:pt x="184150" y="613514"/>
                </a:cubicBezTo>
                <a:lnTo>
                  <a:pt x="184150" y="1325563"/>
                </a:lnTo>
                <a:lnTo>
                  <a:pt x="0" y="1325563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540000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hnutá šipka 34"/>
          <p:cNvSpPr/>
          <p:nvPr/>
        </p:nvSpPr>
        <p:spPr>
          <a:xfrm rot="16200000">
            <a:off x="4374360" y="5018760"/>
            <a:ext cx="1285920" cy="516240"/>
          </a:xfrm>
          <a:custGeom>
            <a:avLst/>
            <a:gdLst/>
            <a:ahLst/>
            <a:rect l="l" t="t" r="r" b="b"/>
            <a:pathLst>
              <a:path w="1287049" h="515948">
                <a:moveTo>
                  <a:pt x="0" y="515948"/>
                </a:moveTo>
                <a:lnTo>
                  <a:pt x="0" y="515948"/>
                </a:lnTo>
                <a:cubicBezTo>
                  <a:pt x="0" y="274863"/>
                  <a:pt x="195438" y="79425"/>
                  <a:pt x="436523" y="79425"/>
                </a:cubicBezTo>
                <a:lnTo>
                  <a:pt x="1158062" y="79425"/>
                </a:lnTo>
                <a:lnTo>
                  <a:pt x="1158062" y="0"/>
                </a:lnTo>
                <a:lnTo>
                  <a:pt x="1287049" y="169726"/>
                </a:lnTo>
                <a:lnTo>
                  <a:pt x="1158062" y="339453"/>
                </a:lnTo>
                <a:lnTo>
                  <a:pt x="1158062" y="260027"/>
                </a:lnTo>
                <a:lnTo>
                  <a:pt x="436523" y="260027"/>
                </a:lnTo>
                <a:cubicBezTo>
                  <a:pt x="295182" y="260027"/>
                  <a:pt x="180602" y="374607"/>
                  <a:pt x="180602" y="515948"/>
                </a:cubicBezTo>
                <a:lnTo>
                  <a:pt x="180602" y="515948"/>
                </a:lnTo>
                <a:lnTo>
                  <a:pt x="0" y="515948"/>
                </a:lnTo>
                <a:close/>
              </a:path>
            </a:pathLst>
          </a:cu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0"/>
          </a:gradFill>
          <a:ln w="9360">
            <a:solidFill>
              <a:srgbClr val="2f2f98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Ohnutá šipka 35"/>
          <p:cNvGrpSpPr/>
          <p:nvPr/>
        </p:nvGrpSpPr>
        <p:grpSpPr>
          <a:xfrm>
            <a:off x="4468680" y="3230640"/>
            <a:ext cx="4187880" cy="1353960"/>
            <a:chOff x="4468680" y="3230640"/>
            <a:chExt cx="4187880" cy="1353960"/>
          </a:xfrm>
        </p:grpSpPr>
        <p:pic>
          <p:nvPicPr>
            <p:cNvPr id="180" name="Ohnutá šipka 35" descr=""/>
            <p:cNvPicPr/>
            <p:nvPr/>
          </p:nvPicPr>
          <p:blipFill>
            <a:blip r:embed="rId4"/>
            <a:stretch/>
          </p:blipFill>
          <p:spPr>
            <a:xfrm>
              <a:off x="4468680" y="3230640"/>
              <a:ext cx="418788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827600" y="3243240"/>
              <a:ext cx="381636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ovéPole 7"/>
          <p:cNvSpPr/>
          <p:nvPr/>
        </p:nvSpPr>
        <p:spPr>
          <a:xfrm>
            <a:off x="5284440" y="5661000"/>
            <a:ext cx="14104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ovéPole 2"/>
          <p:cNvSpPr/>
          <p:nvPr/>
        </p:nvSpPr>
        <p:spPr>
          <a:xfrm>
            <a:off x="1692720" y="62485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 ite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ovéPole 37"/>
          <p:cNvSpPr/>
          <p:nvPr/>
        </p:nvSpPr>
        <p:spPr>
          <a:xfrm>
            <a:off x="5429880" y="624852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 ite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ástroje a procesy jsou důležité,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kompetentní lidé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efektivní spolu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jsou důležitějš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Dobrá dokumentace je užitečná, ale cílem j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vytvořit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a ne dokument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mlouva se zákazníkem je důležitá,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úzkou spolupráci se zadavatelem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odhalení jeho skutečných potře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nemůže nahrad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45720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lán projektu je důležitý, 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b050"/>
                </a:solidFill>
                <a:latin typeface="Arial"/>
              </a:rPr>
              <a:t>změnám založeným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změnách technologie nebo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prioritách zadavat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05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chápání problému a jeho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2060"/>
                </a:solidFill>
                <a:latin typeface="Arial"/>
              </a:rPr>
              <a:t>nesmí brán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ř.: </a:t>
            </a: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Agilní meto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ovéPole 4"/>
          <p:cNvSpPr/>
          <p:nvPr/>
        </p:nvSpPr>
        <p:spPr>
          <a:xfrm>
            <a:off x="645480" y="6172200"/>
            <a:ext cx="639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en.wikipedia.org/wiki/Agile_software_development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člen si povede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projektový deníč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 projektu, kterého se účastní (nejlépe elektronicky)</a:t>
            </a:r>
            <a:br>
              <a:rPr sz="2000"/>
            </a:b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 – to je základ pro individuální hodnocení (znám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Dokumentace správy každého projektu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lán prací a průběžné plnění plán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Technická dokumentac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stručně, stačí heslovit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Uživatelská dokumenta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může být součástí řešení – návody přímo ve formulářích nebo ve webových stránká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Řešení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aby se dalo předvé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louží k orientačnímu hodnocení kvality softwarového týmu (použito např. ve studii ISMS od Deloitt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ěžně si jím vývojáři testují zaměstnava-tele při přijímacím pohovo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 je starý a některé otázky je vhodné aktualizovat. Nicméně se stále překvapivě dobře osvědč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oužíváte verzovací úložiště na zdrojové program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stavíte spustitelný program v jednom krok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estavujete denně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databázi chyb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pravujete známé chyby před psaním nového kód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aktuální plán prá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zadání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ají programátoři klid na prác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nejlepší nástroje, které se dají koup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áte tester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íší uchazeči o práci kód během pohovor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ěláte namátkové testy použitelnosti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ovéPole 1"/>
          <p:cNvSpPr/>
          <p:nvPr/>
        </p:nvSpPr>
        <p:spPr>
          <a:xfrm>
            <a:off x="646200" y="6343560"/>
            <a:ext cx="785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0" lang="cs-CZ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joelonsoftware.com/2000/08/09/the-joel-test-12-steps-to-better-code/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ě orientované program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é model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met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ynamické datové strukt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kace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labení spřaže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jim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lymorfismus, podtřídy a podtypy, interfej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vrhové vz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rategie návrh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oužíváte verzovací úložiště na zdrojové program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jen na zdrojové programy, ale na všechny dokumen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estavíte spustitelný program v jednom krok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estavujete denně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nes spíš „continuous integration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ykoli během 10 minut přeloží, sestaví a připraví ke spuštění celý systém v aktuální verz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databázi chy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ug-tracking system, tick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JIRA (stejný systém, jaký používáme jako helpde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pravujete známé chyby před psaním nového kód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aktuální plán prá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ále pla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áte zadán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bré zadání je obsahem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uživatelské příruč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ALE zkuste si říct zadavateli, ať vám napřed napíše příručku, že mu podle ní naprogramujete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agilních metodách se běžně se používají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user s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 jednotlivé funkční požadav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ebo pro způsoby užití (use cas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deálním zadáním pro programátora je 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baterie tes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jakmile software projde, je hotovo (TDD – test driven develop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některých agilních metodikách se prototypuje (</a:t>
            </a:r>
            <a:r>
              <a:rPr b="1" lang="cs-CZ" sz="1800" spc="-1" strike="noStrike">
                <a:solidFill>
                  <a:srgbClr val="7030a0"/>
                </a:solidFill>
                <a:latin typeface="Arial"/>
              </a:rPr>
              <a:t>rapid prototypi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 prototypů vzniká zadání průběžně a zároveň co se dá, to se převezme do řeše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apř.: zadavatel chce webovou + db aplikaci,</a:t>
            </a:r>
            <a:br>
              <a:rPr sz="1100"/>
            </a:b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ale napřed vytvoří po kouskách nanečisto prototypy v Accessu nebo Excel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70c0"/>
                </a:solidFill>
                <a:latin typeface="Arial"/>
              </a:rPr>
              <a:t>Zadavatelé jsou členy vývojového týmu a normálně se účastní společné prá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ají programátoři klid na prác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e vůbec o pracovní prostředí (aby nesvítilo sluníčko do obrazovky, aby se dalo pracovat soustředěně, aby pořád někdo nevyrušov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acovní doba (např. možnost práce v noci nebo o víkendech, z domova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 intenzivní práci dlouhý a kvalitní odpočinek (po splnění úkolu volno podle potřeby zaměstnanc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aměstnavatel zajistí školku, lékaře, autoservis, rehabilitaci (masáže)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stávky podle potřeby (ping-pong spíš než nekonečné hovory u kaf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čerstvení (káva, čaj, studené nápoje, ovoce, bagety, pizza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nejlepší nástroje, které se dají koup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ále pla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Máte teste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 agilních metodikách se vývoj řídí testováním; tj. programátor napřed programuje testy a s jejich pomocí pak postupně vytváří program, který skrz testy projde. Jakmile projde, je zadání splně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é testy systému dělá průběžně zadavatel (např. podle příručky, nebo automatizovaně, když je to možné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Zvláštní osoby pro roli testerů nejsou potřeba, role ovšem zůstává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íší uchazeči o práci kód během pohovor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 každý vývojář píše kód, někdo třeba kreslí diagra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Každý by měl předvést praktickou ukázku, jak se dokáže postavit k řešení úkolu typického pro svoji roli v tým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ěláte namátkové testy použitelno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de o uživatelské testy s pomocí náhodně oslovených osob, které se neúčastní vývo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70c0"/>
                </a:solidFill>
                <a:latin typeface="Arial"/>
              </a:rPr>
              <a:t>Užitečné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3600" spc="-1" strike="noStrike">
                <a:solidFill>
                  <a:srgbClr val="000000"/>
                </a:solidFill>
                <a:latin typeface="Arial"/>
              </a:rPr>
              <a:t>Joelův t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působ prá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áce v učeb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ád učeb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ygiena a ergonomie při prá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da opřít v kříži, opřít lokty (výška židle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loha monitoru vzhledem k ok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kládání souborů a přístup k souborů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de jsou uložené prezentace, cvičení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m se ukládají projekty v Pascalu a jiné soub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ová dokumentace (tj. řešení a správa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Arial"/>
              </a:rPr>
              <a:t>Úč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ý problém řeší a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pro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komu k čemu slouží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Arial"/>
              </a:rPr>
              <a:t>Požadavk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znam požadavků a omezení –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má řeš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70c0"/>
                </a:solidFill>
                <a:latin typeface="Arial"/>
              </a:rPr>
              <a:t>Konceptuální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ubý návrh řešení (v pojmech problému) –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j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e má vyřeš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lán prá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řazení prostředků (lidi, čas) k činno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krétní návrh řeš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stovací scénáře, výsledky testování (příp. protoko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živatelská příručka (návod k použití, nápově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ferenční příručka (kontextová nápově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amostatný dokument (příruč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ápově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světlující texty ve webových stránkách, popisky formulářových prvků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e každému tématu v příručce nebo v nápovědě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žadavky a omez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od k použití, pracovní po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y typického použi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l (proč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učně slovy (stačí 1 vě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ML diagram způsobů užití (use case dg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žadavky a omezení (co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scénáře typického žádoucího a nežádoucího chování, sekvenční diagram U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pis řešení (jak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del systému (objektový diagram U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savadní zkušenosti, diskuse nedostatků ap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záhlaví každé kompilační jednotky, modulu, zdrojového soub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el,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tručný popis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ovládání sériového port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historie změn počínaje vytvoření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400" spc="-1" strike="noStrike">
                <a:solidFill>
                  <a:srgbClr val="000000"/>
                </a:solidFill>
                <a:latin typeface="Arial"/>
              </a:rPr>
              <a:t>(IR 080410 nově vytvořen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jméno autora (např. Jan Novák nebo zkratkou, např. Ja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atum (např. 30.12.2007 nebo 0712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pis úpravy (např. „vytvořeno“, „přidána nová metoda X“ a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v záhlaví každé kompilační jednotky, modulu, zdrojového sou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el (proč? komu je určena? k čemu slouží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žadavky a omezení (včetně invariantních podmínek, specifikace a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v záhlaví každé kompilační jednotky, modulu, zdrojového soub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účel, komu k čemu slouží?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zamění obsah dvou proměnný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pis parametrů a výsledk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x, y – proměnné, nikoli hodnot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pecifikace / kontrakt (precondition, frame condition, postcondi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tručný popis implementace, není-li zřejmý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využívá součty a rozdíly, nepotřebuje pomocnou proměnno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íklad použití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Swap(x,y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oku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entáře ve zdrojových textech programů</a:t>
            </a: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vence jak komentov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v záhlaví každé kompilační jednotky, modulu, zdrojového soubor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tří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8080"/>
                </a:solidFill>
                <a:latin typeface="Arial"/>
              </a:rPr>
              <a:t>před každou deklarací veřejné metody, procedury nebo funk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deklarace konstanty, typu nebo proměn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aspoň stručně účel, příp. omeze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jektový deníč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úkol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příp. také individuální </a:t>
            </a: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plán prá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hronologické zázn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pokro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 plnění úkolu (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CO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sem se naučil, vyzkoušel, uděl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hodnoce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ovedlo se / nepovedlo se a proč, úskalí, zkušenosti aj. poznám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klady objektového přístup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přehled principů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ERUNKA, Vojtěch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Objektové modelování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raha: Alfa Nakladatelství, 2008. ISBN 978-80-87197-04-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JACOBSON, Ivar; CHRISTERSON, Magnus; JONSSON, Patrik; ÖVERGAARD, Gunnar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Object-Oriented Software Engineering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Wokingham: ACM Pres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amp;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Addison-Wesley, 1992. ISBN 978-0-201-54435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Unified Modeling Languag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uml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Wikipedia.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n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 Dostup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wikipedia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ový přís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efektivnímu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 j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problé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 musí někomu va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, komu problém v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ažuje současný stav za problémový, protož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vede si představit jiný, lepší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e nedovede současný stav změnit na ten lepš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k má v zimě hlad jako vlk a je mu zima, ale tak je to přirozené a on si neumí představit nic lepší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dyž v zimě vyženete psa na mráz a nedáte mu nažrat, pes bude mít probl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ový příst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uží k účinnému (efektivnímu)</a:t>
            </a:r>
            <a:br>
              <a:rPr sz="2800"/>
            </a:b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řešení problé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 zkoumáme </a:t>
            </a: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v souvisloste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 považujeme za součást větší soustavy – </a:t>
            </a: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problémové situ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žitý, obtížně zvládnutelný problém </a:t>
            </a:r>
            <a:r>
              <a:rPr b="0" i="1" lang="cs-CZ" sz="2800" spc="-1" strike="noStrike">
                <a:solidFill>
                  <a:srgbClr val="a50021"/>
                </a:solidFill>
                <a:latin typeface="Arial"/>
              </a:rPr>
              <a:t>člením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a problémy menší, snáze zvládnutel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m případem systémového přístupu je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přístup objektov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lově vymezený smysluplný c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ecně vzato má smysl a konkrétněji pak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úč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svou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totož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liší se od jiných vě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e svou totožností vzniká a zani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ky vymezení pak rozlišíme je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nitř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ra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venek se projevuje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chová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j. komunikací a součinností (interakcí)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s prostřed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 vnitřní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struk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oučásti (tj. subsystémy a prv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azby, které umožňují součinnost (interakci) součá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vnitřně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proměnliv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přecházet ze stavu do stavu, i struktura se může mě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7018920" y="1828800"/>
            <a:ext cx="662400" cy="368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n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5723280" y="3276720"/>
            <a:ext cx="1031040" cy="642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zna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ě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7558560" y="3276720"/>
            <a:ext cx="1374120" cy="642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mysl, účel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visl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2" name="AutoShape 7"/>
          <p:cNvCxnSpPr>
            <a:stCxn id="250" idx="0"/>
            <a:endCxn id="249" idx="1"/>
          </p:cNvCxnSpPr>
          <p:nvPr/>
        </p:nvCxnSpPr>
        <p:spPr>
          <a:xfrm flipV="1">
            <a:off x="6238440" y="2018520"/>
            <a:ext cx="772200" cy="125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3" name="AutoShape 8"/>
          <p:cNvCxnSpPr>
            <a:stCxn id="250" idx="3"/>
            <a:endCxn id="251" idx="1"/>
          </p:cNvCxnSpPr>
          <p:nvPr/>
        </p:nvCxnSpPr>
        <p:spPr>
          <a:xfrm>
            <a:off x="6762600" y="3603240"/>
            <a:ext cx="788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54" name="AutoShape 9"/>
          <p:cNvCxnSpPr>
            <a:stCxn id="251" idx="0"/>
            <a:endCxn id="249" idx="3"/>
          </p:cNvCxnSpPr>
          <p:nvPr/>
        </p:nvCxnSpPr>
        <p:spPr>
          <a:xfrm flipH="1" flipV="1">
            <a:off x="7689240" y="2018520"/>
            <a:ext cx="556200" cy="12582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255" name="Text Box 10"/>
          <p:cNvSpPr/>
          <p:nvPr/>
        </p:nvSpPr>
        <p:spPr>
          <a:xfrm>
            <a:off x="6707160" y="274320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J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>
            <a:off x="6762960" y="32767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ref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 rot="3945000">
            <a:off x="7678800" y="24544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kon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 rot="18021000">
            <a:off x="5928120" y="237816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den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čně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838080" y="2590920"/>
            <a:ext cx="7239240" cy="1739880"/>
          </a:xfrm>
          <a:prstGeom prst="rect">
            <a:avLst/>
          </a:prstGeom>
          <a:solidFill>
            <a:srgbClr val="ffcc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Arial"/>
              </a:rPr>
              <a:t>Systém je komplex interagujících součást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457200" y="5334120"/>
            <a:ext cx="82296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le Ludwiga Bertalanffyho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zvládnout složitost sytému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ekompozice na subsysté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účelu (komu k čemu slouží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alýza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struktury (skrývání inform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itériem je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ROBUSTN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a50021"/>
                </a:solidFill>
                <a:latin typeface="Times New Roman"/>
              </a:rPr>
              <a:t>i špatná dekompozice je lepší než nezvládnout složitost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ementární subsystém se nazývá prvek,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objektovém přístupu </a:t>
            </a: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obje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bust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olerance (snášenlivost) systému vůči změná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y mají zůstat lokál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měny se nemají šířit systém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osud jsme používali objekty jako skupiny rutin. Proč se rutiny shlukují do skup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máhají nám mentálně zvládnout složitost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ěci ve světě rozlišu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ch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jak se projevují vůči svému okol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le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úče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bjekty zvenku vypadají jako </a:t>
            </a:r>
            <a:br>
              <a:rPr sz="2000"/>
            </a:b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účelově vymezené celk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kupiny ru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65000" indent="-285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krývá informa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é nepotřebujeme znát k jeho uži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 uvnitř obsahuje datové položky stejně jako 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84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obně může obsahovat i skryté ruti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je objek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účelově vymezený cele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tožný (identický) sám se se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iší se od každého jiného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navenek se projevuje chování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interaguje s jinými objekty pomocí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vaz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si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pamatov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životní cyklus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najedno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zniká a najednou zani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mít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vnitřní struktu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atové položky, atribut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roměnné – členy ob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metod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procedury nebo funkce – členy ob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zapouzdření: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ložitost vnitřní struktury se skrývá (nezveřejňuje 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Jak rozlišit objekt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úče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objekt někomu slouží k nějakému úče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ptimalizací struktury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zvládli složit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ritériem je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robust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alýzou chování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tegorické rozlišení –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synchronní životní cyk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např. každý objekt musí v jednom okamži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vznik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anikn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analýza chování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scénář 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1600200" y="31240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069560" y="2590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1600200" y="38098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1600200" y="47242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7315200" y="33526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2"/>
          <p:cNvSpPr/>
          <p:nvPr/>
        </p:nvSpPr>
        <p:spPr>
          <a:xfrm>
            <a:off x="7315200" y="426708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AutoShape 14"/>
          <p:cNvCxnSpPr>
            <a:stCxn id="274" idx="2"/>
            <a:endCxn id="276" idx="0"/>
          </p:cNvCxnSpPr>
          <p:nvPr/>
        </p:nvCxnSpPr>
        <p:spPr>
          <a:xfrm>
            <a:off x="1638000" y="358092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1" name="AutoShape 15"/>
          <p:cNvCxnSpPr>
            <a:stCxn id="276" idx="2"/>
            <a:endCxn id="277" idx="0"/>
          </p:cNvCxnSpPr>
          <p:nvPr/>
        </p:nvCxnSpPr>
        <p:spPr>
          <a:xfrm>
            <a:off x="1638000" y="42670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2" name="AutoShape 16"/>
          <p:cNvCxnSpPr>
            <a:stCxn id="278" idx="2"/>
            <a:endCxn id="279" idx="0"/>
          </p:cNvCxnSpPr>
          <p:nvPr/>
        </p:nvCxnSpPr>
        <p:spPr>
          <a:xfrm>
            <a:off x="7353000" y="38098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283" name="AutoShape 18"/>
          <p:cNvCxnSpPr>
            <a:stCxn id="274" idx="3"/>
            <a:endCxn id="278" idx="0"/>
          </p:cNvCxnSpPr>
          <p:nvPr/>
        </p:nvCxnSpPr>
        <p:spPr>
          <a:xfrm>
            <a:off x="1676160" y="33523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4" name="AutoShape 19"/>
          <p:cNvCxnSpPr>
            <a:stCxn id="278" idx="2"/>
            <a:endCxn id="276" idx="0"/>
          </p:cNvCxnSpPr>
          <p:nvPr/>
        </p:nvCxnSpPr>
        <p:spPr>
          <a:xfrm flipH="1">
            <a:off x="1637640" y="38095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5" name="AutoShape 21"/>
          <p:cNvCxnSpPr>
            <a:stCxn id="276" idx="2"/>
            <a:endCxn id="279" idx="0"/>
          </p:cNvCxnSpPr>
          <p:nvPr/>
        </p:nvCxnSpPr>
        <p:spPr>
          <a:xfrm>
            <a:off x="1638000" y="42667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AutoShape 22"/>
          <p:cNvCxnSpPr>
            <a:stCxn id="279" idx="1"/>
            <a:endCxn id="277" idx="0"/>
          </p:cNvCxnSpPr>
          <p:nvPr/>
        </p:nvCxnSpPr>
        <p:spPr>
          <a:xfrm flipH="1">
            <a:off x="1637640" y="47239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7" name="Text Box 25"/>
          <p:cNvSpPr/>
          <p:nvPr/>
        </p:nvSpPr>
        <p:spPr>
          <a:xfrm>
            <a:off x="2365560" y="30481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9"/>
          <p:cNvSpPr/>
          <p:nvPr/>
        </p:nvSpPr>
        <p:spPr>
          <a:xfrm>
            <a:off x="2199600" y="3429000"/>
            <a:ext cx="50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eno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za 13,50“, „mléko odstředěné za 12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0"/>
          <p:cNvSpPr/>
          <p:nvPr/>
        </p:nvSpPr>
        <p:spPr>
          <a:xfrm>
            <a:off x="1748160" y="434340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t nebo dodací list a faktur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1l za 13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1"/>
          <p:cNvSpPr/>
          <p:nvPr/>
        </p:nvSpPr>
        <p:spPr>
          <a:xfrm>
            <a:off x="2289960" y="38862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ej: „mléko polotučné 1 lit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2"/>
          <p:cNvSpPr/>
          <p:nvPr/>
        </p:nvSpPr>
        <p:spPr>
          <a:xfrm>
            <a:off x="6708240" y="2666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Oval 3"/>
          <p:cNvSpPr/>
          <p:nvPr/>
        </p:nvSpPr>
        <p:spPr>
          <a:xfrm>
            <a:off x="6705720" y="2286000"/>
            <a:ext cx="8380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5"/>
          <p:cNvGrpSpPr/>
          <p:nvPr/>
        </p:nvGrpSpPr>
        <p:grpSpPr>
          <a:xfrm>
            <a:off x="1447920" y="2057400"/>
            <a:ext cx="393480" cy="533520"/>
            <a:chOff x="1447920" y="2057400"/>
            <a:chExt cx="393480" cy="533520"/>
          </a:xfrm>
        </p:grpSpPr>
        <p:sp>
          <p:nvSpPr>
            <p:cNvPr id="294" name="Oval 6"/>
            <p:cNvSpPr/>
            <p:nvPr/>
          </p:nvSpPr>
          <p:spPr>
            <a:xfrm>
              <a:off x="1560240" y="2057400"/>
              <a:ext cx="16848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7"/>
            <p:cNvSpPr/>
            <p:nvPr/>
          </p:nvSpPr>
          <p:spPr>
            <a:xfrm>
              <a:off x="1644480" y="22258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8"/>
            <p:cNvSpPr/>
            <p:nvPr/>
          </p:nvSpPr>
          <p:spPr>
            <a:xfrm>
              <a:off x="1447920" y="23101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9"/>
            <p:cNvSpPr/>
            <p:nvPr/>
          </p:nvSpPr>
          <p:spPr>
            <a:xfrm flipH="1">
              <a:off x="15040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0"/>
            <p:cNvSpPr/>
            <p:nvPr/>
          </p:nvSpPr>
          <p:spPr>
            <a:xfrm>
              <a:off x="16444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ýmová práce a projek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vzorek součinnosti (interakce) mezi systémem a jeho okolím (prostřed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ažíme se zaznamenat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reprezentativní sad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cénář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doucího chování (co systém mus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žádoucího chování (co nesm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využijeme scénář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borem scénářů na interakce uvnitř systému se projeví potřebnost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bjektů a vaze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vnitř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nich později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testujem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ystém jako c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analýza scénáře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analýza scénáře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zli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bjek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ů uvnitř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762120" y="213372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62120" y="388620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8"/>
          <p:cNvSpPr/>
          <p:nvPr/>
        </p:nvSpPr>
        <p:spPr>
          <a:xfrm>
            <a:off x="762120" y="541008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9"/>
          <p:cNvSpPr/>
          <p:nvPr/>
        </p:nvSpPr>
        <p:spPr>
          <a:xfrm>
            <a:off x="2514600" y="2362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2"/>
          <p:cNvSpPr/>
          <p:nvPr/>
        </p:nvSpPr>
        <p:spPr>
          <a:xfrm>
            <a:off x="2971800" y="411480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AutoShape 14"/>
          <p:cNvCxnSpPr>
            <a:stCxn id="302" idx="2"/>
            <a:endCxn id="303" idx="0"/>
          </p:cNvCxnSpPr>
          <p:nvPr/>
        </p:nvCxnSpPr>
        <p:spPr>
          <a:xfrm>
            <a:off x="799920" y="2590920"/>
            <a:ext cx="1080" cy="1296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8" name="AutoShape 15"/>
          <p:cNvCxnSpPr>
            <a:stCxn id="303" idx="2"/>
            <a:endCxn id="304" idx="0"/>
          </p:cNvCxnSpPr>
          <p:nvPr/>
        </p:nvCxnSpPr>
        <p:spPr>
          <a:xfrm>
            <a:off x="799920" y="4343040"/>
            <a:ext cx="108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09" name="AutoShape 16"/>
          <p:cNvCxnSpPr>
            <a:stCxn id="305" idx="2"/>
            <a:endCxn id="310" idx="0"/>
          </p:cNvCxnSpPr>
          <p:nvPr/>
        </p:nvCxnSpPr>
        <p:spPr>
          <a:xfrm>
            <a:off x="2552400" y="2819160"/>
            <a:ext cx="108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11" name="AutoShape 18"/>
          <p:cNvCxnSpPr>
            <a:stCxn id="302" idx="3"/>
            <a:endCxn id="305" idx="0"/>
          </p:cNvCxnSpPr>
          <p:nvPr/>
        </p:nvCxnSpPr>
        <p:spPr>
          <a:xfrm>
            <a:off x="837720" y="236196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2" name="AutoShape 19"/>
          <p:cNvCxnSpPr>
            <a:stCxn id="313" idx="2"/>
            <a:endCxn id="310" idx="0"/>
          </p:cNvCxnSpPr>
          <p:nvPr/>
        </p:nvCxnSpPr>
        <p:spPr>
          <a:xfrm flipH="1">
            <a:off x="2552400" y="35049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4" name="AutoShape 21"/>
          <p:cNvCxnSpPr>
            <a:stCxn id="303" idx="3"/>
            <a:endCxn id="306" idx="0"/>
          </p:cNvCxnSpPr>
          <p:nvPr/>
        </p:nvCxnSpPr>
        <p:spPr>
          <a:xfrm>
            <a:off x="837720" y="4114440"/>
            <a:ext cx="21726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5" name="AutoShape 22"/>
          <p:cNvCxnSpPr>
            <a:stCxn id="316" idx="1"/>
            <a:endCxn id="304" idx="0"/>
          </p:cNvCxnSpPr>
          <p:nvPr/>
        </p:nvCxnSpPr>
        <p:spPr>
          <a:xfrm flipH="1">
            <a:off x="800280" y="5409720"/>
            <a:ext cx="2171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Text Box 25"/>
          <p:cNvSpPr/>
          <p:nvPr/>
        </p:nvSpPr>
        <p:spPr>
          <a:xfrm>
            <a:off x="989280" y="20574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29"/>
          <p:cNvSpPr/>
          <p:nvPr/>
        </p:nvSpPr>
        <p:spPr>
          <a:xfrm>
            <a:off x="2739960" y="289548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4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,</a:t>
            </a:r>
            <a:br>
              <a:rPr sz="9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1"/>
          <p:cNvSpPr/>
          <p:nvPr/>
        </p:nvSpPr>
        <p:spPr>
          <a:xfrm>
            <a:off x="917280" y="3657600"/>
            <a:ext cx="145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56"/>
          <p:cNvSpPr/>
          <p:nvPr/>
        </p:nvSpPr>
        <p:spPr>
          <a:xfrm>
            <a:off x="609480" y="14479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7"/>
          <p:cNvSpPr/>
          <p:nvPr/>
        </p:nvSpPr>
        <p:spPr>
          <a:xfrm>
            <a:off x="383760" y="1828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8"/>
          <p:cNvSpPr/>
          <p:nvPr/>
        </p:nvSpPr>
        <p:spPr>
          <a:xfrm>
            <a:off x="2362320" y="144792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9"/>
          <p:cNvSpPr/>
          <p:nvPr/>
        </p:nvSpPr>
        <p:spPr>
          <a:xfrm>
            <a:off x="2135160" y="18288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9"/>
          <p:cNvSpPr/>
          <p:nvPr/>
        </p:nvSpPr>
        <p:spPr>
          <a:xfrm>
            <a:off x="2514600" y="3505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AutoShape 18"/>
          <p:cNvCxnSpPr>
            <a:stCxn id="305" idx="2"/>
            <a:endCxn id="313" idx="0"/>
          </p:cNvCxnSpPr>
          <p:nvPr/>
        </p:nvCxnSpPr>
        <p:spPr>
          <a:xfrm>
            <a:off x="2552760" y="28191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5" name="Text Box 25"/>
          <p:cNvSpPr/>
          <p:nvPr/>
        </p:nvSpPr>
        <p:spPr>
          <a:xfrm>
            <a:off x="2589480" y="2514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63"/>
          <p:cNvSpPr/>
          <p:nvPr/>
        </p:nvSpPr>
        <p:spPr>
          <a:xfrm>
            <a:off x="4114800" y="1828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64"/>
          <p:cNvSpPr/>
          <p:nvPr/>
        </p:nvSpPr>
        <p:spPr>
          <a:xfrm>
            <a:off x="3353400" y="213372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4343400" y="2819520"/>
            <a:ext cx="76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6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2666880" y="3581280"/>
            <a:ext cx="609840" cy="4352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67"/>
          <p:cNvSpPr/>
          <p:nvPr/>
        </p:nvSpPr>
        <p:spPr>
          <a:xfrm>
            <a:off x="3203280" y="37339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31"/>
          <p:cNvSpPr/>
          <p:nvPr/>
        </p:nvSpPr>
        <p:spPr>
          <a:xfrm>
            <a:off x="3042360" y="4114800"/>
            <a:ext cx="198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70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4800600" y="37339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71"/>
          <p:cNvSpPr/>
          <p:nvPr/>
        </p:nvSpPr>
        <p:spPr>
          <a:xfrm>
            <a:off x="4953960" y="41148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5105520" y="4572000"/>
            <a:ext cx="759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1"/>
          <p:cNvCxnSpPr>
            <a:stCxn id="333" idx="3"/>
            <a:endCxn id="335" idx="0"/>
          </p:cNvCxnSpPr>
          <p:nvPr/>
        </p:nvCxnSpPr>
        <p:spPr>
          <a:xfrm>
            <a:off x="5181120" y="5181120"/>
            <a:ext cx="1639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6" name="Text Box 31"/>
          <p:cNvSpPr/>
          <p:nvPr/>
        </p:nvSpPr>
        <p:spPr>
          <a:xfrm>
            <a:off x="5184000" y="472428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2971800" y="51814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AutoShape 15"/>
          <p:cNvCxnSpPr>
            <a:stCxn id="306" idx="2"/>
            <a:endCxn id="316" idx="0"/>
          </p:cNvCxnSpPr>
          <p:nvPr/>
        </p:nvCxnSpPr>
        <p:spPr>
          <a:xfrm>
            <a:off x="3009600" y="5028840"/>
            <a:ext cx="108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338" name="AutoShape 22"/>
          <p:cNvCxnSpPr>
            <a:stCxn id="333" idx="1"/>
            <a:endCxn id="316" idx="0"/>
          </p:cNvCxnSpPr>
          <p:nvPr/>
        </p:nvCxnSpPr>
        <p:spPr>
          <a:xfrm flipH="1">
            <a:off x="3009240" y="518112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9" name="AutoShape 21"/>
          <p:cNvCxnSpPr>
            <a:stCxn id="306" idx="3"/>
            <a:endCxn id="333" idx="0"/>
          </p:cNvCxnSpPr>
          <p:nvPr/>
        </p:nvCxnSpPr>
        <p:spPr>
          <a:xfrm>
            <a:off x="3047760" y="457164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340" name="Picture 78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6553080" y="419112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79"/>
          <p:cNvSpPr/>
          <p:nvPr/>
        </p:nvSpPr>
        <p:spPr>
          <a:xfrm>
            <a:off x="6478920" y="45720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6781680" y="5181480"/>
            <a:ext cx="763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3239640" y="47242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1144080" y="49528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93"/>
          <p:cNvSpPr/>
          <p:nvPr/>
        </p:nvSpPr>
        <p:spPr>
          <a:xfrm>
            <a:off x="7926120" y="48769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2"/>
          <p:cNvSpPr/>
          <p:nvPr/>
        </p:nvSpPr>
        <p:spPr>
          <a:xfrm>
            <a:off x="8534520" y="5486400"/>
            <a:ext cx="75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"/>
          <p:cNvSpPr/>
          <p:nvPr/>
        </p:nvSpPr>
        <p:spPr>
          <a:xfrm>
            <a:off x="6860520" y="502920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97"/>
          <p:cNvSpPr/>
          <p:nvPr/>
        </p:nvSpPr>
        <p:spPr>
          <a:xfrm>
            <a:off x="8305920" y="4495680"/>
            <a:ext cx="380880" cy="3812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AutoShape 21"/>
          <p:cNvCxnSpPr>
            <a:stCxn id="335" idx="3"/>
            <a:endCxn id="345" idx="0"/>
          </p:cNvCxnSpPr>
          <p:nvPr/>
        </p:nvCxnSpPr>
        <p:spPr>
          <a:xfrm>
            <a:off x="6857640" y="548604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49" name="AutoShape 8"/>
          <p:cNvCxnSpPr>
            <a:stCxn id="350" idx="6"/>
          </p:cNvCxnSpPr>
          <p:nvPr/>
        </p:nvCxnSpPr>
        <p:spPr>
          <a:xfrm flipV="1">
            <a:off x="1676520" y="2545920"/>
            <a:ext cx="15897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1" name="AutoShape 9"/>
          <p:cNvCxnSpPr/>
          <p:nvPr/>
        </p:nvCxnSpPr>
        <p:spPr>
          <a:xfrm flipH="1" rot="16200000">
            <a:off x="3165840" y="3166560"/>
            <a:ext cx="1809000" cy="1002600"/>
          </a:xfrm>
          <a:prstGeom prst="bentConnector3">
            <a:avLst>
              <a:gd name="adj1" fmla="val 852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2" name="AutoShape 10"/>
          <p:cNvCxnSpPr>
            <a:endCxn id="353" idx="2"/>
          </p:cNvCxnSpPr>
          <p:nvPr/>
        </p:nvCxnSpPr>
        <p:spPr>
          <a:xfrm>
            <a:off x="4876920" y="4789440"/>
            <a:ext cx="1829520" cy="659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4" name="AutoShape 11"/>
          <p:cNvCxnSpPr>
            <a:stCxn id="355" idx="4"/>
          </p:cNvCxnSpPr>
          <p:nvPr/>
        </p:nvCxnSpPr>
        <p:spPr>
          <a:xfrm flipV="1">
            <a:off x="3885840" y="5006160"/>
            <a:ext cx="686520" cy="78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55" name="AutoShape 14"/>
          <p:cNvSpPr/>
          <p:nvPr/>
        </p:nvSpPr>
        <p:spPr>
          <a:xfrm>
            <a:off x="3429000" y="563868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15"/>
          <p:cNvSpPr/>
          <p:nvPr/>
        </p:nvSpPr>
        <p:spPr>
          <a:xfrm>
            <a:off x="1295280" y="23623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1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5791320" y="23623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357" name="Text Box 17"/>
          <p:cNvSpPr/>
          <p:nvPr/>
        </p:nvSpPr>
        <p:spPr>
          <a:xfrm>
            <a:off x="688320" y="19810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8" name="AutoShape 9"/>
          <p:cNvCxnSpPr/>
          <p:nvPr/>
        </p:nvCxnSpPr>
        <p:spPr>
          <a:xfrm rot="5400000">
            <a:off x="4445640" y="2922480"/>
            <a:ext cx="1775520" cy="1524600"/>
          </a:xfrm>
          <a:prstGeom prst="bentConnector3">
            <a:avLst>
              <a:gd name="adj1" fmla="val 9103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59" name="AutoShape 8"/>
          <p:cNvCxnSpPr>
            <a:endCxn id="360" idx="2"/>
          </p:cNvCxnSpPr>
          <p:nvPr/>
        </p:nvCxnSpPr>
        <p:spPr>
          <a:xfrm>
            <a:off x="6400800" y="2579760"/>
            <a:ext cx="991440" cy="5832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61" name="AutoShape 9"/>
          <p:cNvCxnSpPr>
            <a:stCxn id="362" idx="4"/>
            <a:endCxn id="355" idx="2"/>
          </p:cNvCxnSpPr>
          <p:nvPr/>
        </p:nvCxnSpPr>
        <p:spPr>
          <a:xfrm flipH="1" rot="16200000">
            <a:off x="1847520" y="4209480"/>
            <a:ext cx="17535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363" name="Picture 28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3265560" y="232884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29"/>
          <p:cNvSpPr/>
          <p:nvPr/>
        </p:nvSpPr>
        <p:spPr>
          <a:xfrm>
            <a:off x="3660480" y="2666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0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4267080" y="457200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366" name="Text Box 31"/>
          <p:cNvSpPr/>
          <p:nvPr/>
        </p:nvSpPr>
        <p:spPr>
          <a:xfrm>
            <a:off x="503100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32"/>
          <p:cNvSpPr/>
          <p:nvPr/>
        </p:nvSpPr>
        <p:spPr>
          <a:xfrm>
            <a:off x="3506400" y="45720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33"/>
          <p:cNvSpPr/>
          <p:nvPr/>
        </p:nvSpPr>
        <p:spPr>
          <a:xfrm>
            <a:off x="2896200" y="59436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4"/>
          <p:cNvSpPr/>
          <p:nvPr/>
        </p:nvSpPr>
        <p:spPr>
          <a:xfrm>
            <a:off x="2211120" y="36576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7316640" y="3352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7087320" y="52578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7"/>
          <p:cNvSpPr/>
          <p:nvPr/>
        </p:nvSpPr>
        <p:spPr>
          <a:xfrm>
            <a:off x="1828800" y="36576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38"/>
          <p:cNvSpPr/>
          <p:nvPr/>
        </p:nvSpPr>
        <p:spPr>
          <a:xfrm>
            <a:off x="7391520" y="2971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9"/>
          <p:cNvSpPr/>
          <p:nvPr/>
        </p:nvSpPr>
        <p:spPr>
          <a:xfrm>
            <a:off x="6705720" y="5257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2" name="AutoShape 8"/>
          <p:cNvCxnSpPr>
            <a:stCxn id="350" idx="4"/>
            <a:endCxn id="362" idx="1"/>
          </p:cNvCxnSpPr>
          <p:nvPr/>
        </p:nvCxnSpPr>
        <p:spPr>
          <a:xfrm flipH="1" rot="16200000">
            <a:off x="1200240" y="3028680"/>
            <a:ext cx="970560" cy="398880"/>
          </a:xfrm>
          <a:prstGeom prst="bentConnector3">
            <a:avLst>
              <a:gd name="adj1" fmla="val 47124"/>
            </a:avLst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373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.: týž scénář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jako diagram spolupráce objekt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44"/>
          <p:cNvSpPr/>
          <p:nvPr/>
        </p:nvSpPr>
        <p:spPr>
          <a:xfrm>
            <a:off x="3429000" y="5257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5"/>
          <p:cNvSpPr/>
          <p:nvPr/>
        </p:nvSpPr>
        <p:spPr>
          <a:xfrm>
            <a:off x="1460520" y="281952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31"/>
          <p:cNvSpPr/>
          <p:nvPr/>
        </p:nvSpPr>
        <p:spPr>
          <a:xfrm>
            <a:off x="1677600" y="175248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.1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31"/>
          <p:cNvSpPr/>
          <p:nvPr/>
        </p:nvSpPr>
        <p:spPr>
          <a:xfrm>
            <a:off x="6106680" y="3962520"/>
            <a:ext cx="1796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8" name="AutoShape 9"/>
          <p:cNvCxnSpPr>
            <a:stCxn id="362" idx="4"/>
            <a:endCxn id="374" idx="2"/>
          </p:cNvCxnSpPr>
          <p:nvPr/>
        </p:nvCxnSpPr>
        <p:spPr>
          <a:xfrm flipH="1" rot="16200000">
            <a:off x="2038320" y="4019040"/>
            <a:ext cx="137232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AutoShape 11"/>
          <p:cNvCxnSpPr>
            <a:stCxn id="374" idx="4"/>
          </p:cNvCxnSpPr>
          <p:nvPr/>
        </p:nvCxnSpPr>
        <p:spPr>
          <a:xfrm flipV="1">
            <a:off x="3885840" y="5006520"/>
            <a:ext cx="68652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80" name="Text Box 25"/>
          <p:cNvSpPr/>
          <p:nvPr/>
        </p:nvSpPr>
        <p:spPr>
          <a:xfrm>
            <a:off x="316440" y="4191120"/>
            <a:ext cx="173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.2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1"/>
          <p:cNvSpPr/>
          <p:nvPr/>
        </p:nvSpPr>
        <p:spPr>
          <a:xfrm>
            <a:off x="3582360" y="327672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1"/>
          <p:cNvSpPr/>
          <p:nvPr/>
        </p:nvSpPr>
        <p:spPr>
          <a:xfrm>
            <a:off x="6410520" y="2057400"/>
            <a:ext cx="1945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lymorfism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n, </a:t>
            </a: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kdo posílá zprávu, žádá služb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; nerozhodu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i o konečném příjemc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i o způsobu, jak bude zpráva zpracová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objekt může na stejnou zprávu reagovat po své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ji poslat (delegovat) jinému objektu k vy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ji zpracovat jinou metodou než jiné ob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ůže záležet na okamžitém stavu, příp. na odesíla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 polymorfis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objekt přijímá zprávu </a:t>
            </a:r>
            <a:r>
              <a:rPr b="1" lang="cs-CZ" sz="2400" spc="-1" strike="noStrike">
                <a:solidFill>
                  <a:srgbClr val="333399"/>
                </a:solidFill>
                <a:latin typeface="Courier New"/>
              </a:rPr>
              <a:t>print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zprávu zpracovat jednoduchou zděděnou metodou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ntString(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která vypíše jen typ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zděděnou metodu redefinovat a zprávu zpracovat svým specifickým způsob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vypsat nejen typ, ale také svoji okamžitou hodno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ůže to být jednoduchá hodnota (např. celé číslo </a:t>
            </a:r>
            <a:r>
              <a:rPr b="0" lang="cs-CZ" sz="1600" spc="-1" strike="noStrike">
                <a:solidFill>
                  <a:srgbClr val="009999"/>
                </a:solidFill>
                <a:latin typeface="Arial"/>
              </a:rPr>
              <a:t>123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ůže vypsat n-tici hodnot, např. atribut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tom každému atributu zase přepošle zprávu </a:t>
            </a: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print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zprávu přeposlat (delegovat) jinému objektu k vy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m-li pak v kolekci objekty různých typů, stačí k vypsání hodnoty každého objektu tentýž příkaz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foreach</a:t>
            </a:r>
            <a:r>
              <a:rPr b="0" lang="cs-CZ" sz="2000" spc="-1" strike="noStrike">
                <a:solidFill>
                  <a:srgbClr val="333399"/>
                </a:solidFill>
                <a:latin typeface="Courier New"/>
              </a:rPr>
              <a:t> o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in</a:t>
            </a:r>
            <a:r>
              <a:rPr b="0" lang="cs-CZ" sz="2000" spc="-1" strike="noStrike">
                <a:solidFill>
                  <a:srgbClr val="333399"/>
                </a:solidFill>
                <a:latin typeface="Courier New"/>
              </a:rPr>
              <a:t> coll 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do</a:t>
            </a:r>
            <a:r>
              <a:rPr b="0" lang="cs-CZ" sz="2000" spc="-1" strike="noStrike">
                <a:solidFill>
                  <a:srgbClr val="333399"/>
                </a:solidFill>
                <a:latin typeface="Courier New"/>
              </a:rPr>
              <a:t> o.prin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azb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instancí,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rodičov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lementární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ynchron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životních cyk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azb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ezi ob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el: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komunikace a synchron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komunikační kaná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životní cyklus vazby (komunikační protok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nožina přípustných zprá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azba je zvláštní objekt (má vlastnosti ob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práv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zvláštní objekt, který naví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uje požadavek na službu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elekto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adresáta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příjem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přenášet jiné objekty (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parametr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azba celek –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zvláštní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úč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asymetrická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to plyne z úče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azba celek – čá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á zvláštní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úč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asymetrická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to plyne z účel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ri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zvláštním případem vazby celek-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ribut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vzniká a zaniká součas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e svým vlastní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, připojený vazbou jako atri-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ut, je </a:t>
            </a:r>
            <a:r>
              <a:rPr b="0" lang="cs-CZ" sz="2400" spc="-1" strike="noStrike">
                <a:solidFill>
                  <a:srgbClr val="a50021"/>
                </a:solidFill>
                <a:latin typeface="Arial"/>
              </a:rPr>
              <a:t>výlučným vlastnictvím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ne-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dílí se s dalšími objek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ěl by být skrytý nav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azba celek-čá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7015320" y="1066680"/>
            <a:ext cx="18680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hlas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chránk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AutoShape 6"/>
          <p:cNvCxnSpPr>
            <a:stCxn id="393" idx="0"/>
            <a:endCxn id="391" idx="2"/>
          </p:cNvCxnSpPr>
          <p:nvPr/>
        </p:nvCxnSpPr>
        <p:spPr>
          <a:xfrm flipH="1" flipV="1" rot="5400000">
            <a:off x="7474680" y="1819440"/>
            <a:ext cx="819720" cy="1324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diamond" w="lg"/>
          </a:ln>
        </p:spPr>
      </p:cxnSp>
      <p:sp>
        <p:nvSpPr>
          <p:cNvPr id="394" name="Text Box 7"/>
          <p:cNvSpPr/>
          <p:nvPr/>
        </p:nvSpPr>
        <p:spPr>
          <a:xfrm>
            <a:off x="7858080" y="194328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9"/>
          <p:cNvGrpSpPr/>
          <p:nvPr/>
        </p:nvGrpSpPr>
        <p:grpSpPr>
          <a:xfrm>
            <a:off x="6019920" y="4267080"/>
            <a:ext cx="2742840" cy="2214720"/>
            <a:chOff x="6019920" y="4267080"/>
            <a:chExt cx="2742840" cy="2214720"/>
          </a:xfrm>
        </p:grpSpPr>
        <p:sp>
          <p:nvSpPr>
            <p:cNvPr id="396" name="Text Box 10"/>
            <p:cNvSpPr/>
            <p:nvPr/>
          </p:nvSpPr>
          <p:spPr>
            <a:xfrm>
              <a:off x="6019920" y="4267080"/>
              <a:ext cx="2742840" cy="38088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f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ormP</a:t>
              </a:r>
              <a:r>
                <a:rPr b="1" lang="cs-CZ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říjem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H</a:t>
              </a:r>
              <a:r>
                <a:rPr b="1" lang="cs-CZ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ovoru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11"/>
            <p:cNvSpPr/>
            <p:nvPr/>
          </p:nvSpPr>
          <p:spPr>
            <a:xfrm>
              <a:off x="6019920" y="4647960"/>
              <a:ext cx="2742840" cy="6271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6600"/>
                  </a:solidFill>
                  <a:latin typeface="Arial"/>
                </a:rPr>
                <a:t>jméno volajícího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=‘Franta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6600"/>
                  </a:solidFill>
                  <a:latin typeface="Arial"/>
                </a:rPr>
                <a:t>trvání hovoru</a:t>
              </a:r>
              <a:r>
                <a:rPr b="0" lang="en-US" sz="1800" spc="-1" strike="noStrike">
                  <a:solidFill>
                    <a:srgbClr val="ff6600"/>
                  </a:solidFill>
                  <a:latin typeface="Arial"/>
                </a:rPr>
                <a:t>=34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Text Box 12"/>
            <p:cNvSpPr/>
            <p:nvPr/>
          </p:nvSpPr>
          <p:spPr>
            <a:xfrm>
              <a:off x="6019920" y="5257800"/>
              <a:ext cx="2742840" cy="122400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Přijm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Ukonč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Nahráv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" name="Text Box 13"/>
          <p:cNvSpPr/>
          <p:nvPr/>
        </p:nvSpPr>
        <p:spPr>
          <a:xfrm>
            <a:off x="5797080" y="1523880"/>
            <a:ext cx="9612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h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ovo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0" name="AutoShape 15"/>
          <p:cNvCxnSpPr>
            <a:stCxn id="401" idx="0"/>
            <a:endCxn id="399" idx="2"/>
          </p:cNvCxnSpPr>
          <p:nvPr/>
        </p:nvCxnSpPr>
        <p:spPr>
          <a:xfrm flipV="1" rot="16200000">
            <a:off x="5873760" y="2336760"/>
            <a:ext cx="81036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diamond" w="lg"/>
          </a:ln>
        </p:spPr>
      </p:cxnSp>
      <p:sp>
        <p:nvSpPr>
          <p:cNvPr id="402" name="Text Box 16"/>
          <p:cNvSpPr/>
          <p:nvPr/>
        </p:nvSpPr>
        <p:spPr>
          <a:xfrm>
            <a:off x="6325920" y="24004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7634880" y="2600280"/>
            <a:ext cx="9763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kaz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7482600" y="2448000"/>
            <a:ext cx="9763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kaz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7329960" y="2295360"/>
            <a:ext cx="9763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kaz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4"/>
          <p:cNvSpPr/>
          <p:nvPr/>
        </p:nvSpPr>
        <p:spPr>
          <a:xfrm>
            <a:off x="5796720" y="2895480"/>
            <a:ext cx="1271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účastník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4"/>
          <p:cNvSpPr/>
          <p:nvPr/>
        </p:nvSpPr>
        <p:spPr>
          <a:xfrm>
            <a:off x="5644080" y="2743200"/>
            <a:ext cx="1271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účastník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úč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gener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hování a příp. i vnitřní struktury pře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pecializa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to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šiřuje, redefinuje nebo modifikuje chování před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vláštním případem vazby celek –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ek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je část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to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ěděn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násob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1: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ťuje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oučasný vznik i zán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ředka i potom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ick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ributy a metody p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ka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 stanou atributy a metodam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tomk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, </a:t>
            </a: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zapouzdření předka v potomkovi vymiz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z toho plynou výhody, ale i nepříjemnost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íklad dědě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"/>
          <p:cNvSpPr/>
          <p:nvPr/>
        </p:nvSpPr>
        <p:spPr>
          <a:xfrm>
            <a:off x="767520" y="1600200"/>
            <a:ext cx="2073600" cy="1923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1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‘Bab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4848120" y="1866960"/>
            <a:ext cx="239076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K1: Kni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‘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mcov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1" name="AutoShape 6"/>
          <p:cNvCxnSpPr>
            <a:stCxn id="410" idx="1"/>
            <a:endCxn id="409" idx="3"/>
          </p:cNvCxnSpPr>
          <p:nvPr/>
        </p:nvCxnSpPr>
        <p:spPr>
          <a:xfrm flipV="1" rot="10800000">
            <a:off x="2845800" y="2557800"/>
            <a:ext cx="2002320" cy="9000"/>
          </a:xfrm>
          <a:prstGeom prst="bentConnector3">
            <a:avLst>
              <a:gd name="adj1" fmla="val 4995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2" name="Text Box 7"/>
          <p:cNvSpPr/>
          <p:nvPr/>
        </p:nvSpPr>
        <p:spPr>
          <a:xfrm>
            <a:off x="4896000" y="4305240"/>
            <a:ext cx="1600200" cy="1373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Č1: Časop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čník = 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AutoShape 8"/>
          <p:cNvCxnSpPr>
            <a:stCxn id="412" idx="1"/>
            <a:endCxn id="414" idx="3"/>
          </p:cNvCxnSpPr>
          <p:nvPr/>
        </p:nvCxnSpPr>
        <p:spPr>
          <a:xfrm flipV="1" rot="10800000">
            <a:off x="2455200" y="4997160"/>
            <a:ext cx="2440800" cy="8640"/>
          </a:xfrm>
          <a:prstGeom prst="bentConnector3">
            <a:avLst>
              <a:gd name="adj1" fmla="val 4996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15" name="Přímá spojovací čára 32"/>
          <p:cNvSpPr/>
          <p:nvPr/>
        </p:nvSpPr>
        <p:spPr>
          <a:xfrm>
            <a:off x="762120" y="2057400"/>
            <a:ext cx="20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římá spojovací čára 35"/>
          <p:cNvSpPr/>
          <p:nvPr/>
        </p:nvSpPr>
        <p:spPr>
          <a:xfrm flipV="1">
            <a:off x="4895280" y="4743000"/>
            <a:ext cx="16016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římá spojovací čára 36"/>
          <p:cNvSpPr/>
          <p:nvPr/>
        </p:nvSpPr>
        <p:spPr>
          <a:xfrm flipV="1">
            <a:off x="4848120" y="2322000"/>
            <a:ext cx="2392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římá spojovací čára 30"/>
          <p:cNvSpPr/>
          <p:nvPr/>
        </p:nvSpPr>
        <p:spPr>
          <a:xfrm>
            <a:off x="762120" y="2743200"/>
            <a:ext cx="2085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římá spojovací čára 40"/>
          <p:cNvSpPr/>
          <p:nvPr/>
        </p:nvSpPr>
        <p:spPr>
          <a:xfrm flipV="1">
            <a:off x="4847400" y="2779200"/>
            <a:ext cx="23828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utoShape 13"/>
          <p:cNvSpPr/>
          <p:nvPr/>
        </p:nvSpPr>
        <p:spPr>
          <a:xfrm rot="16200000">
            <a:off x="2867040" y="2457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767160" y="4038480"/>
            <a:ext cx="1683360" cy="1923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2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0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va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zev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‘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i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římá spojovací čára 32"/>
          <p:cNvSpPr/>
          <p:nvPr/>
        </p:nvSpPr>
        <p:spPr>
          <a:xfrm>
            <a:off x="762120" y="4495680"/>
            <a:ext cx="1695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římá spojovací čára 30"/>
          <p:cNvSpPr/>
          <p:nvPr/>
        </p:nvSpPr>
        <p:spPr>
          <a:xfrm>
            <a:off x="762120" y="5181480"/>
            <a:ext cx="16952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17"/>
          <p:cNvSpPr/>
          <p:nvPr/>
        </p:nvSpPr>
        <p:spPr>
          <a:xfrm rot="16200000">
            <a:off x="2486160" y="4895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římá spojovací čára 35"/>
          <p:cNvSpPr/>
          <p:nvPr/>
        </p:nvSpPr>
        <p:spPr>
          <a:xfrm flipV="1">
            <a:off x="4895280" y="5238720"/>
            <a:ext cx="16016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á-li skupina objektů podobné </a:t>
            </a:r>
            <a:r>
              <a:rPr b="0" i="1" lang="cs-CZ" sz="2000" spc="-1" strike="noStrike">
                <a:solidFill>
                  <a:srgbClr val="000000"/>
                </a:solidFill>
                <a:latin typeface="Times New Roman"/>
              </a:rPr>
              <a:t>chování, které se řídí stejnými pravidly,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vyčleníme pravidla chování do zvláštního objektu, který nazýváme </a:t>
            </a:r>
            <a:r>
              <a:rPr b="1" lang="cs-CZ" sz="2000" spc="-1" strike="noStrike">
                <a:solidFill>
                  <a:srgbClr val="a50021"/>
                </a:solidFill>
                <a:latin typeface="Arial"/>
              </a:rPr>
              <a:t>tř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předpis chování společný všem objektům ze skupiny. Představuje množinu objektů, které je </a:t>
            </a:r>
            <a:r>
              <a:rPr b="0" i="1" lang="cs-CZ" sz="2800" spc="-1" strike="noStrike">
                <a:solidFill>
                  <a:srgbClr val="a50021"/>
                </a:solidFill>
                <a:latin typeface="Times New Roman"/>
              </a:rPr>
              <a:t>mož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tvoř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Instan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jednotlivý výskyt objektu, objekt </a:t>
            </a:r>
            <a:r>
              <a:rPr b="0" i="1" lang="cs-CZ" sz="2800" spc="-1" strike="noStrike">
                <a:solidFill>
                  <a:srgbClr val="a50021"/>
                </a:solidFill>
                <a:latin typeface="Times New Roman"/>
              </a:rPr>
              <a:t>skutečn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vytvořený. Instance mívá hodno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tj. obsahuje paměť na uchování stav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zn.: třída je také objekt, je instancí tzv. </a:t>
            </a:r>
            <a:r>
              <a:rPr b="1" i="1" lang="cs-CZ" sz="2400" spc="-1" strike="noStrike">
                <a:solidFill>
                  <a:srgbClr val="000000"/>
                </a:solidFill>
                <a:latin typeface="Times New Roman"/>
              </a:rPr>
              <a:t>metatří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a a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ole členů tým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edou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řídí projekt, nemusí být i administrátor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administráto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vede agendu – termíny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analyti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běr požadavků, zadání úloh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vojá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mple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chnická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tester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s výhodou testuje analy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pisovatel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uživatelská dokumentace – analyti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iné rol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správce databáze, grafik, obchodník (marketing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"/>
          <p:cNvSpPr/>
          <p:nvPr/>
        </p:nvSpPr>
        <p:spPr>
          <a:xfrm>
            <a:off x="5053320" y="3402000"/>
            <a:ext cx="361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ont end (UI – např. formulář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ck end (aplikační logi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abá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Násobení 2"/>
          <p:cNvSpPr/>
          <p:nvPr/>
        </p:nvSpPr>
        <p:spPr>
          <a:xfrm>
            <a:off x="4013280" y="3402000"/>
            <a:ext cx="990360" cy="990720"/>
          </a:xfrm>
          <a:custGeom>
            <a:avLst/>
            <a:gdLst/>
            <a:ahLst/>
            <a:rect l="l" t="t" r="r" b="b"/>
            <a:pathLst>
              <a:path w="990600" h="990600">
                <a:moveTo>
                  <a:pt x="155543" y="320291"/>
                </a:moveTo>
                <a:lnTo>
                  <a:pt x="320291" y="155543"/>
                </a:lnTo>
                <a:lnTo>
                  <a:pt x="495300" y="330552"/>
                </a:lnTo>
                <a:lnTo>
                  <a:pt x="670309" y="155543"/>
                </a:lnTo>
                <a:lnTo>
                  <a:pt x="835057" y="320291"/>
                </a:lnTo>
                <a:lnTo>
                  <a:pt x="660048" y="495300"/>
                </a:lnTo>
                <a:lnTo>
                  <a:pt x="835057" y="670309"/>
                </a:lnTo>
                <a:lnTo>
                  <a:pt x="670309" y="835057"/>
                </a:lnTo>
                <a:lnTo>
                  <a:pt x="495300" y="660048"/>
                </a:lnTo>
                <a:lnTo>
                  <a:pt x="320291" y="835057"/>
                </a:lnTo>
                <a:lnTo>
                  <a:pt x="155543" y="670309"/>
                </a:lnTo>
                <a:lnTo>
                  <a:pt x="330552" y="495300"/>
                </a:lnTo>
                <a:lnTo>
                  <a:pt x="155543" y="320291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Tříd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 obecný pojem (např. „pes“). Umožňuje mj. zobecnit vazby mezi objekty (typicky dědění se definuje mezi třídami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Instanc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je jednotlivý výskyt objektu (např.: „Alík“, „Sultán“ a „Brok“ jsou ps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Hodnota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(stav) instance se průběžně mění. Okamžitá hodnota instance bývá uložena v atributech a mění se metod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a a ins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názornění vazeb pomocí tří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7014600" y="1523880"/>
            <a:ext cx="17978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las.schrán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7488360" y="2743200"/>
            <a:ext cx="87552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ka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AutoShape 6"/>
          <p:cNvCxnSpPr>
            <a:stCxn id="431" idx="0"/>
            <a:endCxn id="430" idx="2"/>
          </p:cNvCxnSpPr>
          <p:nvPr/>
        </p:nvCxnSpPr>
        <p:spPr>
          <a:xfrm flipH="1" flipV="1">
            <a:off x="7913160" y="1932840"/>
            <a:ext cx="13680" cy="810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433" name="Text Box 7"/>
          <p:cNvSpPr/>
          <p:nvPr/>
        </p:nvSpPr>
        <p:spPr>
          <a:xfrm>
            <a:off x="7924680" y="2438280"/>
            <a:ext cx="4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"/>
          <p:cNvSpPr/>
          <p:nvPr/>
        </p:nvSpPr>
        <p:spPr>
          <a:xfrm>
            <a:off x="8002440" y="1981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9"/>
          <p:cNvGrpSpPr/>
          <p:nvPr/>
        </p:nvGrpSpPr>
        <p:grpSpPr>
          <a:xfrm>
            <a:off x="380880" y="1447920"/>
            <a:ext cx="1905120" cy="2214000"/>
            <a:chOff x="380880" y="1447920"/>
            <a:chExt cx="1905120" cy="2214000"/>
          </a:xfrm>
        </p:grpSpPr>
        <p:sp>
          <p:nvSpPr>
            <p:cNvPr id="436" name="Text Box 10"/>
            <p:cNvSpPr/>
            <p:nvPr/>
          </p:nvSpPr>
          <p:spPr>
            <a:xfrm>
              <a:off x="380880" y="1447920"/>
              <a:ext cx="1905120" cy="38052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000000"/>
                  </a:solidFill>
                  <a:latin typeface="Arial"/>
                </a:rPr>
                <a:t>F. příjem hovo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 Box 11"/>
            <p:cNvSpPr/>
            <p:nvPr/>
          </p:nvSpPr>
          <p:spPr>
            <a:xfrm>
              <a:off x="380880" y="1828440"/>
              <a:ext cx="1905120" cy="62676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jméno volajícíh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trvání hovor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 Box 12"/>
            <p:cNvSpPr/>
            <p:nvPr/>
          </p:nvSpPr>
          <p:spPr>
            <a:xfrm>
              <a:off x="380880" y="2438280"/>
              <a:ext cx="1905120" cy="1223640"/>
            </a:xfrm>
            <a:prstGeom prst="rect">
              <a:avLst/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Přijm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Ukonči hov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Arial"/>
                </a:rPr>
                <a:t>Nahrávej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13"/>
          <p:cNvSpPr/>
          <p:nvPr/>
        </p:nvSpPr>
        <p:spPr>
          <a:xfrm>
            <a:off x="7473960" y="3276720"/>
            <a:ext cx="8618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v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4"/>
          <p:cNvSpPr/>
          <p:nvPr/>
        </p:nvSpPr>
        <p:spPr>
          <a:xfrm>
            <a:off x="7320960" y="4495680"/>
            <a:ext cx="1172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1" name="AutoShape 15"/>
          <p:cNvCxnSpPr>
            <a:stCxn id="440" idx="0"/>
            <a:endCxn id="439" idx="2"/>
          </p:cNvCxnSpPr>
          <p:nvPr/>
        </p:nvCxnSpPr>
        <p:spPr>
          <a:xfrm flipV="1" rot="16200000">
            <a:off x="7500960" y="4089240"/>
            <a:ext cx="81036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sp>
        <p:nvSpPr>
          <p:cNvPr id="442" name="Text Box 16"/>
          <p:cNvSpPr/>
          <p:nvPr/>
        </p:nvSpPr>
        <p:spPr>
          <a:xfrm>
            <a:off x="7926120" y="4191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7"/>
          <p:cNvSpPr/>
          <p:nvPr/>
        </p:nvSpPr>
        <p:spPr>
          <a:xfrm>
            <a:off x="7926120" y="37339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380880" y="5638680"/>
            <a:ext cx="12956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ratlo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AutoShape 10"/>
          <p:cNvCxnSpPr>
            <a:stCxn id="446" idx="1"/>
            <a:endCxn id="444" idx="3"/>
          </p:cNvCxnSpPr>
          <p:nvPr/>
        </p:nvCxnSpPr>
        <p:spPr>
          <a:xfrm flipH="1">
            <a:off x="1685160" y="5832000"/>
            <a:ext cx="5151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46" name="Text Box 11"/>
          <p:cNvSpPr/>
          <p:nvPr/>
        </p:nvSpPr>
        <p:spPr>
          <a:xfrm>
            <a:off x="2209680" y="5638680"/>
            <a:ext cx="76212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tá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3581280" y="5638680"/>
            <a:ext cx="12956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ubozob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5334120" y="5638680"/>
            <a:ext cx="99036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ch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4"/>
          <p:cNvSpPr/>
          <p:nvPr/>
        </p:nvSpPr>
        <p:spPr>
          <a:xfrm>
            <a:off x="6781680" y="5638680"/>
            <a:ext cx="17528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chna divok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AutoShape 15"/>
          <p:cNvCxnSpPr>
            <a:stCxn id="447" idx="1"/>
            <a:endCxn id="446" idx="3"/>
          </p:cNvCxnSpPr>
          <p:nvPr/>
        </p:nvCxnSpPr>
        <p:spPr>
          <a:xfrm flipH="1">
            <a:off x="2980800" y="5832000"/>
            <a:ext cx="59112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1" name="AutoShape 16"/>
          <p:cNvCxnSpPr>
            <a:stCxn id="448" idx="1"/>
            <a:endCxn id="447" idx="3"/>
          </p:cNvCxnSpPr>
          <p:nvPr/>
        </p:nvCxnSpPr>
        <p:spPr>
          <a:xfrm flipH="1">
            <a:off x="4885560" y="5832000"/>
            <a:ext cx="438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2" name="AutoShape 17"/>
          <p:cNvCxnSpPr>
            <a:stCxn id="449" idx="1"/>
            <a:endCxn id="448" idx="3"/>
          </p:cNvCxnSpPr>
          <p:nvPr/>
        </p:nvCxnSpPr>
        <p:spPr>
          <a:xfrm flipH="1">
            <a:off x="6333480" y="5832000"/>
            <a:ext cx="438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3" name="AutoShape 18"/>
          <p:cNvCxnSpPr>
            <a:stCxn id="454" idx="1"/>
            <a:endCxn id="444" idx="3"/>
          </p:cNvCxnSpPr>
          <p:nvPr/>
        </p:nvCxnSpPr>
        <p:spPr>
          <a:xfrm rot="10800000">
            <a:off x="1685160" y="5831640"/>
            <a:ext cx="667440" cy="457920"/>
          </a:xfrm>
          <a:prstGeom prst="bentConnector3">
            <a:avLst>
              <a:gd name="adj1" fmla="val 4997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54" name="Text Box 19"/>
          <p:cNvSpPr/>
          <p:nvPr/>
        </p:nvSpPr>
        <p:spPr>
          <a:xfrm>
            <a:off x="2362320" y="6095880"/>
            <a:ext cx="76176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AutoShape 20"/>
          <p:cNvCxnSpPr>
            <a:stCxn id="456" idx="1"/>
            <a:endCxn id="446" idx="3"/>
          </p:cNvCxnSpPr>
          <p:nvPr/>
        </p:nvCxnSpPr>
        <p:spPr>
          <a:xfrm rot="10800000">
            <a:off x="2980440" y="5831640"/>
            <a:ext cx="820080" cy="457920"/>
          </a:xfrm>
          <a:prstGeom prst="bentConnector3">
            <a:avLst>
              <a:gd name="adj1" fmla="val 4997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56" name="Text Box 21"/>
          <p:cNvSpPr/>
          <p:nvPr/>
        </p:nvSpPr>
        <p:spPr>
          <a:xfrm>
            <a:off x="3809880" y="6095880"/>
            <a:ext cx="129564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ěv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22"/>
          <p:cNvSpPr/>
          <p:nvPr/>
        </p:nvSpPr>
        <p:spPr>
          <a:xfrm>
            <a:off x="7010280" y="6095880"/>
            <a:ext cx="182880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chna domá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8" name="AutoShape 23"/>
          <p:cNvCxnSpPr>
            <a:stCxn id="457" idx="1"/>
            <a:endCxn id="448" idx="3"/>
          </p:cNvCxnSpPr>
          <p:nvPr/>
        </p:nvCxnSpPr>
        <p:spPr>
          <a:xfrm rot="10800000">
            <a:off x="6333480" y="5831640"/>
            <a:ext cx="667440" cy="457920"/>
          </a:xfrm>
          <a:prstGeom prst="bentConnector3">
            <a:avLst>
              <a:gd name="adj1" fmla="val 4997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59" name="AutoShape 24"/>
          <p:cNvCxnSpPr>
            <a:stCxn id="460" idx="1"/>
            <a:endCxn id="456" idx="3"/>
          </p:cNvCxnSpPr>
          <p:nvPr/>
        </p:nvCxnSpPr>
        <p:spPr>
          <a:xfrm flipH="1">
            <a:off x="5114160" y="6289200"/>
            <a:ext cx="43884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60" name="Text Box 25"/>
          <p:cNvSpPr/>
          <p:nvPr/>
        </p:nvSpPr>
        <p:spPr>
          <a:xfrm>
            <a:off x="5562720" y="6095880"/>
            <a:ext cx="914400" cy="36828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rab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34"/>
          <p:cNvSpPr/>
          <p:nvPr/>
        </p:nvSpPr>
        <p:spPr>
          <a:xfrm rot="16200000">
            <a:off x="5143680" y="61718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5"/>
          <p:cNvSpPr/>
          <p:nvPr/>
        </p:nvSpPr>
        <p:spPr>
          <a:xfrm rot="16200000">
            <a:off x="167652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36"/>
          <p:cNvSpPr/>
          <p:nvPr/>
        </p:nvSpPr>
        <p:spPr>
          <a:xfrm rot="16200000">
            <a:off x="300024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37"/>
          <p:cNvSpPr/>
          <p:nvPr/>
        </p:nvSpPr>
        <p:spPr>
          <a:xfrm rot="16200000">
            <a:off x="487692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38"/>
          <p:cNvSpPr/>
          <p:nvPr/>
        </p:nvSpPr>
        <p:spPr>
          <a:xfrm rot="16200000">
            <a:off x="6334200" y="571464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3057120" y="1828800"/>
            <a:ext cx="1524960" cy="14346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vaz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kaž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981080" y="3962520"/>
            <a:ext cx="1497240" cy="1221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ni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8" name="AutoShape 6"/>
          <p:cNvCxnSpPr>
            <a:stCxn id="467" idx="0"/>
            <a:endCxn id="466" idx="2"/>
          </p:cNvCxnSpPr>
          <p:nvPr/>
        </p:nvCxnSpPr>
        <p:spPr>
          <a:xfrm flipH="1" flipV="1" rot="5400000">
            <a:off x="2931840" y="3074400"/>
            <a:ext cx="686520" cy="10897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69" name="Text Box 7"/>
          <p:cNvSpPr/>
          <p:nvPr/>
        </p:nvSpPr>
        <p:spPr>
          <a:xfrm>
            <a:off x="4114800" y="3962520"/>
            <a:ext cx="1496880" cy="12214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o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č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DejZáz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AutoShape 8"/>
          <p:cNvCxnSpPr>
            <a:stCxn id="469" idx="0"/>
            <a:endCxn id="466" idx="2"/>
          </p:cNvCxnSpPr>
          <p:nvPr/>
        </p:nvCxnSpPr>
        <p:spPr>
          <a:xfrm flipV="1" rot="16200000">
            <a:off x="3998160" y="3096720"/>
            <a:ext cx="686520" cy="10450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71" name="Přímá spojovací čára 32"/>
          <p:cNvSpPr/>
          <p:nvPr/>
        </p:nvSpPr>
        <p:spPr>
          <a:xfrm>
            <a:off x="3048120" y="260028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římá spojovací čára 35"/>
          <p:cNvSpPr/>
          <p:nvPr/>
        </p:nvSpPr>
        <p:spPr>
          <a:xfrm flipV="1">
            <a:off x="4114800" y="4381560"/>
            <a:ext cx="1496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římá spojovací čára 36"/>
          <p:cNvSpPr/>
          <p:nvPr/>
        </p:nvSpPr>
        <p:spPr>
          <a:xfrm flipV="1">
            <a:off x="1980360" y="434340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římá spojovací čára 34"/>
          <p:cNvSpPr/>
          <p:nvPr/>
        </p:nvSpPr>
        <p:spPr>
          <a:xfrm flipV="1">
            <a:off x="4114800" y="4800600"/>
            <a:ext cx="1496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římá spojovací čára 40"/>
          <p:cNvSpPr/>
          <p:nvPr/>
        </p:nvSpPr>
        <p:spPr>
          <a:xfrm flipV="1">
            <a:off x="1980360" y="4753080"/>
            <a:ext cx="1497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9"/>
          <p:cNvSpPr/>
          <p:nvPr/>
        </p:nvSpPr>
        <p:spPr>
          <a:xfrm>
            <a:off x="3714840" y="32670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římá spojovací čára 32"/>
          <p:cNvSpPr/>
          <p:nvPr/>
        </p:nvSpPr>
        <p:spPr>
          <a:xfrm>
            <a:off x="3048120" y="2219400"/>
            <a:ext cx="1523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5492160" y="1752480"/>
            <a:ext cx="11728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čast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6178680" y="2895480"/>
            <a:ext cx="1029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íta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AutoShape 6"/>
          <p:cNvCxnSpPr>
            <a:stCxn id="479" idx="0"/>
            <a:endCxn id="478" idx="2"/>
          </p:cNvCxnSpPr>
          <p:nvPr/>
        </p:nvCxnSpPr>
        <p:spPr>
          <a:xfrm flipV="1" rot="16200000">
            <a:off x="6019200" y="2220120"/>
            <a:ext cx="734040" cy="61668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81" name="Text Box 7"/>
          <p:cNvSpPr/>
          <p:nvPr/>
        </p:nvSpPr>
        <p:spPr>
          <a:xfrm>
            <a:off x="5036040" y="2895480"/>
            <a:ext cx="96084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lově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2" name="AutoShape 8"/>
          <p:cNvCxnSpPr>
            <a:stCxn id="481" idx="0"/>
            <a:endCxn id="483" idx="0"/>
          </p:cNvCxnSpPr>
          <p:nvPr/>
        </p:nvCxnSpPr>
        <p:spPr>
          <a:xfrm flipH="1" flipV="1" rot="5400000">
            <a:off x="5437800" y="2256120"/>
            <a:ext cx="717840" cy="560880"/>
          </a:xfrm>
          <a:prstGeom prst="bentConnector3">
            <a:avLst>
              <a:gd name="adj1" fmla="val 5198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483" name="AutoShape 56"/>
          <p:cNvSpPr/>
          <p:nvPr/>
        </p:nvSpPr>
        <p:spPr>
          <a:xfrm>
            <a:off x="5962680" y="2190600"/>
            <a:ext cx="228600" cy="2286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řída a instance – poznámky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sdílet společnou definici chová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j. tří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robustní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tj. jedna změna se dělá na jednom mís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mít v každém okamžiku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libovolný poče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instancí (potenciální nekonečn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ůže existovat samostatně (v daném okamžiku nemusí mít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žádné instan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 to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objek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můžeme ji považovat za instanci metatříd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3300"/>
                </a:solidFill>
                <a:latin typeface="Arial"/>
              </a:rPr>
              <a:t>zde nemáme na mysli množinu všech aktuálních instancí se společným předpisem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808080"/>
                </a:solidFill>
                <a:latin typeface="Times New Roman"/>
              </a:rPr>
              <a:t>Pozn.:</a:t>
            </a:r>
            <a:r>
              <a:rPr b="0" i="1" lang="cs-CZ" sz="2400" spc="-1" strike="noStrike">
                <a:solidFill>
                  <a:srgbClr val="808080"/>
                </a:solidFill>
                <a:latin typeface="Times New Roman"/>
              </a:rPr>
              <a:t> třída se dá také považovat za množinu všech objektů, které mohou bý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otenciálně</a:t>
            </a:r>
            <a:r>
              <a:rPr b="0" i="1" lang="cs-CZ" sz="2400" spc="-1" strike="noStrike">
                <a:solidFill>
                  <a:srgbClr val="808080"/>
                </a:solidFill>
                <a:latin typeface="Times New Roman"/>
              </a:rPr>
              <a:t> instanciovány podle jednoho předpisu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jektové model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ýza a design systém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Proč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ý smysl má mít systém? Komu a k čemu má slouž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C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a50021"/>
                </a:solidFill>
                <a:latin typeface="Times New Roman"/>
              </a:rPr>
              <a:t>požadav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funkč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Co má systém dělat? Co nesmí děl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a50021"/>
                </a:solidFill>
                <a:latin typeface="Times New Roman"/>
              </a:rPr>
              <a:t>nefunkč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omezení a pravidla, např. rychlost, výkon, spolehlivost, možnost úprav a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ou musí mít vnitřní strukturu, aby to mohl děl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Ja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ými prostředky vytvoříme systém? (aplikace v Delphi, databáze, hypertextový systém…) Jak ty prostředky použije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á omezení musíme respektov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, počet a kvalifikace vývojářů, vývojové nástroje, cílové prostředí, příp. peníze aj. prostřed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 na výkon (rychlost), spolehlivost, rozmístění a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ýza požadav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Účel systém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do a k čemu potřebuje systé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aký problém systém vyřeší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aký to má smys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Chování systému navenek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tj. vůči prostředí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 má systém dělat, co nesmí děl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hování věci navenek nám umožňu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mezit věc ve svět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lišit věc od jiných vě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it totožnost vě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jmenovat věc, vytvořit pojem, pojmově o ní uvažo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nalýza požadavk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del požadavk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se case diagram (UC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ehled o chování systému naven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le uživatelů v okolí systému a funkce systému, kterými interaguje s uživate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hruba co funkční požadavek, to use-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quence diagram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ommunication dia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robné scénáře žádoucího a nežádoucího ch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iagramy objektových model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užívám UML</a:t>
            </a:r>
            <a:br>
              <a:rPr sz="3200"/>
            </a:br>
            <a:r>
              <a:rPr b="1" i="1" lang="cs-CZ" sz="3200" spc="-1" strike="noStrike">
                <a:solidFill>
                  <a:srgbClr val="a50021"/>
                </a:solidFill>
                <a:latin typeface="Times New Roman"/>
              </a:rPr>
              <a:t>(Unified Modeling Languag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iz </a:t>
            </a: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http://www.omg.org/technology/documents/formal/uml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 toho zejména viz</a:t>
            </a:r>
            <a:br>
              <a:rPr sz="2800"/>
            </a:b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http://www.omg.org/cgi-bin/doc?formal/07-02-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kurzu MIT používají podobné, ale trochu odlišné diagramy, vi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K:\IVT\ryant\cetba\mit_sw_engineering\lec6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K:\IVT\ryant\cetba\mit_sw_engineering\lec6_summary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3"/>
          <p:cNvSpPr/>
          <p:nvPr/>
        </p:nvSpPr>
        <p:spPr>
          <a:xfrm>
            <a:off x="2286000" y="1600200"/>
            <a:ext cx="4648320" cy="457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3"/>
          <p:cNvSpPr/>
          <p:nvPr/>
        </p:nvSpPr>
        <p:spPr>
          <a:xfrm>
            <a:off x="2590920" y="205740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4"/>
          <p:cNvSpPr/>
          <p:nvPr/>
        </p:nvSpPr>
        <p:spPr>
          <a:xfrm>
            <a:off x="3352680" y="480060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Group 11"/>
          <p:cNvGrpSpPr/>
          <p:nvPr/>
        </p:nvGrpSpPr>
        <p:grpSpPr>
          <a:xfrm>
            <a:off x="7238880" y="3809880"/>
            <a:ext cx="1066680" cy="1447920"/>
            <a:chOff x="7238880" y="3809880"/>
            <a:chExt cx="1066680" cy="1447920"/>
          </a:xfrm>
        </p:grpSpPr>
        <p:sp>
          <p:nvSpPr>
            <p:cNvPr id="501" name="Oval 12"/>
            <p:cNvSpPr/>
            <p:nvPr/>
          </p:nvSpPr>
          <p:spPr>
            <a:xfrm>
              <a:off x="7543440" y="3809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13"/>
            <p:cNvSpPr/>
            <p:nvPr/>
          </p:nvSpPr>
          <p:spPr>
            <a:xfrm>
              <a:off x="7772040" y="4267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14"/>
            <p:cNvSpPr/>
            <p:nvPr/>
          </p:nvSpPr>
          <p:spPr>
            <a:xfrm>
              <a:off x="7238880" y="4495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15"/>
            <p:cNvSpPr/>
            <p:nvPr/>
          </p:nvSpPr>
          <p:spPr>
            <a:xfrm flipH="1">
              <a:off x="7391160" y="4876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16"/>
            <p:cNvSpPr/>
            <p:nvPr/>
          </p:nvSpPr>
          <p:spPr>
            <a:xfrm>
              <a:off x="7772040" y="4876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Text Box 17"/>
          <p:cNvSpPr/>
          <p:nvPr/>
        </p:nvSpPr>
        <p:spPr>
          <a:xfrm>
            <a:off x="307080" y="312408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AutoShape 19"/>
          <p:cNvCxnSpPr>
            <a:stCxn id="508" idx="0"/>
            <a:endCxn id="498" idx="2"/>
          </p:cNvCxnSpPr>
          <p:nvPr/>
        </p:nvCxnSpPr>
        <p:spPr>
          <a:xfrm>
            <a:off x="1447560" y="2247480"/>
            <a:ext cx="11437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AutoShape 20"/>
          <p:cNvCxnSpPr>
            <a:stCxn id="498" idx="3"/>
            <a:endCxn id="499" idx="1"/>
          </p:cNvCxnSpPr>
          <p:nvPr/>
        </p:nvCxnSpPr>
        <p:spPr>
          <a:xfrm>
            <a:off x="2903040" y="2968200"/>
            <a:ext cx="762840" cy="1987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10" name="AutoShape 21"/>
          <p:cNvCxnSpPr>
            <a:stCxn id="511" idx="7"/>
            <a:endCxn id="512" idx="0"/>
          </p:cNvCxnSpPr>
          <p:nvPr/>
        </p:nvCxnSpPr>
        <p:spPr>
          <a:xfrm flipV="1">
            <a:off x="6468840" y="2399760"/>
            <a:ext cx="99900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3" name="AutoShape 22"/>
          <p:cNvCxnSpPr>
            <a:stCxn id="499" idx="7"/>
            <a:endCxn id="503" idx="0"/>
          </p:cNvCxnSpPr>
          <p:nvPr/>
        </p:nvCxnSpPr>
        <p:spPr>
          <a:xfrm flipV="1">
            <a:off x="5173200" y="4457520"/>
            <a:ext cx="2066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4" name="Text Box 23"/>
          <p:cNvSpPr/>
          <p:nvPr/>
        </p:nvSpPr>
        <p:spPr>
          <a:xfrm>
            <a:off x="7127280" y="533412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4"/>
          <p:cNvSpPr/>
          <p:nvPr/>
        </p:nvSpPr>
        <p:spPr>
          <a:xfrm>
            <a:off x="2348640" y="163656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zev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Oval 4"/>
          <p:cNvSpPr/>
          <p:nvPr/>
        </p:nvSpPr>
        <p:spPr>
          <a:xfrm>
            <a:off x="4648320" y="259092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Group 11"/>
          <p:cNvGrpSpPr/>
          <p:nvPr/>
        </p:nvGrpSpPr>
        <p:grpSpPr>
          <a:xfrm>
            <a:off x="7467480" y="1752480"/>
            <a:ext cx="1066680" cy="1447920"/>
            <a:chOff x="7467480" y="1752480"/>
            <a:chExt cx="1066680" cy="1447920"/>
          </a:xfrm>
        </p:grpSpPr>
        <p:sp>
          <p:nvSpPr>
            <p:cNvPr id="517" name="Oval 12"/>
            <p:cNvSpPr/>
            <p:nvPr/>
          </p:nvSpPr>
          <p:spPr>
            <a:xfrm>
              <a:off x="7772040" y="17524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>
              <a:off x="8000640" y="22096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14"/>
            <p:cNvSpPr/>
            <p:nvPr/>
          </p:nvSpPr>
          <p:spPr>
            <a:xfrm>
              <a:off x="7467480" y="24382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15"/>
            <p:cNvSpPr/>
            <p:nvPr/>
          </p:nvSpPr>
          <p:spPr>
            <a:xfrm flipH="1">
              <a:off x="7619760" y="28191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16"/>
            <p:cNvSpPr/>
            <p:nvPr/>
          </p:nvSpPr>
          <p:spPr>
            <a:xfrm>
              <a:off x="8000640" y="28191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2" name="Group 5"/>
          <p:cNvGrpSpPr/>
          <p:nvPr/>
        </p:nvGrpSpPr>
        <p:grpSpPr>
          <a:xfrm>
            <a:off x="380880" y="1523880"/>
            <a:ext cx="1066680" cy="1447920"/>
            <a:chOff x="380880" y="1523880"/>
            <a:chExt cx="1066680" cy="1447920"/>
          </a:xfrm>
        </p:grpSpPr>
        <p:sp>
          <p:nvSpPr>
            <p:cNvPr id="523" name="Oval 6"/>
            <p:cNvSpPr/>
            <p:nvPr/>
          </p:nvSpPr>
          <p:spPr>
            <a:xfrm>
              <a:off x="685440" y="1523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7"/>
            <p:cNvSpPr/>
            <p:nvPr/>
          </p:nvSpPr>
          <p:spPr>
            <a:xfrm>
              <a:off x="914040" y="1981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8"/>
            <p:cNvSpPr/>
            <p:nvPr/>
          </p:nvSpPr>
          <p:spPr>
            <a:xfrm>
              <a:off x="380880" y="2209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9"/>
            <p:cNvSpPr/>
            <p:nvPr/>
          </p:nvSpPr>
          <p:spPr>
            <a:xfrm flipH="1">
              <a:off x="533160" y="2590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10"/>
            <p:cNvSpPr/>
            <p:nvPr/>
          </p:nvSpPr>
          <p:spPr>
            <a:xfrm>
              <a:off x="914040" y="2590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Text Box 17"/>
          <p:cNvSpPr/>
          <p:nvPr/>
        </p:nvSpPr>
        <p:spPr>
          <a:xfrm>
            <a:off x="7355520" y="320040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9" name="AutoShape 20"/>
          <p:cNvCxnSpPr>
            <a:stCxn id="499" idx="0"/>
            <a:endCxn id="511" idx="3"/>
          </p:cNvCxnSpPr>
          <p:nvPr/>
        </p:nvCxnSpPr>
        <p:spPr>
          <a:xfrm flipV="1">
            <a:off x="4419360" y="3501360"/>
            <a:ext cx="541800" cy="1299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30" name="Text Box 40"/>
          <p:cNvSpPr/>
          <p:nvPr/>
        </p:nvSpPr>
        <p:spPr>
          <a:xfrm>
            <a:off x="3277080" y="3809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1"/>
          <p:cNvSpPr/>
          <p:nvPr/>
        </p:nvSpPr>
        <p:spPr>
          <a:xfrm>
            <a:off x="4648680" y="4114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3"/>
          <p:cNvSpPr/>
          <p:nvPr/>
        </p:nvSpPr>
        <p:spPr>
          <a:xfrm>
            <a:off x="2286000" y="1600200"/>
            <a:ext cx="4648320" cy="4572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Oval 3"/>
          <p:cNvSpPr/>
          <p:nvPr/>
        </p:nvSpPr>
        <p:spPr>
          <a:xfrm>
            <a:off x="2590920" y="205740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Oval 4"/>
          <p:cNvSpPr/>
          <p:nvPr/>
        </p:nvSpPr>
        <p:spPr>
          <a:xfrm>
            <a:off x="3352680" y="4800600"/>
            <a:ext cx="213372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6" name="Group 11"/>
          <p:cNvGrpSpPr/>
          <p:nvPr/>
        </p:nvGrpSpPr>
        <p:grpSpPr>
          <a:xfrm>
            <a:off x="7238880" y="3809880"/>
            <a:ext cx="1066680" cy="1447920"/>
            <a:chOff x="7238880" y="3809880"/>
            <a:chExt cx="1066680" cy="1447920"/>
          </a:xfrm>
        </p:grpSpPr>
        <p:sp>
          <p:nvSpPr>
            <p:cNvPr id="537" name="Oval 12"/>
            <p:cNvSpPr/>
            <p:nvPr/>
          </p:nvSpPr>
          <p:spPr>
            <a:xfrm>
              <a:off x="7543440" y="3809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13"/>
            <p:cNvSpPr/>
            <p:nvPr/>
          </p:nvSpPr>
          <p:spPr>
            <a:xfrm>
              <a:off x="7772040" y="4267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14"/>
            <p:cNvSpPr/>
            <p:nvPr/>
          </p:nvSpPr>
          <p:spPr>
            <a:xfrm>
              <a:off x="7238880" y="4495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15"/>
            <p:cNvSpPr/>
            <p:nvPr/>
          </p:nvSpPr>
          <p:spPr>
            <a:xfrm flipH="1">
              <a:off x="7391160" y="4876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16"/>
            <p:cNvSpPr/>
            <p:nvPr/>
          </p:nvSpPr>
          <p:spPr>
            <a:xfrm>
              <a:off x="7772040" y="4876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Text Box 17"/>
          <p:cNvSpPr/>
          <p:nvPr/>
        </p:nvSpPr>
        <p:spPr>
          <a:xfrm>
            <a:off x="345960" y="312408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AutoShape 19"/>
          <p:cNvCxnSpPr>
            <a:stCxn id="544" idx="0"/>
            <a:endCxn id="534" idx="2"/>
          </p:cNvCxnSpPr>
          <p:nvPr/>
        </p:nvCxnSpPr>
        <p:spPr>
          <a:xfrm>
            <a:off x="1447560" y="2247480"/>
            <a:ext cx="1143720" cy="343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5" name="AutoShape 20"/>
          <p:cNvCxnSpPr>
            <a:stCxn id="534" idx="3"/>
            <a:endCxn id="535" idx="1"/>
          </p:cNvCxnSpPr>
          <p:nvPr/>
        </p:nvCxnSpPr>
        <p:spPr>
          <a:xfrm>
            <a:off x="2903040" y="2968200"/>
            <a:ext cx="762840" cy="19879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546" name="AutoShape 21"/>
          <p:cNvCxnSpPr>
            <a:stCxn id="547" idx="7"/>
            <a:endCxn id="548" idx="0"/>
          </p:cNvCxnSpPr>
          <p:nvPr/>
        </p:nvCxnSpPr>
        <p:spPr>
          <a:xfrm flipV="1">
            <a:off x="6468840" y="2399760"/>
            <a:ext cx="999000" cy="34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9" name="AutoShape 22"/>
          <p:cNvCxnSpPr>
            <a:stCxn id="535" idx="7"/>
            <a:endCxn id="539" idx="0"/>
          </p:cNvCxnSpPr>
          <p:nvPr/>
        </p:nvCxnSpPr>
        <p:spPr>
          <a:xfrm flipV="1">
            <a:off x="5173200" y="4457520"/>
            <a:ext cx="206604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0" name="Text Box 23"/>
          <p:cNvSpPr/>
          <p:nvPr/>
        </p:nvSpPr>
        <p:spPr>
          <a:xfrm>
            <a:off x="7222320" y="5334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lad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4"/>
          <p:cNvSpPr/>
          <p:nvPr/>
        </p:nvSpPr>
        <p:spPr>
          <a:xfrm>
            <a:off x="2349000" y="16365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c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4"/>
          <p:cNvSpPr/>
          <p:nvPr/>
        </p:nvSpPr>
        <p:spPr>
          <a:xfrm>
            <a:off x="4648320" y="2590920"/>
            <a:ext cx="213336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k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Group 11"/>
          <p:cNvGrpSpPr/>
          <p:nvPr/>
        </p:nvGrpSpPr>
        <p:grpSpPr>
          <a:xfrm>
            <a:off x="7467480" y="1752480"/>
            <a:ext cx="1066680" cy="1447920"/>
            <a:chOff x="7467480" y="1752480"/>
            <a:chExt cx="1066680" cy="1447920"/>
          </a:xfrm>
        </p:grpSpPr>
        <p:sp>
          <p:nvSpPr>
            <p:cNvPr id="553" name="Oval 12"/>
            <p:cNvSpPr/>
            <p:nvPr/>
          </p:nvSpPr>
          <p:spPr>
            <a:xfrm>
              <a:off x="7772040" y="17524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13"/>
            <p:cNvSpPr/>
            <p:nvPr/>
          </p:nvSpPr>
          <p:spPr>
            <a:xfrm>
              <a:off x="8000640" y="22096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14"/>
            <p:cNvSpPr/>
            <p:nvPr/>
          </p:nvSpPr>
          <p:spPr>
            <a:xfrm>
              <a:off x="7467480" y="24382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15"/>
            <p:cNvSpPr/>
            <p:nvPr/>
          </p:nvSpPr>
          <p:spPr>
            <a:xfrm flipH="1">
              <a:off x="7619760" y="28191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6"/>
            <p:cNvSpPr/>
            <p:nvPr/>
          </p:nvSpPr>
          <p:spPr>
            <a:xfrm>
              <a:off x="8000640" y="28191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Group 5"/>
          <p:cNvGrpSpPr/>
          <p:nvPr/>
        </p:nvGrpSpPr>
        <p:grpSpPr>
          <a:xfrm>
            <a:off x="380880" y="1523880"/>
            <a:ext cx="1066680" cy="1447920"/>
            <a:chOff x="380880" y="1523880"/>
            <a:chExt cx="1066680" cy="1447920"/>
          </a:xfrm>
        </p:grpSpPr>
        <p:sp>
          <p:nvSpPr>
            <p:cNvPr id="559" name="Oval 6"/>
            <p:cNvSpPr/>
            <p:nvPr/>
          </p:nvSpPr>
          <p:spPr>
            <a:xfrm>
              <a:off x="685440" y="1523880"/>
              <a:ext cx="457200" cy="457200"/>
            </a:xfrm>
            <a:prstGeom prst="ellipse">
              <a:avLst/>
            </a:prstGeom>
            <a:solidFill>
              <a:srgbClr val="bbe0e3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7"/>
            <p:cNvSpPr/>
            <p:nvPr/>
          </p:nvSpPr>
          <p:spPr>
            <a:xfrm>
              <a:off x="914040" y="1981080"/>
              <a:ext cx="0" cy="685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8"/>
            <p:cNvSpPr/>
            <p:nvPr/>
          </p:nvSpPr>
          <p:spPr>
            <a:xfrm>
              <a:off x="380880" y="2209680"/>
              <a:ext cx="1066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9"/>
            <p:cNvSpPr/>
            <p:nvPr/>
          </p:nvSpPr>
          <p:spPr>
            <a:xfrm flipH="1">
              <a:off x="533160" y="2590560"/>
              <a:ext cx="38088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10"/>
            <p:cNvSpPr/>
            <p:nvPr/>
          </p:nvSpPr>
          <p:spPr>
            <a:xfrm>
              <a:off x="914040" y="2590560"/>
              <a:ext cx="38124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Text Box 17"/>
          <p:cNvSpPr/>
          <p:nvPr/>
        </p:nvSpPr>
        <p:spPr>
          <a:xfrm>
            <a:off x="7318080" y="320040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ásobo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5" name="AutoShape 20"/>
          <p:cNvCxnSpPr>
            <a:stCxn id="535" idx="0"/>
            <a:endCxn id="547" idx="3"/>
          </p:cNvCxnSpPr>
          <p:nvPr/>
        </p:nvCxnSpPr>
        <p:spPr>
          <a:xfrm flipV="1">
            <a:off x="4419360" y="3501360"/>
            <a:ext cx="541800" cy="12992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566" name="Text Box 34"/>
          <p:cNvSpPr/>
          <p:nvPr/>
        </p:nvSpPr>
        <p:spPr>
          <a:xfrm>
            <a:off x="3277080" y="380988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35"/>
          <p:cNvSpPr/>
          <p:nvPr/>
        </p:nvSpPr>
        <p:spPr>
          <a:xfrm>
            <a:off x="4648680" y="41148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ží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Role členů v agilním týmu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edou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řídí projek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administráto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vede agendu – termíny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b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zadavate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konzultuje a mění zadání, testuje systé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analyti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analýza a model požadavků, koncept.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vývojá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sty jednotek (napřed te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sign (na úrovni jednoho modul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ementace (řídí se te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á dokumentace (generuje se z kód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tester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testuje zadavatel, vývojář píše jednotkové tes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spiso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uživatelská dokumentace – analyti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iné role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př. grafik, obchodník (marketing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adř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l systému, tj. vyjadřuje funkce (role) systému vzhledem k jednotlivým rolím uživatelů (postavá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hled o chování systému naven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u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způsob užit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vyjadřuje </a:t>
            </a:r>
            <a:r>
              <a:rPr b="0" i="1" lang="cs-CZ" sz="1800" spc="-1" strike="noStrike">
                <a:solidFill>
                  <a:srgbClr val="a50021"/>
                </a:solidFill>
                <a:latin typeface="Arial"/>
              </a:rPr>
              <a:t>funkc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ystému, která je užitečná k naplnění účel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je to </a:t>
            </a:r>
            <a:r>
              <a:rPr b="0" i="1" lang="cs-CZ" sz="1800" spc="-1" strike="noStrike">
                <a:solidFill>
                  <a:srgbClr val="a50021"/>
                </a:solidFill>
                <a:latin typeface="Arial"/>
              </a:rPr>
              <a:t>role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terou systém hraje v okolním prostřed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ostav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je to </a:t>
            </a:r>
            <a:r>
              <a:rPr b="0" i="1" lang="cs-CZ" sz="1800" spc="-1" strike="noStrike">
                <a:solidFill>
                  <a:srgbClr val="a50021"/>
                </a:solidFill>
                <a:latin typeface="Arial"/>
              </a:rPr>
              <a:t>ro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soby nebo věci v okolí systému; tato role představuje jeden z dílčích účelů, k jehož naplnění činnost systému přisp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interak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ezi postavami a způsoby 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vazb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ezi způsoby užití: užívá (uses), rozšiřuje (exten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k využijeme UC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akce naznačuje potřebu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interfejsové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b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naznačuje potřebu </a:t>
            </a:r>
            <a:r>
              <a:rPr b="1" lang="cs-CZ" sz="1800" spc="-1" strike="noStrike">
                <a:solidFill>
                  <a:srgbClr val="a50021"/>
                </a:solidFill>
                <a:latin typeface="Arial"/>
              </a:rPr>
              <a:t>řídicíh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ob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se Case Diagram (UCD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diagram způsobů uži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Oval 3"/>
          <p:cNvSpPr/>
          <p:nvPr/>
        </p:nvSpPr>
        <p:spPr>
          <a:xfrm>
            <a:off x="228600" y="3276720"/>
            <a:ext cx="914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5"/>
          <p:cNvGrpSpPr/>
          <p:nvPr/>
        </p:nvGrpSpPr>
        <p:grpSpPr>
          <a:xfrm>
            <a:off x="457200" y="4114800"/>
            <a:ext cx="393840" cy="533520"/>
            <a:chOff x="457200" y="4114800"/>
            <a:chExt cx="393840" cy="533520"/>
          </a:xfrm>
        </p:grpSpPr>
        <p:sp>
          <p:nvSpPr>
            <p:cNvPr id="572" name="Oval 6"/>
            <p:cNvSpPr/>
            <p:nvPr/>
          </p:nvSpPr>
          <p:spPr>
            <a:xfrm>
              <a:off x="569520" y="4114800"/>
              <a:ext cx="16884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7"/>
            <p:cNvSpPr/>
            <p:nvPr/>
          </p:nvSpPr>
          <p:spPr>
            <a:xfrm>
              <a:off x="654120" y="42832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8"/>
            <p:cNvSpPr/>
            <p:nvPr/>
          </p:nvSpPr>
          <p:spPr>
            <a:xfrm>
              <a:off x="457200" y="4367520"/>
              <a:ext cx="39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9"/>
            <p:cNvSpPr/>
            <p:nvPr/>
          </p:nvSpPr>
          <p:spPr>
            <a:xfrm flipH="1">
              <a:off x="513360" y="45079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10"/>
            <p:cNvSpPr/>
            <p:nvPr/>
          </p:nvSpPr>
          <p:spPr>
            <a:xfrm>
              <a:off x="654120" y="4507920"/>
              <a:ext cx="14076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7" name="Text Box 17"/>
          <p:cNvSpPr/>
          <p:nvPr/>
        </p:nvSpPr>
        <p:spPr>
          <a:xfrm>
            <a:off x="329400" y="4648320"/>
            <a:ext cx="59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1600200" y="31240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4"/>
          <p:cNvSpPr/>
          <p:nvPr/>
        </p:nvSpPr>
        <p:spPr>
          <a:xfrm>
            <a:off x="1068840" y="259092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tava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7"/>
          <p:cNvSpPr/>
          <p:nvPr/>
        </p:nvSpPr>
        <p:spPr>
          <a:xfrm>
            <a:off x="1600200" y="38098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8"/>
          <p:cNvSpPr/>
          <p:nvPr/>
        </p:nvSpPr>
        <p:spPr>
          <a:xfrm>
            <a:off x="1600200" y="47242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9"/>
          <p:cNvSpPr/>
          <p:nvPr/>
        </p:nvSpPr>
        <p:spPr>
          <a:xfrm>
            <a:off x="7315200" y="33526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7315200" y="426708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AutoShape 14"/>
          <p:cNvCxnSpPr>
            <a:stCxn id="579" idx="2"/>
            <a:endCxn id="581" idx="0"/>
          </p:cNvCxnSpPr>
          <p:nvPr/>
        </p:nvCxnSpPr>
        <p:spPr>
          <a:xfrm>
            <a:off x="1638000" y="358092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6" name="AutoShape 15"/>
          <p:cNvCxnSpPr>
            <a:stCxn id="581" idx="2"/>
            <a:endCxn id="582" idx="0"/>
          </p:cNvCxnSpPr>
          <p:nvPr/>
        </p:nvCxnSpPr>
        <p:spPr>
          <a:xfrm>
            <a:off x="1638000" y="42670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7" name="AutoShape 16"/>
          <p:cNvCxnSpPr>
            <a:stCxn id="583" idx="2"/>
            <a:endCxn id="584" idx="0"/>
          </p:cNvCxnSpPr>
          <p:nvPr/>
        </p:nvCxnSpPr>
        <p:spPr>
          <a:xfrm>
            <a:off x="7353000" y="38098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588" name="AutoShape 18"/>
          <p:cNvCxnSpPr>
            <a:stCxn id="579" idx="3"/>
            <a:endCxn id="583" idx="0"/>
          </p:cNvCxnSpPr>
          <p:nvPr/>
        </p:nvCxnSpPr>
        <p:spPr>
          <a:xfrm>
            <a:off x="1676160" y="33523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9" name="AutoShape 19"/>
          <p:cNvCxnSpPr>
            <a:stCxn id="583" idx="2"/>
            <a:endCxn id="581" idx="0"/>
          </p:cNvCxnSpPr>
          <p:nvPr/>
        </p:nvCxnSpPr>
        <p:spPr>
          <a:xfrm flipH="1">
            <a:off x="1637640" y="38095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0" name="AutoShape 21"/>
          <p:cNvCxnSpPr>
            <a:stCxn id="581" idx="2"/>
            <a:endCxn id="584" idx="0"/>
          </p:cNvCxnSpPr>
          <p:nvPr/>
        </p:nvCxnSpPr>
        <p:spPr>
          <a:xfrm>
            <a:off x="1638000" y="42667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1" name="AutoShape 22"/>
          <p:cNvCxnSpPr>
            <a:stCxn id="584" idx="1"/>
            <a:endCxn id="582" idx="0"/>
          </p:cNvCxnSpPr>
          <p:nvPr/>
        </p:nvCxnSpPr>
        <p:spPr>
          <a:xfrm flipH="1">
            <a:off x="1637640" y="47239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92" name="Text Box 25"/>
          <p:cNvSpPr/>
          <p:nvPr/>
        </p:nvSpPr>
        <p:spPr>
          <a:xfrm>
            <a:off x="2364480" y="30481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32"/>
          <p:cNvSpPr/>
          <p:nvPr/>
        </p:nvSpPr>
        <p:spPr>
          <a:xfrm>
            <a:off x="6478920" y="266688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ůsob užití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3"/>
          <p:cNvSpPr/>
          <p:nvPr/>
        </p:nvSpPr>
        <p:spPr>
          <a:xfrm>
            <a:off x="6705720" y="2286000"/>
            <a:ext cx="8380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U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Group 5"/>
          <p:cNvGrpSpPr/>
          <p:nvPr/>
        </p:nvGrpSpPr>
        <p:grpSpPr>
          <a:xfrm>
            <a:off x="1447920" y="2057400"/>
            <a:ext cx="393480" cy="533520"/>
            <a:chOff x="1447920" y="2057400"/>
            <a:chExt cx="393480" cy="533520"/>
          </a:xfrm>
        </p:grpSpPr>
        <p:sp>
          <p:nvSpPr>
            <p:cNvPr id="596" name="Oval 6"/>
            <p:cNvSpPr/>
            <p:nvPr/>
          </p:nvSpPr>
          <p:spPr>
            <a:xfrm>
              <a:off x="1560240" y="2057400"/>
              <a:ext cx="16848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7"/>
            <p:cNvSpPr/>
            <p:nvPr/>
          </p:nvSpPr>
          <p:spPr>
            <a:xfrm>
              <a:off x="1644480" y="22258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8"/>
            <p:cNvSpPr/>
            <p:nvPr/>
          </p:nvSpPr>
          <p:spPr>
            <a:xfrm>
              <a:off x="1447920" y="23101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9"/>
            <p:cNvSpPr/>
            <p:nvPr/>
          </p:nvSpPr>
          <p:spPr>
            <a:xfrm flipH="1">
              <a:off x="15040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10"/>
            <p:cNvSpPr/>
            <p:nvPr/>
          </p:nvSpPr>
          <p:spPr>
            <a:xfrm>
              <a:off x="16444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Text Box 25"/>
          <p:cNvSpPr/>
          <p:nvPr/>
        </p:nvSpPr>
        <p:spPr>
          <a:xfrm>
            <a:off x="5717520" y="34290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5"/>
          <p:cNvSpPr/>
          <p:nvPr/>
        </p:nvSpPr>
        <p:spPr>
          <a:xfrm>
            <a:off x="2364480" y="38862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5"/>
          <p:cNvSpPr/>
          <p:nvPr/>
        </p:nvSpPr>
        <p:spPr>
          <a:xfrm>
            <a:off x="5717520" y="434340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 rot="16200000">
            <a:off x="1117440" y="32252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5"/>
          <p:cNvSpPr/>
          <p:nvPr/>
        </p:nvSpPr>
        <p:spPr>
          <a:xfrm rot="16200000">
            <a:off x="1117440" y="391104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5"/>
          <p:cNvSpPr/>
          <p:nvPr/>
        </p:nvSpPr>
        <p:spPr>
          <a:xfrm rot="16200000">
            <a:off x="1122120" y="482796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5"/>
          <p:cNvSpPr/>
          <p:nvPr/>
        </p:nvSpPr>
        <p:spPr>
          <a:xfrm rot="5400000">
            <a:off x="7311960" y="3426840"/>
            <a:ext cx="57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5"/>
          <p:cNvSpPr/>
          <p:nvPr/>
        </p:nvSpPr>
        <p:spPr>
          <a:xfrm rot="5400000">
            <a:off x="7290720" y="4515480"/>
            <a:ext cx="62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akce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1600200" y="31240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1069560" y="259092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ava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1600200" y="38098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8"/>
          <p:cNvSpPr/>
          <p:nvPr/>
        </p:nvSpPr>
        <p:spPr>
          <a:xfrm>
            <a:off x="1600200" y="47242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7315200" y="33526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12"/>
          <p:cNvSpPr/>
          <p:nvPr/>
        </p:nvSpPr>
        <p:spPr>
          <a:xfrm>
            <a:off x="7315200" y="426708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6" name="AutoShape 14"/>
          <p:cNvCxnSpPr>
            <a:stCxn id="610" idx="2"/>
            <a:endCxn id="612" idx="0"/>
          </p:cNvCxnSpPr>
          <p:nvPr/>
        </p:nvCxnSpPr>
        <p:spPr>
          <a:xfrm>
            <a:off x="1638000" y="358092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7" name="AutoShape 15"/>
          <p:cNvCxnSpPr>
            <a:stCxn id="612" idx="2"/>
            <a:endCxn id="613" idx="0"/>
          </p:cNvCxnSpPr>
          <p:nvPr/>
        </p:nvCxnSpPr>
        <p:spPr>
          <a:xfrm>
            <a:off x="1638000" y="42670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8" name="AutoShape 16"/>
          <p:cNvCxnSpPr>
            <a:stCxn id="614" idx="2"/>
            <a:endCxn id="615" idx="0"/>
          </p:cNvCxnSpPr>
          <p:nvPr/>
        </p:nvCxnSpPr>
        <p:spPr>
          <a:xfrm>
            <a:off x="7353000" y="380988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19" name="AutoShape 18"/>
          <p:cNvCxnSpPr>
            <a:stCxn id="610" idx="3"/>
            <a:endCxn id="614" idx="0"/>
          </p:cNvCxnSpPr>
          <p:nvPr/>
        </p:nvCxnSpPr>
        <p:spPr>
          <a:xfrm>
            <a:off x="1676160" y="33523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0" name="AutoShape 19"/>
          <p:cNvCxnSpPr>
            <a:stCxn id="614" idx="2"/>
            <a:endCxn id="612" idx="0"/>
          </p:cNvCxnSpPr>
          <p:nvPr/>
        </p:nvCxnSpPr>
        <p:spPr>
          <a:xfrm flipH="1">
            <a:off x="1637640" y="38095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1" name="AutoShape 21"/>
          <p:cNvCxnSpPr>
            <a:stCxn id="612" idx="2"/>
            <a:endCxn id="615" idx="0"/>
          </p:cNvCxnSpPr>
          <p:nvPr/>
        </p:nvCxnSpPr>
        <p:spPr>
          <a:xfrm>
            <a:off x="1638000" y="4266720"/>
            <a:ext cx="57157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22" name="AutoShape 22"/>
          <p:cNvCxnSpPr>
            <a:stCxn id="615" idx="1"/>
            <a:endCxn id="613" idx="0"/>
          </p:cNvCxnSpPr>
          <p:nvPr/>
        </p:nvCxnSpPr>
        <p:spPr>
          <a:xfrm flipH="1">
            <a:off x="1637640" y="4723920"/>
            <a:ext cx="567756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23" name="Text Box 25"/>
          <p:cNvSpPr/>
          <p:nvPr/>
        </p:nvSpPr>
        <p:spPr>
          <a:xfrm>
            <a:off x="2365560" y="304812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9"/>
          <p:cNvSpPr/>
          <p:nvPr/>
        </p:nvSpPr>
        <p:spPr>
          <a:xfrm>
            <a:off x="2199600" y="3429000"/>
            <a:ext cx="50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eno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za 13,50“, „mléko odstředěné za 12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30"/>
          <p:cNvSpPr/>
          <p:nvPr/>
        </p:nvSpPr>
        <p:spPr>
          <a:xfrm>
            <a:off x="1748160" y="4343400"/>
            <a:ext cx="533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účet nebo dodací list a faktura: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„mléko polotučné 1l za 13,50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289960" y="3886200"/>
            <a:ext cx="314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dej: „mléko polotučné 1 lit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32"/>
          <p:cNvSpPr/>
          <p:nvPr/>
        </p:nvSpPr>
        <p:spPr>
          <a:xfrm>
            <a:off x="6708240" y="26668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3"/>
          <p:cNvSpPr/>
          <p:nvPr/>
        </p:nvSpPr>
        <p:spPr>
          <a:xfrm>
            <a:off x="6705720" y="2286000"/>
            <a:ext cx="8380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9" name="Group 5"/>
          <p:cNvGrpSpPr/>
          <p:nvPr/>
        </p:nvGrpSpPr>
        <p:grpSpPr>
          <a:xfrm>
            <a:off x="1447920" y="2057400"/>
            <a:ext cx="393480" cy="533520"/>
            <a:chOff x="1447920" y="2057400"/>
            <a:chExt cx="393480" cy="533520"/>
          </a:xfrm>
        </p:grpSpPr>
        <p:sp>
          <p:nvSpPr>
            <p:cNvPr id="630" name="Oval 6"/>
            <p:cNvSpPr/>
            <p:nvPr/>
          </p:nvSpPr>
          <p:spPr>
            <a:xfrm>
              <a:off x="1560240" y="2057400"/>
              <a:ext cx="168480" cy="168480"/>
            </a:xfrm>
            <a:prstGeom prst="ellipse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7"/>
            <p:cNvSpPr/>
            <p:nvPr/>
          </p:nvSpPr>
          <p:spPr>
            <a:xfrm>
              <a:off x="1644480" y="2225880"/>
              <a:ext cx="0" cy="25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8"/>
            <p:cNvSpPr/>
            <p:nvPr/>
          </p:nvSpPr>
          <p:spPr>
            <a:xfrm>
              <a:off x="1447920" y="2310120"/>
              <a:ext cx="393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9"/>
            <p:cNvSpPr/>
            <p:nvPr/>
          </p:nvSpPr>
          <p:spPr>
            <a:xfrm flipH="1">
              <a:off x="15040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"/>
            <p:cNvSpPr/>
            <p:nvPr/>
          </p:nvSpPr>
          <p:spPr>
            <a:xfrm>
              <a:off x="1644480" y="2450520"/>
              <a:ext cx="140400" cy="140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krétní vzorek interakce mezi systémem a jeho okolím (prostředí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nažíme se zaznamenat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reprezentativní sad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scénář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ádoucího chování (co systém mus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žádoucího chování (co nesmí uděl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 využijeme scénář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le nich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testujem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systém jako ce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borem scénářů na interakce uvnitř systému se projeví potřebnost </a:t>
            </a:r>
            <a:r>
              <a:rPr b="1" lang="cs-CZ" sz="2400" spc="-1" strike="noStrike">
                <a:solidFill>
                  <a:srgbClr val="a50021"/>
                </a:solidFill>
                <a:latin typeface="Arial"/>
              </a:rPr>
              <a:t>objektů a vazeb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vnitř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chování systému naven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rozlišení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jekty rozlišujeme 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řídic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řídí nějakou činnost systému, např. úloha, proces nebo vlák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interfejs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interagují s postavami v okolním prostředí, např. formulář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333399"/>
                </a:solidFill>
                <a:latin typeface="Arial"/>
              </a:rPr>
              <a:t>datov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amatují si, např. záznam v soubor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3"/>
          <p:cNvSpPr/>
          <p:nvPr/>
        </p:nvSpPr>
        <p:spPr>
          <a:xfrm>
            <a:off x="1295280" y="2362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"/>
          <p:cNvSpPr/>
          <p:nvPr/>
        </p:nvSpPr>
        <p:spPr>
          <a:xfrm>
            <a:off x="1295280" y="30481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8"/>
          <p:cNvSpPr/>
          <p:nvPr/>
        </p:nvSpPr>
        <p:spPr>
          <a:xfrm>
            <a:off x="1295280" y="39625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9"/>
          <p:cNvSpPr/>
          <p:nvPr/>
        </p:nvSpPr>
        <p:spPr>
          <a:xfrm>
            <a:off x="5257800" y="25909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1"/>
          <p:cNvSpPr/>
          <p:nvPr/>
        </p:nvSpPr>
        <p:spPr>
          <a:xfrm>
            <a:off x="7696080" y="2819520"/>
            <a:ext cx="76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2"/>
          <p:cNvSpPr/>
          <p:nvPr/>
        </p:nvSpPr>
        <p:spPr>
          <a:xfrm>
            <a:off x="5257800" y="350532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3"/>
          <p:cNvSpPr/>
          <p:nvPr/>
        </p:nvSpPr>
        <p:spPr>
          <a:xfrm>
            <a:off x="7696080" y="44197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6" name="AutoShape 14"/>
          <p:cNvCxnSpPr>
            <a:stCxn id="639" idx="2"/>
            <a:endCxn id="640" idx="0"/>
          </p:cNvCxnSpPr>
          <p:nvPr/>
        </p:nvCxnSpPr>
        <p:spPr>
          <a:xfrm>
            <a:off x="1333080" y="28191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7" name="AutoShape 15"/>
          <p:cNvCxnSpPr>
            <a:stCxn id="640" idx="2"/>
            <a:endCxn id="641" idx="0"/>
          </p:cNvCxnSpPr>
          <p:nvPr/>
        </p:nvCxnSpPr>
        <p:spPr>
          <a:xfrm>
            <a:off x="1333080" y="350532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8" name="AutoShape 16"/>
          <p:cNvCxnSpPr>
            <a:stCxn id="642" idx="2"/>
            <a:endCxn id="644" idx="0"/>
          </p:cNvCxnSpPr>
          <p:nvPr/>
        </p:nvCxnSpPr>
        <p:spPr>
          <a:xfrm>
            <a:off x="5295600" y="3048120"/>
            <a:ext cx="1080" cy="4579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49" name="AutoShape 17"/>
          <p:cNvCxnSpPr>
            <a:stCxn id="643" idx="2"/>
            <a:endCxn id="645" idx="0"/>
          </p:cNvCxnSpPr>
          <p:nvPr/>
        </p:nvCxnSpPr>
        <p:spPr>
          <a:xfrm>
            <a:off x="7733880" y="3505320"/>
            <a:ext cx="1080" cy="9151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50" name="AutoShape 18"/>
          <p:cNvCxnSpPr>
            <a:stCxn id="639" idx="3"/>
            <a:endCxn id="642" idx="0"/>
          </p:cNvCxnSpPr>
          <p:nvPr/>
        </p:nvCxnSpPr>
        <p:spPr>
          <a:xfrm>
            <a:off x="1371240" y="2590560"/>
            <a:ext cx="3925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1" name="AutoShape 19"/>
          <p:cNvCxnSpPr>
            <a:stCxn id="642" idx="2"/>
            <a:endCxn id="640" idx="0"/>
          </p:cNvCxnSpPr>
          <p:nvPr/>
        </p:nvCxnSpPr>
        <p:spPr>
          <a:xfrm flipH="1">
            <a:off x="1332720" y="3047760"/>
            <a:ext cx="3963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2" name="AutoShape 20"/>
          <p:cNvCxnSpPr>
            <a:stCxn id="642" idx="3"/>
            <a:endCxn id="643" idx="0"/>
          </p:cNvCxnSpPr>
          <p:nvPr/>
        </p:nvCxnSpPr>
        <p:spPr>
          <a:xfrm>
            <a:off x="5333760" y="2819160"/>
            <a:ext cx="24008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3" name="AutoShape 21"/>
          <p:cNvCxnSpPr>
            <a:stCxn id="640" idx="2"/>
            <a:endCxn id="644" idx="0"/>
          </p:cNvCxnSpPr>
          <p:nvPr/>
        </p:nvCxnSpPr>
        <p:spPr>
          <a:xfrm>
            <a:off x="1333080" y="3504960"/>
            <a:ext cx="396324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4" name="AutoShape 22"/>
          <p:cNvCxnSpPr>
            <a:stCxn id="644" idx="1"/>
            <a:endCxn id="641" idx="0"/>
          </p:cNvCxnSpPr>
          <p:nvPr/>
        </p:nvCxnSpPr>
        <p:spPr>
          <a:xfrm flipH="1">
            <a:off x="1332720" y="3962160"/>
            <a:ext cx="3925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5" name="AutoShape 23"/>
          <p:cNvCxnSpPr>
            <a:stCxn id="643" idx="2"/>
            <a:endCxn id="644" idx="0"/>
          </p:cNvCxnSpPr>
          <p:nvPr/>
        </p:nvCxnSpPr>
        <p:spPr>
          <a:xfrm flipH="1">
            <a:off x="5295240" y="3504960"/>
            <a:ext cx="2439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6" name="AutoShape 24"/>
          <p:cNvCxnSpPr>
            <a:stCxn id="644" idx="2"/>
            <a:endCxn id="645" idx="0"/>
          </p:cNvCxnSpPr>
          <p:nvPr/>
        </p:nvCxnSpPr>
        <p:spPr>
          <a:xfrm>
            <a:off x="5295600" y="4419360"/>
            <a:ext cx="24390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57" name="Text Box 25"/>
          <p:cNvSpPr/>
          <p:nvPr/>
        </p:nvSpPr>
        <p:spPr>
          <a:xfrm>
            <a:off x="2364480" y="228600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6"/>
          <p:cNvSpPr/>
          <p:nvPr/>
        </p:nvSpPr>
        <p:spPr>
          <a:xfrm>
            <a:off x="5641200" y="2438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7"/>
          <p:cNvSpPr/>
          <p:nvPr/>
        </p:nvSpPr>
        <p:spPr>
          <a:xfrm>
            <a:off x="6631920" y="312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8"/>
          <p:cNvSpPr/>
          <p:nvPr/>
        </p:nvSpPr>
        <p:spPr>
          <a:xfrm>
            <a:off x="5641200" y="4038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9"/>
          <p:cNvSpPr/>
          <p:nvPr/>
        </p:nvSpPr>
        <p:spPr>
          <a:xfrm>
            <a:off x="3812400" y="2666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30"/>
          <p:cNvSpPr/>
          <p:nvPr/>
        </p:nvSpPr>
        <p:spPr>
          <a:xfrm>
            <a:off x="3812400" y="3581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31"/>
          <p:cNvSpPr/>
          <p:nvPr/>
        </p:nvSpPr>
        <p:spPr>
          <a:xfrm>
            <a:off x="2288520" y="312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2"/>
          <p:cNvSpPr/>
          <p:nvPr/>
        </p:nvSpPr>
        <p:spPr>
          <a:xfrm>
            <a:off x="4726440" y="2133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3"/>
          <p:cNvSpPr/>
          <p:nvPr/>
        </p:nvSpPr>
        <p:spPr>
          <a:xfrm>
            <a:off x="7165080" y="213372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zli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bjek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ů uvnitř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32"/>
          <p:cNvSpPr/>
          <p:nvPr/>
        </p:nvSpPr>
        <p:spPr>
          <a:xfrm>
            <a:off x="916920" y="19051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5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equence Diagram (scénář)</a:t>
            </a:r>
            <a:br>
              <a:rPr sz="44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ozli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n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bjekt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ů uvnitř systé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762120" y="213372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762120" y="388620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8"/>
          <p:cNvSpPr/>
          <p:nvPr/>
        </p:nvSpPr>
        <p:spPr>
          <a:xfrm>
            <a:off x="762120" y="5410080"/>
            <a:ext cx="759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2514600" y="2362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2"/>
          <p:cNvSpPr/>
          <p:nvPr/>
        </p:nvSpPr>
        <p:spPr>
          <a:xfrm>
            <a:off x="2971800" y="4114800"/>
            <a:ext cx="763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4" name="AutoShape 14"/>
          <p:cNvCxnSpPr>
            <a:stCxn id="669" idx="2"/>
            <a:endCxn id="670" idx="0"/>
          </p:cNvCxnSpPr>
          <p:nvPr/>
        </p:nvCxnSpPr>
        <p:spPr>
          <a:xfrm>
            <a:off x="799920" y="2590920"/>
            <a:ext cx="1080" cy="1296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5" name="AutoShape 15"/>
          <p:cNvCxnSpPr>
            <a:stCxn id="670" idx="2"/>
            <a:endCxn id="671" idx="0"/>
          </p:cNvCxnSpPr>
          <p:nvPr/>
        </p:nvCxnSpPr>
        <p:spPr>
          <a:xfrm>
            <a:off x="799920" y="4343040"/>
            <a:ext cx="108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6" name="AutoShape 16"/>
          <p:cNvCxnSpPr>
            <a:stCxn id="672" idx="2"/>
            <a:endCxn id="677" idx="0"/>
          </p:cNvCxnSpPr>
          <p:nvPr/>
        </p:nvCxnSpPr>
        <p:spPr>
          <a:xfrm>
            <a:off x="2552400" y="2819160"/>
            <a:ext cx="1080" cy="68652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678" name="AutoShape 18"/>
          <p:cNvCxnSpPr>
            <a:stCxn id="669" idx="3"/>
            <a:endCxn id="672" idx="0"/>
          </p:cNvCxnSpPr>
          <p:nvPr/>
        </p:nvCxnSpPr>
        <p:spPr>
          <a:xfrm>
            <a:off x="837720" y="236196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9" name="AutoShape 19"/>
          <p:cNvCxnSpPr>
            <a:stCxn id="680" idx="2"/>
            <a:endCxn id="677" idx="0"/>
          </p:cNvCxnSpPr>
          <p:nvPr/>
        </p:nvCxnSpPr>
        <p:spPr>
          <a:xfrm flipH="1">
            <a:off x="2552400" y="35049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1" name="AutoShape 21"/>
          <p:cNvCxnSpPr>
            <a:stCxn id="670" idx="3"/>
            <a:endCxn id="673" idx="0"/>
          </p:cNvCxnSpPr>
          <p:nvPr/>
        </p:nvCxnSpPr>
        <p:spPr>
          <a:xfrm>
            <a:off x="837720" y="4114440"/>
            <a:ext cx="21726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82" name="AutoShape 22"/>
          <p:cNvCxnSpPr>
            <a:stCxn id="683" idx="1"/>
            <a:endCxn id="671" idx="0"/>
          </p:cNvCxnSpPr>
          <p:nvPr/>
        </p:nvCxnSpPr>
        <p:spPr>
          <a:xfrm flipH="1">
            <a:off x="800280" y="5409720"/>
            <a:ext cx="21718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84" name="Text Box 25"/>
          <p:cNvSpPr/>
          <p:nvPr/>
        </p:nvSpPr>
        <p:spPr>
          <a:xfrm>
            <a:off x="989280" y="20574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9"/>
          <p:cNvSpPr/>
          <p:nvPr/>
        </p:nvSpPr>
        <p:spPr>
          <a:xfrm>
            <a:off x="2739960" y="2895480"/>
            <a:ext cx="164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4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,</a:t>
            </a:r>
            <a:br>
              <a:rPr sz="9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1"/>
          <p:cNvSpPr/>
          <p:nvPr/>
        </p:nvSpPr>
        <p:spPr>
          <a:xfrm>
            <a:off x="917280" y="3657600"/>
            <a:ext cx="145800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56"/>
          <p:cNvSpPr/>
          <p:nvPr/>
        </p:nvSpPr>
        <p:spPr>
          <a:xfrm>
            <a:off x="609480" y="14479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7"/>
          <p:cNvSpPr/>
          <p:nvPr/>
        </p:nvSpPr>
        <p:spPr>
          <a:xfrm>
            <a:off x="383760" y="1828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58"/>
          <p:cNvSpPr/>
          <p:nvPr/>
        </p:nvSpPr>
        <p:spPr>
          <a:xfrm>
            <a:off x="2362320" y="144792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9"/>
          <p:cNvSpPr/>
          <p:nvPr/>
        </p:nvSpPr>
        <p:spPr>
          <a:xfrm>
            <a:off x="2135160" y="18288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2514600" y="350532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1" name="AutoShape 18"/>
          <p:cNvCxnSpPr>
            <a:stCxn id="672" idx="2"/>
            <a:endCxn id="680" idx="0"/>
          </p:cNvCxnSpPr>
          <p:nvPr/>
        </p:nvCxnSpPr>
        <p:spPr>
          <a:xfrm>
            <a:off x="2552760" y="2819160"/>
            <a:ext cx="182952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92" name="Text Box 25"/>
          <p:cNvSpPr/>
          <p:nvPr/>
        </p:nvSpPr>
        <p:spPr>
          <a:xfrm>
            <a:off x="2589480" y="2514600"/>
            <a:ext cx="120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63"/>
          <p:cNvSpPr/>
          <p:nvPr/>
        </p:nvSpPr>
        <p:spPr>
          <a:xfrm>
            <a:off x="4114800" y="1828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64"/>
          <p:cNvSpPr/>
          <p:nvPr/>
        </p:nvSpPr>
        <p:spPr>
          <a:xfrm>
            <a:off x="3353400" y="213372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4343400" y="2819520"/>
            <a:ext cx="763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6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2666880" y="3581280"/>
            <a:ext cx="609840" cy="435240"/>
          </a:xfrm>
          <a:prstGeom prst="rect">
            <a:avLst/>
          </a:prstGeom>
          <a:ln w="0">
            <a:noFill/>
          </a:ln>
        </p:spPr>
      </p:pic>
      <p:sp>
        <p:nvSpPr>
          <p:cNvPr id="696" name="Text Box 67"/>
          <p:cNvSpPr/>
          <p:nvPr/>
        </p:nvSpPr>
        <p:spPr>
          <a:xfrm>
            <a:off x="3203280" y="373392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31"/>
          <p:cNvSpPr/>
          <p:nvPr/>
        </p:nvSpPr>
        <p:spPr>
          <a:xfrm>
            <a:off x="3042360" y="4114800"/>
            <a:ext cx="198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vydej: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Picture 70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4800600" y="37339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699" name="Text Box 71"/>
          <p:cNvSpPr/>
          <p:nvPr/>
        </p:nvSpPr>
        <p:spPr>
          <a:xfrm>
            <a:off x="4953960" y="41148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12"/>
          <p:cNvSpPr/>
          <p:nvPr/>
        </p:nvSpPr>
        <p:spPr>
          <a:xfrm>
            <a:off x="5105520" y="4572000"/>
            <a:ext cx="7596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1" name="AutoShape 21"/>
          <p:cNvCxnSpPr>
            <a:stCxn id="700" idx="3"/>
            <a:endCxn id="702" idx="0"/>
          </p:cNvCxnSpPr>
          <p:nvPr/>
        </p:nvCxnSpPr>
        <p:spPr>
          <a:xfrm>
            <a:off x="5181120" y="5181120"/>
            <a:ext cx="16390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03" name="Text Box 31"/>
          <p:cNvSpPr/>
          <p:nvPr/>
        </p:nvSpPr>
        <p:spPr>
          <a:xfrm>
            <a:off x="5184000" y="472428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2971800" y="5181480"/>
            <a:ext cx="763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4" name="AutoShape 15"/>
          <p:cNvCxnSpPr>
            <a:stCxn id="673" idx="2"/>
            <a:endCxn id="683" idx="0"/>
          </p:cNvCxnSpPr>
          <p:nvPr/>
        </p:nvCxnSpPr>
        <p:spPr>
          <a:xfrm>
            <a:off x="3009600" y="5028840"/>
            <a:ext cx="1080" cy="15300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705" name="AutoShape 22"/>
          <p:cNvCxnSpPr>
            <a:stCxn id="700" idx="1"/>
            <a:endCxn id="683" idx="0"/>
          </p:cNvCxnSpPr>
          <p:nvPr/>
        </p:nvCxnSpPr>
        <p:spPr>
          <a:xfrm flipH="1">
            <a:off x="3009240" y="518112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6" name="AutoShape 21"/>
          <p:cNvCxnSpPr>
            <a:stCxn id="673" idx="3"/>
            <a:endCxn id="700" idx="0"/>
          </p:cNvCxnSpPr>
          <p:nvPr/>
        </p:nvCxnSpPr>
        <p:spPr>
          <a:xfrm>
            <a:off x="3047760" y="4571640"/>
            <a:ext cx="209628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707" name="Picture 78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6553080" y="419112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79"/>
          <p:cNvSpPr/>
          <p:nvPr/>
        </p:nvSpPr>
        <p:spPr>
          <a:xfrm>
            <a:off x="6478920" y="45720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12"/>
          <p:cNvSpPr/>
          <p:nvPr/>
        </p:nvSpPr>
        <p:spPr>
          <a:xfrm>
            <a:off x="6781680" y="5181480"/>
            <a:ext cx="763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31"/>
          <p:cNvSpPr/>
          <p:nvPr/>
        </p:nvSpPr>
        <p:spPr>
          <a:xfrm>
            <a:off x="3239640" y="47242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1"/>
          <p:cNvSpPr/>
          <p:nvPr/>
        </p:nvSpPr>
        <p:spPr>
          <a:xfrm>
            <a:off x="1144080" y="4952880"/>
            <a:ext cx="1837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93"/>
          <p:cNvSpPr/>
          <p:nvPr/>
        </p:nvSpPr>
        <p:spPr>
          <a:xfrm>
            <a:off x="7926120" y="487692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2"/>
          <p:cNvSpPr/>
          <p:nvPr/>
        </p:nvSpPr>
        <p:spPr>
          <a:xfrm>
            <a:off x="8534520" y="5486400"/>
            <a:ext cx="7596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31"/>
          <p:cNvSpPr/>
          <p:nvPr/>
        </p:nvSpPr>
        <p:spPr>
          <a:xfrm>
            <a:off x="6860520" y="5029200"/>
            <a:ext cx="16682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iobjednej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97"/>
          <p:cNvSpPr/>
          <p:nvPr/>
        </p:nvSpPr>
        <p:spPr>
          <a:xfrm>
            <a:off x="8305920" y="4495680"/>
            <a:ext cx="380880" cy="38124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5" name="AutoShape 21"/>
          <p:cNvCxnSpPr>
            <a:stCxn id="702" idx="3"/>
            <a:endCxn id="712" idx="0"/>
          </p:cNvCxnSpPr>
          <p:nvPr/>
        </p:nvCxnSpPr>
        <p:spPr>
          <a:xfrm>
            <a:off x="6857640" y="5486040"/>
            <a:ext cx="1715400" cy="1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mmunicatio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3"/>
          <p:cNvSpPr/>
          <p:nvPr/>
        </p:nvSpPr>
        <p:spPr>
          <a:xfrm>
            <a:off x="5872680" y="1295280"/>
            <a:ext cx="301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jadřuje scénář, al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inak než sequence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533520" y="2819520"/>
            <a:ext cx="167616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5"/>
          <p:cNvSpPr/>
          <p:nvPr/>
        </p:nvSpPr>
        <p:spPr>
          <a:xfrm>
            <a:off x="4343400" y="2819520"/>
            <a:ext cx="16765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6"/>
          <p:cNvSpPr/>
          <p:nvPr/>
        </p:nvSpPr>
        <p:spPr>
          <a:xfrm>
            <a:off x="4343400" y="5334120"/>
            <a:ext cx="16765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7"/>
          <p:cNvSpPr/>
          <p:nvPr/>
        </p:nvSpPr>
        <p:spPr>
          <a:xfrm>
            <a:off x="6781680" y="4114800"/>
            <a:ext cx="167652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ov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2" name="AutoShape 8"/>
          <p:cNvCxnSpPr>
            <a:stCxn id="718" idx="3"/>
            <a:endCxn id="719" idx="1"/>
          </p:cNvCxnSpPr>
          <p:nvPr/>
        </p:nvCxnSpPr>
        <p:spPr>
          <a:xfrm>
            <a:off x="2209320" y="3314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3" name="AutoShape 9"/>
          <p:cNvCxnSpPr>
            <a:stCxn id="719" idx="2"/>
            <a:endCxn id="720" idx="0"/>
          </p:cNvCxnSpPr>
          <p:nvPr/>
        </p:nvCxnSpPr>
        <p:spPr>
          <a:xfrm flipH="1">
            <a:off x="5180760" y="3809880"/>
            <a:ext cx="108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4" name="AutoShape 10"/>
          <p:cNvCxnSpPr>
            <a:stCxn id="719" idx="3"/>
            <a:endCxn id="721" idx="0"/>
          </p:cNvCxnSpPr>
          <p:nvPr/>
        </p:nvCxnSpPr>
        <p:spPr>
          <a:xfrm>
            <a:off x="6019560" y="3314880"/>
            <a:ext cx="16009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5" name="AutoShape 11"/>
          <p:cNvCxnSpPr>
            <a:stCxn id="720" idx="3"/>
            <a:endCxn id="721" idx="2"/>
          </p:cNvCxnSpPr>
          <p:nvPr/>
        </p:nvCxnSpPr>
        <p:spPr>
          <a:xfrm flipV="1">
            <a:off x="6019560" y="5104800"/>
            <a:ext cx="16009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26" name="Text Box 12"/>
          <p:cNvSpPr/>
          <p:nvPr/>
        </p:nvSpPr>
        <p:spPr>
          <a:xfrm>
            <a:off x="383400" y="548640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y slouží jako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kační kanály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ými tečou zpr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2612520" y="2057400"/>
            <a:ext cx="155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.2:zpráv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.2:zprá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4"/>
          <p:cNvSpPr/>
          <p:nvPr/>
        </p:nvSpPr>
        <p:spPr>
          <a:xfrm>
            <a:off x="3374280" y="4038480"/>
            <a:ext cx="175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1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.1.4:zpráv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2.1.1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15"/>
          <p:cNvSpPr/>
          <p:nvPr/>
        </p:nvSpPr>
        <p:spPr>
          <a:xfrm>
            <a:off x="6346440" y="2362320"/>
            <a:ext cx="168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1.2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1.1.3: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6"/>
          <p:cNvSpPr/>
          <p:nvPr/>
        </p:nvSpPr>
        <p:spPr>
          <a:xfrm>
            <a:off x="6270480" y="5867280"/>
            <a:ext cx="168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.1.2:zpráva </a:t>
            </a: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731" name="AutoShape 8"/>
          <p:cNvCxnSpPr>
            <a:stCxn id="732" idx="6"/>
          </p:cNvCxnSpPr>
          <p:nvPr/>
        </p:nvCxnSpPr>
        <p:spPr>
          <a:xfrm flipV="1">
            <a:off x="1676520" y="2545920"/>
            <a:ext cx="15897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3" name="AutoShape 9"/>
          <p:cNvCxnSpPr/>
          <p:nvPr/>
        </p:nvCxnSpPr>
        <p:spPr>
          <a:xfrm flipH="1" rot="16200000">
            <a:off x="3165840" y="3166560"/>
            <a:ext cx="1809000" cy="1002600"/>
          </a:xfrm>
          <a:prstGeom prst="bentConnector3">
            <a:avLst>
              <a:gd name="adj1" fmla="val 8523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4" name="AutoShape 10"/>
          <p:cNvCxnSpPr>
            <a:endCxn id="735" idx="2"/>
          </p:cNvCxnSpPr>
          <p:nvPr/>
        </p:nvCxnSpPr>
        <p:spPr>
          <a:xfrm>
            <a:off x="4876920" y="4789440"/>
            <a:ext cx="1829520" cy="659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36" name="AutoShape 11"/>
          <p:cNvCxnSpPr>
            <a:stCxn id="737" idx="4"/>
          </p:cNvCxnSpPr>
          <p:nvPr/>
        </p:nvCxnSpPr>
        <p:spPr>
          <a:xfrm flipV="1">
            <a:off x="3885840" y="5006160"/>
            <a:ext cx="686520" cy="78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7" name="AutoShape 14"/>
          <p:cNvSpPr/>
          <p:nvPr/>
        </p:nvSpPr>
        <p:spPr>
          <a:xfrm>
            <a:off x="3429000" y="563868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15"/>
          <p:cNvSpPr/>
          <p:nvPr/>
        </p:nvSpPr>
        <p:spPr>
          <a:xfrm>
            <a:off x="1295280" y="23623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16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5791320" y="23623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739" name="Text Box 17"/>
          <p:cNvSpPr/>
          <p:nvPr/>
        </p:nvSpPr>
        <p:spPr>
          <a:xfrm>
            <a:off x="688320" y="19810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0" name="AutoShape 9"/>
          <p:cNvCxnSpPr/>
          <p:nvPr/>
        </p:nvCxnSpPr>
        <p:spPr>
          <a:xfrm rot="5400000">
            <a:off x="4445640" y="2922480"/>
            <a:ext cx="1775520" cy="1524600"/>
          </a:xfrm>
          <a:prstGeom prst="bentConnector3">
            <a:avLst>
              <a:gd name="adj1" fmla="val 91036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AutoShape 8"/>
          <p:cNvCxnSpPr>
            <a:endCxn id="742" idx="2"/>
          </p:cNvCxnSpPr>
          <p:nvPr/>
        </p:nvCxnSpPr>
        <p:spPr>
          <a:xfrm>
            <a:off x="6400800" y="2579760"/>
            <a:ext cx="991440" cy="5832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3" name="AutoShape 9"/>
          <p:cNvCxnSpPr>
            <a:stCxn id="744" idx="4"/>
            <a:endCxn id="737" idx="2"/>
          </p:cNvCxnSpPr>
          <p:nvPr/>
        </p:nvCxnSpPr>
        <p:spPr>
          <a:xfrm flipH="1" rot="16200000">
            <a:off x="1847520" y="4209480"/>
            <a:ext cx="17535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745" name="Picture 28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3265560" y="232884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9"/>
          <p:cNvSpPr/>
          <p:nvPr/>
        </p:nvSpPr>
        <p:spPr>
          <a:xfrm>
            <a:off x="3660480" y="2666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30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4267080" y="457200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31"/>
          <p:cNvSpPr/>
          <p:nvPr/>
        </p:nvSpPr>
        <p:spPr>
          <a:xfrm>
            <a:off x="503100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32"/>
          <p:cNvSpPr/>
          <p:nvPr/>
        </p:nvSpPr>
        <p:spPr>
          <a:xfrm>
            <a:off x="3506400" y="457200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33"/>
          <p:cNvSpPr/>
          <p:nvPr/>
        </p:nvSpPr>
        <p:spPr>
          <a:xfrm>
            <a:off x="2896200" y="59436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34"/>
          <p:cNvSpPr/>
          <p:nvPr/>
        </p:nvSpPr>
        <p:spPr>
          <a:xfrm>
            <a:off x="2211120" y="36576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35"/>
          <p:cNvSpPr/>
          <p:nvPr/>
        </p:nvSpPr>
        <p:spPr>
          <a:xfrm>
            <a:off x="7316640" y="3352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6"/>
          <p:cNvSpPr/>
          <p:nvPr/>
        </p:nvSpPr>
        <p:spPr>
          <a:xfrm>
            <a:off x="7087320" y="52578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AutoShape 37"/>
          <p:cNvSpPr/>
          <p:nvPr/>
        </p:nvSpPr>
        <p:spPr>
          <a:xfrm>
            <a:off x="1828800" y="36576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8"/>
          <p:cNvSpPr/>
          <p:nvPr/>
        </p:nvSpPr>
        <p:spPr>
          <a:xfrm>
            <a:off x="7391520" y="2971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39"/>
          <p:cNvSpPr/>
          <p:nvPr/>
        </p:nvSpPr>
        <p:spPr>
          <a:xfrm>
            <a:off x="6705720" y="5257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4" name="AutoShape 8"/>
          <p:cNvCxnSpPr>
            <a:stCxn id="732" idx="4"/>
            <a:endCxn id="744" idx="1"/>
          </p:cNvCxnSpPr>
          <p:nvPr/>
        </p:nvCxnSpPr>
        <p:spPr>
          <a:xfrm flipH="1" rot="16200000">
            <a:off x="1200240" y="3028680"/>
            <a:ext cx="970560" cy="398880"/>
          </a:xfrm>
          <a:prstGeom prst="bentConnector3">
            <a:avLst>
              <a:gd name="adj1" fmla="val 47124"/>
            </a:avLst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755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mmunication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AutoShape 44"/>
          <p:cNvSpPr/>
          <p:nvPr/>
        </p:nvSpPr>
        <p:spPr>
          <a:xfrm>
            <a:off x="3429000" y="525780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25"/>
          <p:cNvSpPr/>
          <p:nvPr/>
        </p:nvSpPr>
        <p:spPr>
          <a:xfrm>
            <a:off x="1460520" y="281952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31"/>
          <p:cNvSpPr/>
          <p:nvPr/>
        </p:nvSpPr>
        <p:spPr>
          <a:xfrm>
            <a:off x="1677600" y="175248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.1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31"/>
          <p:cNvSpPr/>
          <p:nvPr/>
        </p:nvSpPr>
        <p:spPr>
          <a:xfrm>
            <a:off x="6106680" y="3962520"/>
            <a:ext cx="1796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0" name="AutoShape 9"/>
          <p:cNvCxnSpPr>
            <a:stCxn id="744" idx="4"/>
            <a:endCxn id="756" idx="2"/>
          </p:cNvCxnSpPr>
          <p:nvPr/>
        </p:nvCxnSpPr>
        <p:spPr>
          <a:xfrm flipH="1" rot="16200000">
            <a:off x="2038320" y="4019040"/>
            <a:ext cx="137232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AutoShape 11"/>
          <p:cNvCxnSpPr>
            <a:stCxn id="756" idx="4"/>
          </p:cNvCxnSpPr>
          <p:nvPr/>
        </p:nvCxnSpPr>
        <p:spPr>
          <a:xfrm flipV="1">
            <a:off x="3885840" y="5006520"/>
            <a:ext cx="68652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2" name="Text Box 25"/>
          <p:cNvSpPr/>
          <p:nvPr/>
        </p:nvSpPr>
        <p:spPr>
          <a:xfrm>
            <a:off x="316440" y="4191120"/>
            <a:ext cx="1730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1: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najdi „mléko“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1.2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polotučné za 13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1.3 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lezeno:</a:t>
            </a:r>
            <a:br>
              <a:rPr sz="1200"/>
            </a:br>
            <a:r>
              <a:rPr b="0" lang="cs-CZ" sz="900" spc="-1" strike="noStrike">
                <a:solidFill>
                  <a:srgbClr val="000000"/>
                </a:solidFill>
                <a:latin typeface="Arial"/>
              </a:rPr>
              <a:t>„mléko odstředěné za 12,50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31"/>
          <p:cNvSpPr/>
          <p:nvPr/>
        </p:nvSpPr>
        <p:spPr>
          <a:xfrm>
            <a:off x="3582360" y="3276720"/>
            <a:ext cx="18374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: vyd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 litr“</a:t>
            </a:r>
            <a:br>
              <a:rPr sz="1000"/>
            </a:b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3: dodací list: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l za 13,50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31"/>
          <p:cNvSpPr/>
          <p:nvPr/>
        </p:nvSpPr>
        <p:spPr>
          <a:xfrm>
            <a:off x="6410520" y="2057400"/>
            <a:ext cx="19454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2.1.1.1: přiobjednej: </a:t>
            </a:r>
            <a:r>
              <a:rPr b="0" lang="cs-CZ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br>
              <a:rPr sz="1400"/>
            </a:b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„mléko polotučné 100 litrů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4"/>
          <p:cNvSpPr/>
          <p:nvPr/>
        </p:nvSpPr>
        <p:spPr>
          <a:xfrm>
            <a:off x="609480" y="2362320"/>
            <a:ext cx="16765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hra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5"/>
          <p:cNvSpPr/>
          <p:nvPr/>
        </p:nvSpPr>
        <p:spPr>
          <a:xfrm>
            <a:off x="4419720" y="2362320"/>
            <a:ext cx="167616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4419720" y="4876920"/>
            <a:ext cx="1676160" cy="990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ídic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7"/>
          <p:cNvSpPr/>
          <p:nvPr/>
        </p:nvSpPr>
        <p:spPr>
          <a:xfrm>
            <a:off x="6858000" y="3657600"/>
            <a:ext cx="167652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atov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0" name="AutoShape 8"/>
          <p:cNvCxnSpPr>
            <a:stCxn id="766" idx="3"/>
            <a:endCxn id="767" idx="1"/>
          </p:cNvCxnSpPr>
          <p:nvPr/>
        </p:nvCxnSpPr>
        <p:spPr>
          <a:xfrm>
            <a:off x="2285640" y="28573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1" name="AutoShape 9"/>
          <p:cNvCxnSpPr>
            <a:stCxn id="767" idx="2"/>
            <a:endCxn id="768" idx="0"/>
          </p:cNvCxnSpPr>
          <p:nvPr/>
        </p:nvCxnSpPr>
        <p:spPr>
          <a:xfrm flipH="1">
            <a:off x="5257080" y="3352680"/>
            <a:ext cx="1080" cy="1524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2" name="AutoShape 10"/>
          <p:cNvCxnSpPr>
            <a:stCxn id="767" idx="3"/>
            <a:endCxn id="769" idx="0"/>
          </p:cNvCxnSpPr>
          <p:nvPr/>
        </p:nvCxnSpPr>
        <p:spPr>
          <a:xfrm>
            <a:off x="6095520" y="2857680"/>
            <a:ext cx="1600920" cy="8006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3" name="AutoShape 11"/>
          <p:cNvCxnSpPr>
            <a:stCxn id="768" idx="3"/>
            <a:endCxn id="769" idx="2"/>
          </p:cNvCxnSpPr>
          <p:nvPr/>
        </p:nvCxnSpPr>
        <p:spPr>
          <a:xfrm flipV="1">
            <a:off x="6095520" y="4647600"/>
            <a:ext cx="1600920" cy="724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74" name="Text Box 12"/>
          <p:cNvSpPr/>
          <p:nvPr/>
        </p:nvSpPr>
        <p:spPr>
          <a:xfrm>
            <a:off x="383400" y="5562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azby slouží jako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unikační kanály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ými tečou zpráv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6"/>
          <p:cNvSpPr/>
          <p:nvPr/>
        </p:nvSpPr>
        <p:spPr>
          <a:xfrm>
            <a:off x="6174000" y="541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7"/>
          <p:cNvSpPr/>
          <p:nvPr/>
        </p:nvSpPr>
        <p:spPr>
          <a:xfrm>
            <a:off x="7774200" y="4724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18"/>
          <p:cNvSpPr/>
          <p:nvPr/>
        </p:nvSpPr>
        <p:spPr>
          <a:xfrm>
            <a:off x="7774200" y="32004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19"/>
          <p:cNvSpPr/>
          <p:nvPr/>
        </p:nvSpPr>
        <p:spPr>
          <a:xfrm>
            <a:off x="617400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0"/>
          <p:cNvSpPr/>
          <p:nvPr/>
        </p:nvSpPr>
        <p:spPr>
          <a:xfrm>
            <a:off x="40406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21"/>
          <p:cNvSpPr/>
          <p:nvPr/>
        </p:nvSpPr>
        <p:spPr>
          <a:xfrm>
            <a:off x="533592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 Box 22"/>
          <p:cNvSpPr/>
          <p:nvPr/>
        </p:nvSpPr>
        <p:spPr>
          <a:xfrm>
            <a:off x="5335920" y="441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23"/>
          <p:cNvSpPr/>
          <p:nvPr/>
        </p:nvSpPr>
        <p:spPr>
          <a:xfrm>
            <a:off x="2364120" y="243828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24"/>
          <p:cNvSpPr/>
          <p:nvPr/>
        </p:nvSpPr>
        <p:spPr>
          <a:xfrm>
            <a:off x="3434400" y="1371600"/>
            <a:ext cx="539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 už neznázorňujeme jako jednotlivý konkrét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skyt objektu, ale jako celou obecnou třídu objekt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činnosti (synchronizova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 (přidělovat k činno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d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ní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riá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Plán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3124080" y="2209680"/>
            <a:ext cx="107964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di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ectangle 7"/>
          <p:cNvSpPr/>
          <p:nvPr/>
        </p:nvSpPr>
        <p:spPr>
          <a:xfrm>
            <a:off x="2895480" y="5410080"/>
            <a:ext cx="1079640" cy="719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atov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skladová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a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AutoShape 8"/>
          <p:cNvCxnSpPr>
            <a:stCxn id="788" idx="3"/>
            <a:endCxn id="785" idx="1"/>
          </p:cNvCxnSpPr>
          <p:nvPr/>
        </p:nvCxnSpPr>
        <p:spPr>
          <a:xfrm>
            <a:off x="1917360" y="2569680"/>
            <a:ext cx="120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9" name="AutoShape 9"/>
          <p:cNvCxnSpPr>
            <a:stCxn id="785" idx="2"/>
            <a:endCxn id="790" idx="0"/>
          </p:cNvCxnSpPr>
          <p:nvPr/>
        </p:nvCxnSpPr>
        <p:spPr>
          <a:xfrm>
            <a:off x="3664080" y="2928960"/>
            <a:ext cx="91512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1" name="AutoShape 10"/>
          <p:cNvCxnSpPr>
            <a:stCxn id="790" idx="3"/>
            <a:endCxn id="792" idx="1"/>
          </p:cNvCxnSpPr>
          <p:nvPr/>
        </p:nvCxnSpPr>
        <p:spPr>
          <a:xfrm>
            <a:off x="5118120" y="4932360"/>
            <a:ext cx="1512000" cy="534240"/>
          </a:xfrm>
          <a:prstGeom prst="bentConnector3">
            <a:avLst>
              <a:gd name="adj1" fmla="val 49988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93" name="AutoShape 11"/>
          <p:cNvCxnSpPr>
            <a:stCxn id="786" idx="3"/>
            <a:endCxn id="790" idx="2"/>
          </p:cNvCxnSpPr>
          <p:nvPr/>
        </p:nvCxnSpPr>
        <p:spPr>
          <a:xfrm flipV="1">
            <a:off x="3975120" y="5290560"/>
            <a:ext cx="603720" cy="479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4" name="Text Box 16"/>
          <p:cNvSpPr/>
          <p:nvPr/>
        </p:nvSpPr>
        <p:spPr>
          <a:xfrm>
            <a:off x="419256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8"/>
          <p:cNvSpPr/>
          <p:nvPr/>
        </p:nvSpPr>
        <p:spPr>
          <a:xfrm>
            <a:off x="4041000" y="5791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9"/>
          <p:cNvSpPr/>
          <p:nvPr/>
        </p:nvSpPr>
        <p:spPr>
          <a:xfrm>
            <a:off x="58690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20"/>
          <p:cNvSpPr/>
          <p:nvPr/>
        </p:nvSpPr>
        <p:spPr>
          <a:xfrm>
            <a:off x="5183280" y="45720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21"/>
          <p:cNvSpPr/>
          <p:nvPr/>
        </p:nvSpPr>
        <p:spPr>
          <a:xfrm>
            <a:off x="343080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2"/>
          <p:cNvSpPr/>
          <p:nvPr/>
        </p:nvSpPr>
        <p:spPr>
          <a:xfrm>
            <a:off x="4573800" y="5334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3"/>
          <p:cNvSpPr/>
          <p:nvPr/>
        </p:nvSpPr>
        <p:spPr>
          <a:xfrm>
            <a:off x="6098400" y="510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4038480" y="4572000"/>
            <a:ext cx="107964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di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5"/>
          <p:cNvSpPr/>
          <p:nvPr/>
        </p:nvSpPr>
        <p:spPr>
          <a:xfrm>
            <a:off x="5410080" y="2209680"/>
            <a:ext cx="1079640" cy="7192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dic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5"/>
          <p:cNvSpPr/>
          <p:nvPr/>
        </p:nvSpPr>
        <p:spPr>
          <a:xfrm>
            <a:off x="7315200" y="2819520"/>
            <a:ext cx="10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6629400" y="5105520"/>
            <a:ext cx="1079640" cy="718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5"/>
          <p:cNvSpPr/>
          <p:nvPr/>
        </p:nvSpPr>
        <p:spPr>
          <a:xfrm>
            <a:off x="838080" y="2209680"/>
            <a:ext cx="107964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1219320" y="3809880"/>
            <a:ext cx="107928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hra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4" name="AutoShape 9"/>
          <p:cNvCxnSpPr>
            <a:stCxn id="801" idx="2"/>
            <a:endCxn id="790" idx="0"/>
          </p:cNvCxnSpPr>
          <p:nvPr/>
        </p:nvCxnSpPr>
        <p:spPr>
          <a:xfrm flipH="1">
            <a:off x="4578120" y="2928960"/>
            <a:ext cx="1372320" cy="1643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5" name="Text Box 16"/>
          <p:cNvSpPr/>
          <p:nvPr/>
        </p:nvSpPr>
        <p:spPr>
          <a:xfrm>
            <a:off x="480240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1"/>
          <p:cNvSpPr/>
          <p:nvPr/>
        </p:nvSpPr>
        <p:spPr>
          <a:xfrm>
            <a:off x="28209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7" name="AutoShape 8"/>
          <p:cNvCxnSpPr>
            <a:stCxn id="801" idx="3"/>
            <a:endCxn id="802" idx="1"/>
          </p:cNvCxnSpPr>
          <p:nvPr/>
        </p:nvCxnSpPr>
        <p:spPr>
          <a:xfrm>
            <a:off x="6489360" y="2570040"/>
            <a:ext cx="82620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08" name="Text Box 21"/>
          <p:cNvSpPr/>
          <p:nvPr/>
        </p:nvSpPr>
        <p:spPr>
          <a:xfrm>
            <a:off x="64785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9" name="AutoShape 9"/>
          <p:cNvCxnSpPr>
            <a:stCxn id="803" idx="2"/>
            <a:endCxn id="786" idx="1"/>
          </p:cNvCxnSpPr>
          <p:nvPr/>
        </p:nvCxnSpPr>
        <p:spPr>
          <a:xfrm flipH="1" rot="16200000">
            <a:off x="1705680" y="4581360"/>
            <a:ext cx="1242000" cy="1137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10" name="Text Box 18"/>
          <p:cNvSpPr/>
          <p:nvPr/>
        </p:nvSpPr>
        <p:spPr>
          <a:xfrm>
            <a:off x="1755360" y="45720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8"/>
          <p:cNvSpPr/>
          <p:nvPr/>
        </p:nvSpPr>
        <p:spPr>
          <a:xfrm>
            <a:off x="2364480" y="5410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3"/>
          <p:cNvSpPr/>
          <p:nvPr/>
        </p:nvSpPr>
        <p:spPr>
          <a:xfrm>
            <a:off x="678420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23"/>
          <p:cNvSpPr/>
          <p:nvPr/>
        </p:nvSpPr>
        <p:spPr>
          <a:xfrm>
            <a:off x="1983600" y="2209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4" name="AutoShape 8"/>
          <p:cNvCxnSpPr>
            <a:stCxn id="788" idx="2"/>
            <a:endCxn id="803" idx="0"/>
          </p:cNvCxnSpPr>
          <p:nvPr/>
        </p:nvCxnSpPr>
        <p:spPr>
          <a:xfrm>
            <a:off x="1378080" y="2928600"/>
            <a:ext cx="381600" cy="881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15" name="Text Box 45"/>
          <p:cNvSpPr/>
          <p:nvPr/>
        </p:nvSpPr>
        <p:spPr>
          <a:xfrm>
            <a:off x="6939360" y="380880"/>
            <a:ext cx="1861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ůzné druhy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bjektů odlišíme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arvou nebo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zv. „stereotypem“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j.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isem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7" name="AutoShape 8"/>
          <p:cNvCxnSpPr>
            <a:stCxn id="818" idx="6"/>
          </p:cNvCxnSpPr>
          <p:nvPr/>
        </p:nvCxnSpPr>
        <p:spPr>
          <a:xfrm flipV="1">
            <a:off x="1676520" y="2545920"/>
            <a:ext cx="158976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19" name="AutoShape 9"/>
          <p:cNvCxnSpPr/>
          <p:nvPr/>
        </p:nvCxnSpPr>
        <p:spPr>
          <a:xfrm>
            <a:off x="3569760" y="2763360"/>
            <a:ext cx="1002600" cy="1809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0" name="AutoShape 10"/>
          <p:cNvCxnSpPr>
            <a:endCxn id="821" idx="2"/>
          </p:cNvCxnSpPr>
          <p:nvPr/>
        </p:nvCxnSpPr>
        <p:spPr>
          <a:xfrm>
            <a:off x="4876920" y="4789440"/>
            <a:ext cx="1829520" cy="659520"/>
          </a:xfrm>
          <a:prstGeom prst="bentConnector3">
            <a:avLst>
              <a:gd name="adj1" fmla="val 499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22" name="AutoShape 11"/>
          <p:cNvCxnSpPr>
            <a:stCxn id="823" idx="4"/>
          </p:cNvCxnSpPr>
          <p:nvPr/>
        </p:nvCxnSpPr>
        <p:spPr>
          <a:xfrm flipV="1">
            <a:off x="3885840" y="5006160"/>
            <a:ext cx="686520" cy="785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24" name="Text Box 16"/>
          <p:cNvSpPr/>
          <p:nvPr/>
        </p:nvSpPr>
        <p:spPr>
          <a:xfrm>
            <a:off x="419256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18"/>
          <p:cNvSpPr/>
          <p:nvPr/>
        </p:nvSpPr>
        <p:spPr>
          <a:xfrm>
            <a:off x="4041000" y="5791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586908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5106960" y="4495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3430800" y="2971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4573800" y="5029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6098400" y="51055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16"/>
          <p:cNvSpPr/>
          <p:nvPr/>
        </p:nvSpPr>
        <p:spPr>
          <a:xfrm>
            <a:off x="3429000" y="5638680"/>
            <a:ext cx="457200" cy="304920"/>
          </a:xfrm>
          <a:prstGeom prst="flowChartMagneticDisk">
            <a:avLst/>
          </a:prstGeom>
          <a:gradFill rotWithShape="0">
            <a:gsLst>
              <a:gs pos="0">
                <a:srgbClr val="a26182"/>
              </a:gs>
              <a:gs pos="50000">
                <a:srgbClr val="ff99cc"/>
              </a:gs>
              <a:gs pos="100000">
                <a:srgbClr val="a2618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AutoShape 17"/>
          <p:cNvSpPr/>
          <p:nvPr/>
        </p:nvSpPr>
        <p:spPr>
          <a:xfrm>
            <a:off x="1295280" y="2362320"/>
            <a:ext cx="38124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18" descr="C:\Documents and Settings\Ivan Ryant\Data aplikací\Microsoft\Media Catalog\Downloaded Clips\cla2\j0405438.jpg"/>
          <p:cNvPicPr/>
          <p:nvPr/>
        </p:nvPicPr>
        <p:blipFill>
          <a:blip r:embed="rId1"/>
          <a:stretch/>
        </p:blipFill>
        <p:spPr>
          <a:xfrm>
            <a:off x="5791320" y="236232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9"/>
          <p:cNvSpPr/>
          <p:nvPr/>
        </p:nvSpPr>
        <p:spPr>
          <a:xfrm>
            <a:off x="688320" y="19810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AutoShape 9"/>
          <p:cNvCxnSpPr/>
          <p:nvPr/>
        </p:nvCxnSpPr>
        <p:spPr>
          <a:xfrm flipH="1">
            <a:off x="4571280" y="2797200"/>
            <a:ext cx="1524600" cy="177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34" name="Text Box 16"/>
          <p:cNvSpPr/>
          <p:nvPr/>
        </p:nvSpPr>
        <p:spPr>
          <a:xfrm>
            <a:off x="4802400" y="4191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21"/>
          <p:cNvSpPr/>
          <p:nvPr/>
        </p:nvSpPr>
        <p:spPr>
          <a:xfrm>
            <a:off x="28209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AutoShape 8"/>
          <p:cNvCxnSpPr>
            <a:endCxn id="837" idx="2"/>
          </p:cNvCxnSpPr>
          <p:nvPr/>
        </p:nvCxnSpPr>
        <p:spPr>
          <a:xfrm>
            <a:off x="6400800" y="2579760"/>
            <a:ext cx="991440" cy="583200"/>
          </a:xfrm>
          <a:prstGeom prst="bentConnector3">
            <a:avLst>
              <a:gd name="adj1" fmla="val 49981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38" name="Text Box 21"/>
          <p:cNvSpPr/>
          <p:nvPr/>
        </p:nvSpPr>
        <p:spPr>
          <a:xfrm>
            <a:off x="64785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9" name="AutoShape 9"/>
          <p:cNvCxnSpPr>
            <a:stCxn id="840" idx="4"/>
            <a:endCxn id="823" idx="2"/>
          </p:cNvCxnSpPr>
          <p:nvPr/>
        </p:nvCxnSpPr>
        <p:spPr>
          <a:xfrm flipH="1" rot="16200000">
            <a:off x="1847520" y="4209480"/>
            <a:ext cx="1753560" cy="1410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1" name="Text Box 18"/>
          <p:cNvSpPr/>
          <p:nvPr/>
        </p:nvSpPr>
        <p:spPr>
          <a:xfrm>
            <a:off x="2060280" y="411480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8"/>
          <p:cNvSpPr/>
          <p:nvPr/>
        </p:nvSpPr>
        <p:spPr>
          <a:xfrm>
            <a:off x="2898000" y="54100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23"/>
          <p:cNvSpPr/>
          <p:nvPr/>
        </p:nvSpPr>
        <p:spPr>
          <a:xfrm>
            <a:off x="6784200" y="320040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23"/>
          <p:cNvSpPr/>
          <p:nvPr/>
        </p:nvSpPr>
        <p:spPr>
          <a:xfrm>
            <a:off x="1983600" y="220968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0.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5" name="Picture 37" descr="C:\Documents and Settings\Ivan Ryant\Data aplikací\Microsoft\Media Catalog\Downloaded Clips\cla2\j0405438.jpg"/>
          <p:cNvPicPr/>
          <p:nvPr/>
        </p:nvPicPr>
        <p:blipFill>
          <a:blip r:embed="rId2"/>
          <a:stretch/>
        </p:blipFill>
        <p:spPr>
          <a:xfrm>
            <a:off x="3265560" y="2328840"/>
            <a:ext cx="609480" cy="434880"/>
          </a:xfrm>
          <a:prstGeom prst="rect">
            <a:avLst/>
          </a:prstGeom>
          <a:ln w="0">
            <a:noFill/>
          </a:ln>
        </p:spPr>
      </p:pic>
      <p:sp>
        <p:nvSpPr>
          <p:cNvPr id="846" name="Text Box 38"/>
          <p:cNvSpPr/>
          <p:nvPr/>
        </p:nvSpPr>
        <p:spPr>
          <a:xfrm>
            <a:off x="3660480" y="266688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39" descr="C:\Documents and Settings\Ivan Ryant\Data aplikací\Microsoft\Media Catalog\Downloaded Clips\cla2\j0405438.jpg"/>
          <p:cNvPicPr/>
          <p:nvPr/>
        </p:nvPicPr>
        <p:blipFill>
          <a:blip r:embed="rId3"/>
          <a:stretch/>
        </p:blipFill>
        <p:spPr>
          <a:xfrm>
            <a:off x="4267080" y="4572000"/>
            <a:ext cx="609840" cy="434880"/>
          </a:xfrm>
          <a:prstGeom prst="rect">
            <a:avLst/>
          </a:prstGeom>
          <a:ln w="0">
            <a:noFill/>
          </a:ln>
        </p:spPr>
      </p:pic>
      <p:sp>
        <p:nvSpPr>
          <p:cNvPr id="848" name="Text Box 40"/>
          <p:cNvSpPr/>
          <p:nvPr/>
        </p:nvSpPr>
        <p:spPr>
          <a:xfrm>
            <a:off x="5031000" y="236232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41"/>
          <p:cNvSpPr/>
          <p:nvPr/>
        </p:nvSpPr>
        <p:spPr>
          <a:xfrm>
            <a:off x="3508200" y="4572000"/>
            <a:ext cx="92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_prod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42"/>
          <p:cNvSpPr/>
          <p:nvPr/>
        </p:nvSpPr>
        <p:spPr>
          <a:xfrm>
            <a:off x="2591640" y="5943600"/>
            <a:ext cx="15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kladová_ka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43"/>
          <p:cNvSpPr/>
          <p:nvPr/>
        </p:nvSpPr>
        <p:spPr>
          <a:xfrm>
            <a:off x="2211120" y="365760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katalo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44"/>
          <p:cNvSpPr/>
          <p:nvPr/>
        </p:nvSpPr>
        <p:spPr>
          <a:xfrm>
            <a:off x="7316640" y="335268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nák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 Box 45"/>
          <p:cNvSpPr/>
          <p:nvPr/>
        </p:nvSpPr>
        <p:spPr>
          <a:xfrm>
            <a:off x="7087320" y="52578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_skl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AutoShape 46"/>
          <p:cNvSpPr/>
          <p:nvPr/>
        </p:nvSpPr>
        <p:spPr>
          <a:xfrm>
            <a:off x="1828800" y="36576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AutoShape 47"/>
          <p:cNvSpPr/>
          <p:nvPr/>
        </p:nvSpPr>
        <p:spPr>
          <a:xfrm>
            <a:off x="7391520" y="2971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48"/>
          <p:cNvSpPr/>
          <p:nvPr/>
        </p:nvSpPr>
        <p:spPr>
          <a:xfrm>
            <a:off x="6705720" y="5257800"/>
            <a:ext cx="38088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bbe0e3"/>
              </a:gs>
              <a:gs pos="100000">
                <a:srgbClr val="94b1b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AutoShape 8"/>
          <p:cNvCxnSpPr>
            <a:stCxn id="818" idx="4"/>
            <a:endCxn id="840" idx="1"/>
          </p:cNvCxnSpPr>
          <p:nvPr/>
        </p:nvCxnSpPr>
        <p:spPr>
          <a:xfrm>
            <a:off x="1486080" y="2743200"/>
            <a:ext cx="398880" cy="970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</p:cxnSp>
      <p:sp>
        <p:nvSpPr>
          <p:cNvPr id="855" name="Text Box 50"/>
          <p:cNvSpPr/>
          <p:nvPr/>
        </p:nvSpPr>
        <p:spPr>
          <a:xfrm>
            <a:off x="7319160" y="380880"/>
            <a:ext cx="152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tzv. „stereotyp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ze vyjádřit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«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ápise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br>
              <a:rPr sz="1600"/>
            </a:b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bo ikono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elační databázi rozlišujeme tyto druhy objek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tabu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kolekce datových objekt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dotaz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řídí výběr dat z tabule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formulá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uživatelské rozhraní + říz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ový </a:t>
            </a: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modu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vykonává činnosti, řídí činnost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Delphi nerozlišujeme druhy objektů tak přísně, k implementaci použije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jekty typů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ěnné typů záznam (record) – příp. alokované dynamicky ve spojení s proměnnými typů ukazatel (poin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ilační jednotky (unit) – mají po jediné instan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ákna (thread) – to je zvláštní případ typu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rogramování objekt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419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močará implementace tříd a jejich instanc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Delphi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dobně v Javě, 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ukturovaný datový typ 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třída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dobný jako zázn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měnná tohoto typu </a:t>
            </a:r>
            <a:r>
              <a:rPr b="0" lang="cs-CZ" sz="1800" spc="-1" strike="noStrike">
                <a:solidFill>
                  <a:srgbClr val="a50021"/>
                </a:solidFill>
                <a:latin typeface="Arial"/>
              </a:rPr>
              <a:t>odkaz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na </a:t>
            </a:r>
            <a:r>
              <a:rPr b="0" i="1" lang="cs-CZ" sz="1800" spc="-1" strike="noStrike">
                <a:solidFill>
                  <a:srgbClr val="333399"/>
                </a:solidFill>
                <a:latin typeface="Arial"/>
              </a:rPr>
              <a:t>instanci tříd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odobně jako parametr předaný odkaz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5"/>
          <p:cNvSpPr/>
          <p:nvPr/>
        </p:nvSpPr>
        <p:spPr>
          <a:xfrm>
            <a:off x="4572000" y="1371600"/>
            <a:ext cx="4317840" cy="5204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C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cla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: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SetX(val: Integ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GetX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</a:rPr>
              <a:t> {TC}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rocedu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C.SetX(val: Integ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:= val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TC.GetX: Integer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GetX := x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 en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a, b: T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beg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:= TC.Create; a.SetX (1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23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 := TC.Create; b.SetX (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321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iteln (a.GetX, b.GetX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cs-CZ" sz="1600" spc="-1" strike="noStrike">
                <a:solidFill>
                  <a:srgbClr val="000000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objektu v progra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vede objekt do počátečního stav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oda (meth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tina, která je členem ob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kaz na objekt se předává do metody jako skrytý parame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ěkteré metody jsou přístupné uvnitř 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jsou navenek skryty a přístupné jsou jen z jiných metod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ová položka, atribut (field, attribu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měnné, které jsou členem objektu, zachycují okamžitý stav in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icky jsou přístupné uvnitř metod, ale nikoli vně objektu (</a:t>
            </a:r>
            <a:r>
              <a:rPr b="1" lang="cs-CZ" sz="20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– realizují princip </a:t>
            </a:r>
            <a:r>
              <a:rPr b="0" lang="cs-CZ" sz="2000" spc="-1" strike="noStrike">
                <a:solidFill>
                  <a:srgbClr val="a50021"/>
                </a:solidFill>
                <a:latin typeface="Arial"/>
              </a:rPr>
              <a:t>skrývání informa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á alok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ohled pod poklič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ukaz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ynamické pr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vládání volné pa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ce objekt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ů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v Object Pascal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jektový ty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ypicky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dičnost, zapouzdření, polymorfis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yntaktické konstru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las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ve zvláštních případech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recor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nebo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uni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říp.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objec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ědění, např.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heuteAtrClass = class (todayAtrClass)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cedurální typ, např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rocMesic = procedure(x: integ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rtuální metody (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virtua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overrid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struktory a destruk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láštní metody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reat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estroy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příp.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constructo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destru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záznam (reco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a50021"/>
                </a:solidFill>
                <a:latin typeface="Arial"/>
              </a:rPr>
              <a:t>skládá se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z datových členů</a:t>
            </a:r>
            <a:r>
              <a:rPr b="0" lang="cs-CZ" sz="3200" spc="-1" strike="noStrike">
                <a:solidFill>
                  <a:srgbClr val="a50021"/>
                </a:solidFill>
                <a:latin typeface="Arial"/>
              </a:rPr>
              <a:t> různých typ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ůže obsahovat členy procedurálních typů, ale ne obyčejné met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 se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zapisova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 souboru a </a:t>
            </a:r>
            <a:r>
              <a:rPr b="1" lang="cs-CZ" sz="3200" spc="-1" strike="noStrike">
                <a:solidFill>
                  <a:srgbClr val="a50021"/>
                </a:solidFill>
                <a:latin typeface="Arial"/>
              </a:rPr>
              <a:t>číst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ze souboru (při dodržení určitých omezení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á se alokovat dynamicky procedurami </a:t>
            </a:r>
            <a:r>
              <a:rPr b="1" lang="cs-CZ" sz="32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200" spc="-1" strike="noStrike">
                <a:solidFill>
                  <a:srgbClr val="333399"/>
                </a:solidFill>
                <a:latin typeface="Courier New"/>
              </a:rPr>
              <a:t>dis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6168960" y="518148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type</a:t>
            </a:r>
            <a:r>
              <a:rPr b="0" lang="cs-CZ" sz="1800" spc="-1" strike="noStrike">
                <a:solidFill>
                  <a:srgbClr val="333399"/>
                </a:solidFill>
                <a:latin typeface="Courier New"/>
              </a:rPr>
              <a:t> X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= </a:t>
            </a: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: String[15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B: Integ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 ukaza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sahuje 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odkaz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ferenc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 pro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no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určitého ty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kaz může mířit do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volné paměti,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kde proměnné jsou alokovány </a:t>
            </a: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dynamicky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pomocí procedur </a:t>
            </a: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2800" spc="-1" strike="noStrike">
                <a:solidFill>
                  <a:srgbClr val="333399"/>
                </a:solidFill>
                <a:latin typeface="Courier New"/>
              </a:rPr>
              <a:t>dispos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4"/>
          <p:cNvSpPr/>
          <p:nvPr/>
        </p:nvSpPr>
        <p:spPr>
          <a:xfrm>
            <a:off x="5939280" y="4191120"/>
            <a:ext cx="278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Courier New"/>
              </a:rPr>
              <a:t>type</a:t>
            </a:r>
            <a:r>
              <a:rPr b="0" lang="cs-CZ" sz="1800" spc="-1" strike="noStrike">
                <a:solidFill>
                  <a:srgbClr val="333399"/>
                </a:solidFill>
                <a:latin typeface="Courier New"/>
              </a:rPr>
              <a:t> PX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= ^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var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vx: PX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new(v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vx^.A := 'ahoj!'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write(vx^.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dispose(vx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ýmová práce, projekty</a:t>
            </a:r>
            <a:br>
              <a:rPr sz="4000"/>
            </a:br>
            <a:r>
              <a:rPr b="0" i="1" lang="cs-CZ" sz="4000" spc="-1" strike="noStrike">
                <a:solidFill>
                  <a:srgbClr val="000000"/>
                </a:solidFill>
                <a:latin typeface="Arial"/>
              </a:rPr>
              <a:t>Plánován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26520" y="3352680"/>
            <a:ext cx="13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žadavky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án 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společně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seminá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506400" y="1981080"/>
            <a:ext cx="187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jektový návrh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ch. dok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 člov. / 2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4041720" y="350532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rogramov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6 čl. / 3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220040" y="556272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. scénáře,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iv. příruč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5 čl. / 2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220040" y="198108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se-case dg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iagram tří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 čl. / 1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AutoShape 12"/>
          <p:cNvCxnSpPr>
            <a:stCxn id="70" idx="3"/>
            <a:endCxn id="67" idx="1"/>
          </p:cNvCxnSpPr>
          <p:nvPr/>
        </p:nvCxnSpPr>
        <p:spPr>
          <a:xfrm>
            <a:off x="2850840" y="2439720"/>
            <a:ext cx="654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14"/>
          <p:cNvCxnSpPr>
            <a:stCxn id="66" idx="0"/>
            <a:endCxn id="70" idx="1"/>
          </p:cNvCxnSpPr>
          <p:nvPr/>
        </p:nvCxnSpPr>
        <p:spPr>
          <a:xfrm flipV="1">
            <a:off x="993240" y="2439360"/>
            <a:ext cx="2264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16"/>
          <p:cNvCxnSpPr>
            <a:stCxn id="66" idx="2"/>
            <a:endCxn id="69" idx="1"/>
          </p:cNvCxnSpPr>
          <p:nvPr/>
        </p:nvCxnSpPr>
        <p:spPr>
          <a:xfrm flipH="1" rot="16200000">
            <a:off x="366480" y="5169240"/>
            <a:ext cx="1478520" cy="2264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74" name="Text Box 20"/>
          <p:cNvSpPr/>
          <p:nvPr/>
        </p:nvSpPr>
        <p:spPr>
          <a:xfrm>
            <a:off x="6935040" y="365760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stala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al. pří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 čl. / 2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AutoShape 22"/>
          <p:cNvCxnSpPr>
            <a:stCxn id="69" idx="3"/>
            <a:endCxn id="76" idx="1"/>
          </p:cNvCxnSpPr>
          <p:nvPr/>
        </p:nvCxnSpPr>
        <p:spPr>
          <a:xfrm flipV="1">
            <a:off x="2851200" y="5196600"/>
            <a:ext cx="1327680" cy="824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24"/>
          <p:cNvCxnSpPr>
            <a:stCxn id="69" idx="3"/>
            <a:endCxn id="74" idx="2"/>
          </p:cNvCxnSpPr>
          <p:nvPr/>
        </p:nvCxnSpPr>
        <p:spPr>
          <a:xfrm flipV="1">
            <a:off x="2851200" y="4573080"/>
            <a:ext cx="4899600" cy="144864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78" name="AutoShape 21"/>
          <p:cNvCxnSpPr>
            <a:stCxn id="76" idx="0"/>
            <a:endCxn id="68" idx="2"/>
          </p:cNvCxnSpPr>
          <p:nvPr/>
        </p:nvCxnSpPr>
        <p:spPr>
          <a:xfrm flipH="1" flipV="1">
            <a:off x="4898160" y="4145760"/>
            <a:ext cx="96120" cy="731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AutoShape 19"/>
          <p:cNvCxnSpPr>
            <a:stCxn id="67" idx="2"/>
            <a:endCxn id="68" idx="0"/>
          </p:cNvCxnSpPr>
          <p:nvPr/>
        </p:nvCxnSpPr>
        <p:spPr>
          <a:xfrm>
            <a:off x="4441680" y="2896920"/>
            <a:ext cx="457920" cy="608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Text Box 20"/>
          <p:cNvSpPr/>
          <p:nvPr/>
        </p:nvSpPr>
        <p:spPr>
          <a:xfrm>
            <a:off x="4179240" y="4876920"/>
            <a:ext cx="163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5 čl. / 3 sem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22"/>
          <p:cNvCxnSpPr>
            <a:stCxn id="76" idx="0"/>
            <a:endCxn id="74" idx="1"/>
          </p:cNvCxnSpPr>
          <p:nvPr/>
        </p:nvCxnSpPr>
        <p:spPr>
          <a:xfrm flipV="1">
            <a:off x="4993920" y="4115520"/>
            <a:ext cx="1940760" cy="76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AutoShape 16"/>
          <p:cNvCxnSpPr>
            <a:stCxn id="76" idx="1"/>
            <a:endCxn id="67" idx="2"/>
          </p:cNvCxnSpPr>
          <p:nvPr/>
        </p:nvCxnSpPr>
        <p:spPr>
          <a:xfrm flipH="1" rot="10800000">
            <a:off x="4177800" y="2896560"/>
            <a:ext cx="264240" cy="2300760"/>
          </a:xfrm>
          <a:prstGeom prst="bentConnector4">
            <a:avLst>
              <a:gd name="adj1" fmla="val -86630"/>
              <a:gd name="adj2" fmla="val 87496"/>
            </a:avLst>
          </a:prstGeom>
          <a:ln w="9360">
            <a:solidFill>
              <a:srgbClr val="000000"/>
            </a:solidFill>
            <a:round/>
            <a:tailEnd len="med" type="triangle" w="med"/>
          </a:ln>
        </p:spPr>
      </p:cxnSp>
      <p:cxnSp>
        <p:nvCxnSpPr>
          <p:cNvPr id="82" name="AutoShape 22"/>
          <p:cNvCxnSpPr>
            <a:stCxn id="68" idx="3"/>
            <a:endCxn id="74" idx="1"/>
          </p:cNvCxnSpPr>
          <p:nvPr/>
        </p:nvCxnSpPr>
        <p:spPr>
          <a:xfrm>
            <a:off x="5759280" y="3825360"/>
            <a:ext cx="117576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ukazatel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é 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prostředky pro vytváření dynamických datových strukt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lná pamě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 ukaz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cedury new a dis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tody Create a F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ukazatel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é 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vládání volné pamě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lok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sadně explicitně (new, Cre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le např. kolekce si alokuje nové položky sama podle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volňování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plicitně (v Delphi např. metodou Fre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elphi: objekty, které dědí TInterfacedObject a implementují nějaký interfejs, mají počítadlo odkazů a při nulovém počtu odkazů se automaticky uvolní z pamě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va, 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maj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bage coll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yp ukazatel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ynamické proměnn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opojováním dynamických dat mezi sebou vznikají jednodušší nebo složitější </a:t>
            </a:r>
            <a:r>
              <a:rPr b="1" lang="cs-CZ" sz="3200" spc="-1" strike="noStrike">
                <a:solidFill>
                  <a:srgbClr val="333399"/>
                </a:solidFill>
                <a:latin typeface="Arial"/>
              </a:rPr>
              <a:t>dynamické datové struktury,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př. spojový sezn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ční strategie a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1371600" y="5028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řeh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798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lišení testů podle toho, co testuj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části tes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éná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ru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ak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ate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hora do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4640" indent="-487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ola naho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es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y jednotek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unit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objektů (tří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tegrační testy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integr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stování po řídících t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egresní tes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y systému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(system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áv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živatelské (testuje uživatel podle příručk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mátkov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08120" y="291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části tes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67920" y="1206360"/>
            <a:ext cx="8628120" cy="529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ací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generovat automaticky zpětným inženýrstv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ací scénáře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(test ca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generovat automaticky zpětným inženýrstv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ze generovat ze scénářů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analýza požadavků - scénáře způsobů užit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stovací příruby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(test stub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lze generovat zpětným inženýrství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tegraci shora dolů lze někdy generovat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To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tegraci zdola nahoru lze omezit jejich poč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ktik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685800" y="1185480"/>
            <a:ext cx="7772400" cy="4910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dle specifikace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black box t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ezvy na vnější stimu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složit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stav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edují se hodnoty proměnný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a50021"/>
                </a:solidFill>
                <a:latin typeface="Arial"/>
              </a:rPr>
              <a:t>složitos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ukturní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(white / glass box te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ždý příkaz se má vykonat aspoň jed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9999"/>
                </a:solidFill>
                <a:latin typeface="Arial"/>
              </a:rPr>
              <a:t>umožňuje zvládnout složit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544760"/>
            <a:ext cx="2890800" cy="63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hora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4"/>
          <p:cNvSpPr/>
          <p:nvPr/>
        </p:nvSpPr>
        <p:spPr>
          <a:xfrm>
            <a:off x="685800" y="3959280"/>
            <a:ext cx="289080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dola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5"/>
          <p:cNvSpPr/>
          <p:nvPr/>
        </p:nvSpPr>
        <p:spPr>
          <a:xfrm>
            <a:off x="650880" y="245916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Group 6"/>
          <p:cNvGrpSpPr/>
          <p:nvPr/>
        </p:nvGrpSpPr>
        <p:grpSpPr>
          <a:xfrm>
            <a:off x="1325520" y="2197080"/>
            <a:ext cx="1031760" cy="1747800"/>
            <a:chOff x="1325520" y="2197080"/>
            <a:chExt cx="1031760" cy="1747800"/>
          </a:xfrm>
        </p:grpSpPr>
        <p:sp>
          <p:nvSpPr>
            <p:cNvPr id="895" name="Line 7"/>
            <p:cNvSpPr/>
            <p:nvPr/>
          </p:nvSpPr>
          <p:spPr>
            <a:xfrm flipH="1">
              <a:off x="1372680" y="2500200"/>
              <a:ext cx="320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8"/>
            <p:cNvSpPr/>
            <p:nvPr/>
          </p:nvSpPr>
          <p:spPr>
            <a:xfrm>
              <a:off x="214632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9"/>
            <p:cNvSpPr/>
            <p:nvPr/>
          </p:nvSpPr>
          <p:spPr>
            <a:xfrm>
              <a:off x="133668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10"/>
            <p:cNvSpPr/>
            <p:nvPr/>
          </p:nvSpPr>
          <p:spPr>
            <a:xfrm>
              <a:off x="132552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11"/>
            <p:cNvSpPr/>
            <p:nvPr/>
          </p:nvSpPr>
          <p:spPr>
            <a:xfrm>
              <a:off x="1508040" y="2489040"/>
              <a:ext cx="64620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Group 12"/>
          <p:cNvGrpSpPr/>
          <p:nvPr/>
        </p:nvGrpSpPr>
        <p:grpSpPr>
          <a:xfrm>
            <a:off x="2765520" y="2197080"/>
            <a:ext cx="1031760" cy="1747800"/>
            <a:chOff x="2765520" y="2197080"/>
            <a:chExt cx="1031760" cy="1747800"/>
          </a:xfrm>
        </p:grpSpPr>
        <p:sp>
          <p:nvSpPr>
            <p:cNvPr id="901" name="Line 13"/>
            <p:cNvSpPr/>
            <p:nvPr/>
          </p:nvSpPr>
          <p:spPr>
            <a:xfrm flipH="1">
              <a:off x="2813040" y="250020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14"/>
            <p:cNvSpPr/>
            <p:nvPr/>
          </p:nvSpPr>
          <p:spPr>
            <a:xfrm>
              <a:off x="358632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15"/>
            <p:cNvSpPr/>
            <p:nvPr/>
          </p:nvSpPr>
          <p:spPr>
            <a:xfrm>
              <a:off x="277668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16"/>
            <p:cNvSpPr/>
            <p:nvPr/>
          </p:nvSpPr>
          <p:spPr>
            <a:xfrm>
              <a:off x="277668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17"/>
            <p:cNvSpPr/>
            <p:nvPr/>
          </p:nvSpPr>
          <p:spPr>
            <a:xfrm>
              <a:off x="3422520" y="2948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18"/>
            <p:cNvSpPr/>
            <p:nvPr/>
          </p:nvSpPr>
          <p:spPr>
            <a:xfrm>
              <a:off x="276552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19"/>
            <p:cNvSpPr/>
            <p:nvPr/>
          </p:nvSpPr>
          <p:spPr>
            <a:xfrm>
              <a:off x="2948040" y="2489040"/>
              <a:ext cx="64620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20"/>
            <p:cNvSpPr/>
            <p:nvPr/>
          </p:nvSpPr>
          <p:spPr>
            <a:xfrm flipH="1">
              <a:off x="2813040" y="323856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21"/>
            <p:cNvSpPr/>
            <p:nvPr/>
          </p:nvSpPr>
          <p:spPr>
            <a:xfrm>
              <a:off x="3019320" y="308448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0" name="Group 22"/>
          <p:cNvGrpSpPr/>
          <p:nvPr/>
        </p:nvGrpSpPr>
        <p:grpSpPr>
          <a:xfrm>
            <a:off x="4246560" y="2197080"/>
            <a:ext cx="1031760" cy="1747800"/>
            <a:chOff x="4246560" y="2197080"/>
            <a:chExt cx="1031760" cy="1747800"/>
          </a:xfrm>
        </p:grpSpPr>
        <p:sp>
          <p:nvSpPr>
            <p:cNvPr id="911" name="Line 23"/>
            <p:cNvSpPr/>
            <p:nvPr/>
          </p:nvSpPr>
          <p:spPr>
            <a:xfrm flipH="1">
              <a:off x="4294080" y="250020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24"/>
            <p:cNvSpPr/>
            <p:nvPr/>
          </p:nvSpPr>
          <p:spPr>
            <a:xfrm>
              <a:off x="461628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25"/>
            <p:cNvSpPr/>
            <p:nvPr/>
          </p:nvSpPr>
          <p:spPr>
            <a:xfrm>
              <a:off x="506736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26"/>
            <p:cNvSpPr/>
            <p:nvPr/>
          </p:nvSpPr>
          <p:spPr>
            <a:xfrm>
              <a:off x="4257720" y="3686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27"/>
            <p:cNvSpPr/>
            <p:nvPr/>
          </p:nvSpPr>
          <p:spPr>
            <a:xfrm>
              <a:off x="425772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28"/>
            <p:cNvSpPr/>
            <p:nvPr/>
          </p:nvSpPr>
          <p:spPr>
            <a:xfrm>
              <a:off x="4903920" y="294804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29"/>
            <p:cNvSpPr/>
            <p:nvPr/>
          </p:nvSpPr>
          <p:spPr>
            <a:xfrm>
              <a:off x="424656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30"/>
            <p:cNvSpPr/>
            <p:nvPr/>
          </p:nvSpPr>
          <p:spPr>
            <a:xfrm>
              <a:off x="4429080" y="2489040"/>
              <a:ext cx="64620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31"/>
            <p:cNvSpPr/>
            <p:nvPr/>
          </p:nvSpPr>
          <p:spPr>
            <a:xfrm flipH="1">
              <a:off x="4294080" y="323856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32"/>
            <p:cNvSpPr/>
            <p:nvPr/>
          </p:nvSpPr>
          <p:spPr>
            <a:xfrm flipH="1">
              <a:off x="4727160" y="323856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33"/>
            <p:cNvSpPr/>
            <p:nvPr/>
          </p:nvSpPr>
          <p:spPr>
            <a:xfrm flipH="1" flipV="1">
              <a:off x="4440240" y="3238560"/>
              <a:ext cx="1951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34"/>
            <p:cNvSpPr/>
            <p:nvPr/>
          </p:nvSpPr>
          <p:spPr>
            <a:xfrm>
              <a:off x="4500720" y="3084480"/>
              <a:ext cx="37116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Line 35"/>
          <p:cNvSpPr/>
          <p:nvPr/>
        </p:nvSpPr>
        <p:spPr>
          <a:xfrm flipH="1">
            <a:off x="5796000" y="2500200"/>
            <a:ext cx="3168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36"/>
          <p:cNvSpPr/>
          <p:nvPr/>
        </p:nvSpPr>
        <p:spPr>
          <a:xfrm>
            <a:off x="6118200" y="3686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37"/>
          <p:cNvSpPr/>
          <p:nvPr/>
        </p:nvSpPr>
        <p:spPr>
          <a:xfrm>
            <a:off x="6568920" y="3686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38"/>
          <p:cNvSpPr/>
          <p:nvPr/>
        </p:nvSpPr>
        <p:spPr>
          <a:xfrm>
            <a:off x="5759280" y="3686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39"/>
          <p:cNvSpPr/>
          <p:nvPr/>
        </p:nvSpPr>
        <p:spPr>
          <a:xfrm>
            <a:off x="5759280" y="2948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40"/>
          <p:cNvSpPr/>
          <p:nvPr/>
        </p:nvSpPr>
        <p:spPr>
          <a:xfrm>
            <a:off x="6405480" y="2948040"/>
            <a:ext cx="2113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Rectangle 41"/>
          <p:cNvSpPr/>
          <p:nvPr/>
        </p:nvSpPr>
        <p:spPr>
          <a:xfrm>
            <a:off x="6621480" y="2197080"/>
            <a:ext cx="2095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42"/>
          <p:cNvSpPr/>
          <p:nvPr/>
        </p:nvSpPr>
        <p:spPr>
          <a:xfrm>
            <a:off x="5748480" y="2197080"/>
            <a:ext cx="20952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43"/>
          <p:cNvSpPr/>
          <p:nvPr/>
        </p:nvSpPr>
        <p:spPr>
          <a:xfrm>
            <a:off x="5931000" y="2489040"/>
            <a:ext cx="645840" cy="116064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44"/>
          <p:cNvSpPr/>
          <p:nvPr/>
        </p:nvSpPr>
        <p:spPr>
          <a:xfrm flipH="1">
            <a:off x="5796000" y="3238560"/>
            <a:ext cx="3168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45"/>
          <p:cNvSpPr/>
          <p:nvPr/>
        </p:nvSpPr>
        <p:spPr>
          <a:xfrm flipH="1">
            <a:off x="6505560" y="2500200"/>
            <a:ext cx="15552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46"/>
          <p:cNvSpPr/>
          <p:nvPr/>
        </p:nvSpPr>
        <p:spPr>
          <a:xfrm flipH="1">
            <a:off x="6229080" y="3238560"/>
            <a:ext cx="23652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Line 47"/>
          <p:cNvSpPr/>
          <p:nvPr/>
        </p:nvSpPr>
        <p:spPr>
          <a:xfrm flipH="1" flipV="1">
            <a:off x="5942160" y="3238560"/>
            <a:ext cx="195120" cy="4111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48"/>
          <p:cNvSpPr/>
          <p:nvPr/>
        </p:nvSpPr>
        <p:spPr>
          <a:xfrm>
            <a:off x="6002280" y="3084480"/>
            <a:ext cx="37152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49"/>
          <p:cNvGrpSpPr/>
          <p:nvPr/>
        </p:nvGrpSpPr>
        <p:grpSpPr>
          <a:xfrm>
            <a:off x="7251840" y="2197080"/>
            <a:ext cx="1238040" cy="1747800"/>
            <a:chOff x="7251840" y="2197080"/>
            <a:chExt cx="1238040" cy="1747800"/>
          </a:xfrm>
        </p:grpSpPr>
        <p:sp>
          <p:nvSpPr>
            <p:cNvPr id="938" name="Line 50"/>
            <p:cNvSpPr/>
            <p:nvPr/>
          </p:nvSpPr>
          <p:spPr>
            <a:xfrm flipH="1">
              <a:off x="7299360" y="250020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51"/>
            <p:cNvSpPr/>
            <p:nvPr/>
          </p:nvSpPr>
          <p:spPr>
            <a:xfrm>
              <a:off x="762156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52"/>
            <p:cNvSpPr/>
            <p:nvPr/>
          </p:nvSpPr>
          <p:spPr>
            <a:xfrm>
              <a:off x="807228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53"/>
            <p:cNvSpPr/>
            <p:nvPr/>
          </p:nvSpPr>
          <p:spPr>
            <a:xfrm>
              <a:off x="7262640" y="3686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54"/>
            <p:cNvSpPr/>
            <p:nvPr/>
          </p:nvSpPr>
          <p:spPr>
            <a:xfrm>
              <a:off x="7262640" y="2948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55"/>
            <p:cNvSpPr/>
            <p:nvPr/>
          </p:nvSpPr>
          <p:spPr>
            <a:xfrm>
              <a:off x="7908840" y="294804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56"/>
            <p:cNvSpPr/>
            <p:nvPr/>
          </p:nvSpPr>
          <p:spPr>
            <a:xfrm>
              <a:off x="8280360" y="294804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57"/>
            <p:cNvSpPr/>
            <p:nvPr/>
          </p:nvSpPr>
          <p:spPr>
            <a:xfrm>
              <a:off x="812484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58"/>
            <p:cNvSpPr/>
            <p:nvPr/>
          </p:nvSpPr>
          <p:spPr>
            <a:xfrm>
              <a:off x="7251840" y="219708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59"/>
            <p:cNvSpPr/>
            <p:nvPr/>
          </p:nvSpPr>
          <p:spPr>
            <a:xfrm>
              <a:off x="7434360" y="2489040"/>
              <a:ext cx="645840" cy="116064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60"/>
            <p:cNvSpPr/>
            <p:nvPr/>
          </p:nvSpPr>
          <p:spPr>
            <a:xfrm flipH="1">
              <a:off x="7299360" y="323856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61"/>
            <p:cNvSpPr/>
            <p:nvPr/>
          </p:nvSpPr>
          <p:spPr>
            <a:xfrm>
              <a:off x="8286840" y="2489040"/>
              <a:ext cx="176040" cy="422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62"/>
            <p:cNvSpPr/>
            <p:nvPr/>
          </p:nvSpPr>
          <p:spPr>
            <a:xfrm flipH="1">
              <a:off x="8267400" y="3238560"/>
              <a:ext cx="1522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63"/>
            <p:cNvSpPr/>
            <p:nvPr/>
          </p:nvSpPr>
          <p:spPr>
            <a:xfrm flipH="1">
              <a:off x="8008920" y="2500200"/>
              <a:ext cx="155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64"/>
            <p:cNvSpPr/>
            <p:nvPr/>
          </p:nvSpPr>
          <p:spPr>
            <a:xfrm flipH="1">
              <a:off x="7864200" y="3238560"/>
              <a:ext cx="4316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65"/>
            <p:cNvSpPr/>
            <p:nvPr/>
          </p:nvSpPr>
          <p:spPr>
            <a:xfrm flipH="1">
              <a:off x="7732440" y="323856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66"/>
            <p:cNvSpPr/>
            <p:nvPr/>
          </p:nvSpPr>
          <p:spPr>
            <a:xfrm flipH="1" flipV="1">
              <a:off x="7445520" y="3238560"/>
              <a:ext cx="1951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67"/>
            <p:cNvSpPr/>
            <p:nvPr/>
          </p:nvSpPr>
          <p:spPr>
            <a:xfrm>
              <a:off x="7505640" y="308448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Rectangle 68"/>
          <p:cNvSpPr/>
          <p:nvPr/>
        </p:nvSpPr>
        <p:spPr>
          <a:xfrm>
            <a:off x="1800360" y="6100920"/>
            <a:ext cx="210960" cy="25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69"/>
          <p:cNvSpPr/>
          <p:nvPr/>
        </p:nvSpPr>
        <p:spPr>
          <a:xfrm>
            <a:off x="2251080" y="6100920"/>
            <a:ext cx="210960" cy="25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70"/>
          <p:cNvSpPr/>
          <p:nvPr/>
        </p:nvSpPr>
        <p:spPr>
          <a:xfrm>
            <a:off x="1441440" y="6100920"/>
            <a:ext cx="211320" cy="2584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9" name="Group 71"/>
          <p:cNvGrpSpPr/>
          <p:nvPr/>
        </p:nvGrpSpPr>
        <p:grpSpPr>
          <a:xfrm>
            <a:off x="4067280" y="5362560"/>
            <a:ext cx="1226880" cy="996840"/>
            <a:chOff x="4067280" y="5362560"/>
            <a:chExt cx="1226880" cy="996840"/>
          </a:xfrm>
        </p:grpSpPr>
        <p:sp>
          <p:nvSpPr>
            <p:cNvPr id="960" name="Rectangle 72"/>
            <p:cNvSpPr/>
            <p:nvPr/>
          </p:nvSpPr>
          <p:spPr>
            <a:xfrm>
              <a:off x="4425840" y="6100920"/>
              <a:ext cx="21132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73"/>
            <p:cNvSpPr/>
            <p:nvPr/>
          </p:nvSpPr>
          <p:spPr>
            <a:xfrm>
              <a:off x="4876920" y="6100920"/>
              <a:ext cx="21096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74"/>
            <p:cNvSpPr/>
            <p:nvPr/>
          </p:nvSpPr>
          <p:spPr>
            <a:xfrm>
              <a:off x="4067280" y="6100920"/>
              <a:ext cx="21096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75"/>
            <p:cNvSpPr/>
            <p:nvPr/>
          </p:nvSpPr>
          <p:spPr>
            <a:xfrm>
              <a:off x="4067280" y="536256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76"/>
            <p:cNvSpPr/>
            <p:nvPr/>
          </p:nvSpPr>
          <p:spPr>
            <a:xfrm>
              <a:off x="4713120" y="536256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77"/>
            <p:cNvSpPr/>
            <p:nvPr/>
          </p:nvSpPr>
          <p:spPr>
            <a:xfrm>
              <a:off x="5084640" y="536256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8"/>
            <p:cNvSpPr/>
            <p:nvPr/>
          </p:nvSpPr>
          <p:spPr>
            <a:xfrm flipH="1">
              <a:off x="4103640" y="565308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79"/>
            <p:cNvSpPr/>
            <p:nvPr/>
          </p:nvSpPr>
          <p:spPr>
            <a:xfrm flipH="1">
              <a:off x="5071680" y="5653080"/>
              <a:ext cx="1522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80"/>
            <p:cNvSpPr/>
            <p:nvPr/>
          </p:nvSpPr>
          <p:spPr>
            <a:xfrm flipH="1">
              <a:off x="4668480" y="5653080"/>
              <a:ext cx="4316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81"/>
            <p:cNvSpPr/>
            <p:nvPr/>
          </p:nvSpPr>
          <p:spPr>
            <a:xfrm flipH="1">
              <a:off x="4536720" y="565308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82"/>
            <p:cNvSpPr/>
            <p:nvPr/>
          </p:nvSpPr>
          <p:spPr>
            <a:xfrm flipH="1" flipV="1">
              <a:off x="4249800" y="5653080"/>
              <a:ext cx="1951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83"/>
            <p:cNvSpPr/>
            <p:nvPr/>
          </p:nvSpPr>
          <p:spPr>
            <a:xfrm>
              <a:off x="4309920" y="549900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Group 84"/>
          <p:cNvGrpSpPr/>
          <p:nvPr/>
        </p:nvGrpSpPr>
        <p:grpSpPr>
          <a:xfrm>
            <a:off x="6510240" y="4611600"/>
            <a:ext cx="1238400" cy="1747800"/>
            <a:chOff x="6510240" y="4611600"/>
            <a:chExt cx="1238400" cy="1747800"/>
          </a:xfrm>
        </p:grpSpPr>
        <p:sp>
          <p:nvSpPr>
            <p:cNvPr id="973" name="Line 85"/>
            <p:cNvSpPr/>
            <p:nvPr/>
          </p:nvSpPr>
          <p:spPr>
            <a:xfrm flipH="1">
              <a:off x="6558120" y="491508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86"/>
            <p:cNvSpPr/>
            <p:nvPr/>
          </p:nvSpPr>
          <p:spPr>
            <a:xfrm>
              <a:off x="6880320" y="6100920"/>
              <a:ext cx="21096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87"/>
            <p:cNvSpPr/>
            <p:nvPr/>
          </p:nvSpPr>
          <p:spPr>
            <a:xfrm>
              <a:off x="7331040" y="6100920"/>
              <a:ext cx="21132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88"/>
            <p:cNvSpPr/>
            <p:nvPr/>
          </p:nvSpPr>
          <p:spPr>
            <a:xfrm>
              <a:off x="6521400" y="6100920"/>
              <a:ext cx="211320" cy="2584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89"/>
            <p:cNvSpPr/>
            <p:nvPr/>
          </p:nvSpPr>
          <p:spPr>
            <a:xfrm>
              <a:off x="6521400" y="5362560"/>
              <a:ext cx="2113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90"/>
            <p:cNvSpPr/>
            <p:nvPr/>
          </p:nvSpPr>
          <p:spPr>
            <a:xfrm>
              <a:off x="7167600" y="5362560"/>
              <a:ext cx="21096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91"/>
            <p:cNvSpPr/>
            <p:nvPr/>
          </p:nvSpPr>
          <p:spPr>
            <a:xfrm>
              <a:off x="7539120" y="536256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92"/>
            <p:cNvSpPr/>
            <p:nvPr/>
          </p:nvSpPr>
          <p:spPr>
            <a:xfrm>
              <a:off x="7383600" y="461160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93"/>
            <p:cNvSpPr/>
            <p:nvPr/>
          </p:nvSpPr>
          <p:spPr>
            <a:xfrm>
              <a:off x="6510240" y="4611600"/>
              <a:ext cx="209520" cy="25884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94"/>
            <p:cNvSpPr/>
            <p:nvPr/>
          </p:nvSpPr>
          <p:spPr>
            <a:xfrm>
              <a:off x="6692760" y="4903920"/>
              <a:ext cx="646200" cy="1160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95"/>
            <p:cNvSpPr/>
            <p:nvPr/>
          </p:nvSpPr>
          <p:spPr>
            <a:xfrm flipH="1">
              <a:off x="6558120" y="5653080"/>
              <a:ext cx="316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96"/>
            <p:cNvSpPr/>
            <p:nvPr/>
          </p:nvSpPr>
          <p:spPr>
            <a:xfrm>
              <a:off x="7545240" y="4903920"/>
              <a:ext cx="176400" cy="42228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97"/>
            <p:cNvSpPr/>
            <p:nvPr/>
          </p:nvSpPr>
          <p:spPr>
            <a:xfrm flipH="1">
              <a:off x="7526160" y="5653080"/>
              <a:ext cx="15264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98"/>
            <p:cNvSpPr/>
            <p:nvPr/>
          </p:nvSpPr>
          <p:spPr>
            <a:xfrm flipH="1">
              <a:off x="7267680" y="4915080"/>
              <a:ext cx="155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99"/>
            <p:cNvSpPr/>
            <p:nvPr/>
          </p:nvSpPr>
          <p:spPr>
            <a:xfrm flipH="1">
              <a:off x="7122960" y="5653080"/>
              <a:ext cx="43200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100"/>
            <p:cNvSpPr/>
            <p:nvPr/>
          </p:nvSpPr>
          <p:spPr>
            <a:xfrm flipH="1">
              <a:off x="6990840" y="5653080"/>
              <a:ext cx="23652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101"/>
            <p:cNvSpPr/>
            <p:nvPr/>
          </p:nvSpPr>
          <p:spPr>
            <a:xfrm flipH="1" flipV="1">
              <a:off x="6703560" y="5653080"/>
              <a:ext cx="195480" cy="41112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102"/>
            <p:cNvSpPr/>
            <p:nvPr/>
          </p:nvSpPr>
          <p:spPr>
            <a:xfrm>
              <a:off x="6764400" y="5499000"/>
              <a:ext cx="371520" cy="0"/>
            </a:xfrm>
            <a:prstGeom prst="line">
              <a:avLst/>
            </a:prstGeom>
            <a:ln w="1260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1" name="Rectangle 103"/>
          <p:cNvSpPr/>
          <p:nvPr/>
        </p:nvSpPr>
        <p:spPr>
          <a:xfrm>
            <a:off x="334800" y="2197080"/>
            <a:ext cx="209880" cy="2588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04"/>
          <p:cNvSpPr/>
          <p:nvPr/>
        </p:nvSpPr>
        <p:spPr>
          <a:xfrm>
            <a:off x="1603440" y="2565360"/>
            <a:ext cx="72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uží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15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ategie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implementace a testován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778040"/>
            <a:ext cx="7772400" cy="448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roztržení smyč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4"/>
          <p:cNvSpPr/>
          <p:nvPr/>
        </p:nvSpPr>
        <p:spPr>
          <a:xfrm>
            <a:off x="128736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5"/>
          <p:cNvSpPr/>
          <p:nvPr/>
        </p:nvSpPr>
        <p:spPr>
          <a:xfrm>
            <a:off x="2106720" y="4438800"/>
            <a:ext cx="40464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6"/>
          <p:cNvSpPr/>
          <p:nvPr/>
        </p:nvSpPr>
        <p:spPr>
          <a:xfrm>
            <a:off x="63648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7"/>
          <p:cNvSpPr/>
          <p:nvPr/>
        </p:nvSpPr>
        <p:spPr>
          <a:xfrm>
            <a:off x="1314360" y="574344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8"/>
          <p:cNvSpPr/>
          <p:nvPr/>
        </p:nvSpPr>
        <p:spPr>
          <a:xfrm>
            <a:off x="1503360" y="4973760"/>
            <a:ext cx="0" cy="720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9"/>
          <p:cNvSpPr/>
          <p:nvPr/>
        </p:nvSpPr>
        <p:spPr>
          <a:xfrm>
            <a:off x="406080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0"/>
          <p:cNvSpPr/>
          <p:nvPr/>
        </p:nvSpPr>
        <p:spPr>
          <a:xfrm>
            <a:off x="487980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11"/>
          <p:cNvSpPr/>
          <p:nvPr/>
        </p:nvSpPr>
        <p:spPr>
          <a:xfrm>
            <a:off x="340992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12"/>
          <p:cNvSpPr/>
          <p:nvPr/>
        </p:nvSpPr>
        <p:spPr>
          <a:xfrm>
            <a:off x="3409920" y="309708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3"/>
          <p:cNvSpPr/>
          <p:nvPr/>
        </p:nvSpPr>
        <p:spPr>
          <a:xfrm>
            <a:off x="4583160" y="3097080"/>
            <a:ext cx="40464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14"/>
          <p:cNvSpPr/>
          <p:nvPr/>
        </p:nvSpPr>
        <p:spPr>
          <a:xfrm>
            <a:off x="5257800" y="3097080"/>
            <a:ext cx="4017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15"/>
          <p:cNvSpPr/>
          <p:nvPr/>
        </p:nvSpPr>
        <p:spPr>
          <a:xfrm flipH="1">
            <a:off x="3485880" y="3635280"/>
            <a:ext cx="5868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6"/>
          <p:cNvSpPr/>
          <p:nvPr/>
        </p:nvSpPr>
        <p:spPr>
          <a:xfrm flipH="1">
            <a:off x="5244840" y="3635280"/>
            <a:ext cx="27756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7"/>
          <p:cNvSpPr/>
          <p:nvPr/>
        </p:nvSpPr>
        <p:spPr>
          <a:xfrm flipH="1">
            <a:off x="4513320" y="3635280"/>
            <a:ext cx="78408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18"/>
          <p:cNvSpPr/>
          <p:nvPr/>
        </p:nvSpPr>
        <p:spPr>
          <a:xfrm flipH="1">
            <a:off x="4273200" y="3635280"/>
            <a:ext cx="43020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9"/>
          <p:cNvSpPr/>
          <p:nvPr/>
        </p:nvSpPr>
        <p:spPr>
          <a:xfrm>
            <a:off x="3860640" y="3355920"/>
            <a:ext cx="67500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0"/>
          <p:cNvSpPr/>
          <p:nvPr/>
        </p:nvSpPr>
        <p:spPr>
          <a:xfrm>
            <a:off x="683244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1"/>
          <p:cNvSpPr/>
          <p:nvPr/>
        </p:nvSpPr>
        <p:spPr>
          <a:xfrm>
            <a:off x="7651800" y="4438800"/>
            <a:ext cx="40464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2"/>
          <p:cNvSpPr/>
          <p:nvPr/>
        </p:nvSpPr>
        <p:spPr>
          <a:xfrm>
            <a:off x="6181560" y="4438800"/>
            <a:ext cx="405000" cy="4903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3"/>
          <p:cNvSpPr/>
          <p:nvPr/>
        </p:nvSpPr>
        <p:spPr>
          <a:xfrm>
            <a:off x="6181560" y="309708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24"/>
          <p:cNvSpPr/>
          <p:nvPr/>
        </p:nvSpPr>
        <p:spPr>
          <a:xfrm>
            <a:off x="7354800" y="309708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25"/>
          <p:cNvSpPr/>
          <p:nvPr/>
        </p:nvSpPr>
        <p:spPr>
          <a:xfrm>
            <a:off x="8029440" y="3097080"/>
            <a:ext cx="40176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26"/>
          <p:cNvSpPr/>
          <p:nvPr/>
        </p:nvSpPr>
        <p:spPr>
          <a:xfrm flipH="1">
            <a:off x="6257520" y="3635280"/>
            <a:ext cx="5868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27"/>
          <p:cNvSpPr/>
          <p:nvPr/>
        </p:nvSpPr>
        <p:spPr>
          <a:xfrm flipH="1">
            <a:off x="8016840" y="3635280"/>
            <a:ext cx="27792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28"/>
          <p:cNvSpPr/>
          <p:nvPr/>
        </p:nvSpPr>
        <p:spPr>
          <a:xfrm flipH="1">
            <a:off x="7284600" y="3635280"/>
            <a:ext cx="78444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29"/>
          <p:cNvSpPr/>
          <p:nvPr/>
        </p:nvSpPr>
        <p:spPr>
          <a:xfrm flipH="1">
            <a:off x="7044840" y="3635280"/>
            <a:ext cx="430200" cy="74772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30"/>
          <p:cNvSpPr/>
          <p:nvPr/>
        </p:nvSpPr>
        <p:spPr>
          <a:xfrm flipH="1" flipV="1">
            <a:off x="6522840" y="3634920"/>
            <a:ext cx="355320" cy="747720"/>
          </a:xfrm>
          <a:prstGeom prst="line">
            <a:avLst/>
          </a:prstGeom>
          <a:ln w="1260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31"/>
          <p:cNvSpPr/>
          <p:nvPr/>
        </p:nvSpPr>
        <p:spPr>
          <a:xfrm>
            <a:off x="6632640" y="3355920"/>
            <a:ext cx="674640" cy="0"/>
          </a:xfrm>
          <a:prstGeom prst="line">
            <a:avLst/>
          </a:prstGeom>
          <a:ln w="1260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32"/>
          <p:cNvSpPr/>
          <p:nvPr/>
        </p:nvSpPr>
        <p:spPr>
          <a:xfrm>
            <a:off x="1727640" y="5845320"/>
            <a:ext cx="12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řírub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33"/>
          <p:cNvSpPr/>
          <p:nvPr/>
        </p:nvSpPr>
        <p:spPr>
          <a:xfrm>
            <a:off x="734760" y="5083200"/>
            <a:ext cx="790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uží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4"/>
          <p:cNvSpPr/>
          <p:nvPr/>
        </p:nvSpPr>
        <p:spPr>
          <a:xfrm>
            <a:off x="4087800" y="5743440"/>
            <a:ext cx="405000" cy="490680"/>
          </a:xfrm>
          <a:prstGeom prst="rect">
            <a:avLst/>
          </a:prstGeom>
          <a:solidFill>
            <a:srgbClr val="bbe0e3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35"/>
          <p:cNvSpPr/>
          <p:nvPr/>
        </p:nvSpPr>
        <p:spPr>
          <a:xfrm>
            <a:off x="4276800" y="4973760"/>
            <a:ext cx="0" cy="720720"/>
          </a:xfrm>
          <a:prstGeom prst="line">
            <a:avLst/>
          </a:prstGeom>
          <a:ln w="126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36"/>
          <p:cNvSpPr/>
          <p:nvPr/>
        </p:nvSpPr>
        <p:spPr>
          <a:xfrm>
            <a:off x="4501080" y="5845320"/>
            <a:ext cx="12438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příruba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AutoShape 37"/>
          <p:cNvSpPr/>
          <p:nvPr/>
        </p:nvSpPr>
        <p:spPr>
          <a:xfrm>
            <a:off x="2757600" y="5065560"/>
            <a:ext cx="1955520" cy="452520"/>
          </a:xfrm>
          <a:custGeom>
            <a:avLst/>
            <a:gdLst>
              <a:gd name="textAreaLeft" fmla="*/ 446400 w 1955520"/>
              <a:gd name="textAreaRight" fmla="*/ 1509120 w 1955520"/>
              <a:gd name="textAreaTop" fmla="*/ 103320 h 452520"/>
              <a:gd name="textAreaBottom" fmla="*/ 349200 h 45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50021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Arial"/>
              </a:rPr>
              <a:t>přeruš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AutoShape 38"/>
          <p:cNvSpPr/>
          <p:nvPr/>
        </p:nvSpPr>
        <p:spPr>
          <a:xfrm>
            <a:off x="6780240" y="3711600"/>
            <a:ext cx="749160" cy="377640"/>
          </a:xfrm>
          <a:prstGeom prst="wedgeRoundRectCallout">
            <a:avLst>
              <a:gd name="adj1" fmla="val -41671"/>
              <a:gd name="adj2" fmla="val 666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ož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yant Ivan</cp:lastModifiedBy>
  <dcterms:modified xsi:type="dcterms:W3CDTF">2018-07-19T08:30:54Z</dcterms:modified>
  <cp:revision>2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