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ECF59-B6F9-48F8-9742-BEE1BFFF251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Licenční podmín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Tato prezentace je autorské dílo, které jsem vytvořil já Ivan Ryant podle uvedené předlohy. Souhlasím s tím, aby toto dílo bylo používáno pro nekomerční výukové účely bez mého vědomí a bez nároku na odměnu. Jakákoli úprava tohoto díla musí obsahovat jednak odkaz na můj originál, jednak jméno a kontakt na upravovatele. Citace jakékoli části tohoto díla musí být provázena odkazem na zdroj podle ČSN ISO 690 a ČSN ISO 690-2. V ostatních případech se užití tohoto díla musí řídit příslušným ustanovením autorského záko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dkaz - stejně jako parametr předávaný odkaz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instance - výskyt hodnoty, třída - společný předpis chová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Důkaz správnosti ilustruji na příkladu – konstrukce algoritmu násobení z cílové a výchozí podmínky. Jiné příklady se najdou ve Wirthovi (Systematisches programmieren) nebo v Dijkstrovi (Science of Programming) nebo v Griesovi (Discipline of Programming). Teorii vysvětluje např. Zohar Manna (Matematická teorie programů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e to program asi na rok při dotaci 2 hodiny týdně. Témata z kurzu MIT jsem doplnil o projektování – viz 3. prezentace. Tak jsou studenti schopni průběžně pracovat na týmových projektech ve skupinách po 2 až 4. Z původního kurzu MIT vychází zhruba 1 téma na měsíc, v prosinci se nestihne skoro nic a v červnu také ne. Každé téma vysvětlím na příkladech (příklady jsou přiloženy), studenti průběžně vyplňují anketu, jinak pracují na projekte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edná se o teploměr připojený k sériovému portu třemi vývody: napájení, zem, signál. Teplota se měří jako střída signálu, tj. poměr délky signálu v jedničce a v nule krát nějaké koeficienty (podle katalogpvého listu). Problém je v tom, že čas se měří nepřesně a tím vypočtená hodnota teploty nepřirozeně kolísá. Vzhledem k tomu, že chyba měření je náhodná, dá se odstranit výpočtem průměru z několika měření. K tomu se zvlášť hodí klouzavý průměr. Klouzavý průměr (RunningSum) se počítá pomocí fronty (Queue) několika posledních změřených hodnot. Sériový port se ovládá modulem ComPo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Chyba v návrhu spočívá v červeně vyznačené závislosti modulu Queue na prvku Element. Modul Queue má být aplikačně nezávislý, ale závisí na typu Element, který je aplikačně závislý, a tím se i Queue stává aplikačně závislým modulem. Řešení spočívá v tom, že pole ArrayQueue nebude obsahovat přímo hodnoty prvků (např. jako array of Real), nýbrž nepřímo odkazy na prvky. Toto řešení sice vede ke správnému designu, ale je komplikovanější a plýtvá pamětí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chéma připojení teploměru SMT 160 – 30 k sériovému portu počítače (lze použít i adaptér USB – sériový port). Použije se v příkladu na výpočet klouzavého průměru pomocí fron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ro atributy objektů se v kurzu MIT používá termín „field“, příp. „instance variable“. Termín „atribut“ je bohužel přetížený různými významy, proto jsem se přidržel termínu „field“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4DA0-5DC5-4DAA-A075-9029ACF10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8932-CBDE-4F84-B681-31BBDFA2E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5AEE-474C-4766-BE76-068838D55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709E-D3D0-48AA-96A5-906FED9D9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C3B2-9B80-4B59-8569-2F9D4DD13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E58C-A1B1-4B8C-82A9-5AF268D05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814C-8002-4036-B0B1-FF3FD766C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F182-3F21-4B31-B99C-F8738562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9BBE-B1C8-4A92-A31C-AA10726D4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002F-BC71-4245-927E-5A34F536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4CBB-A0D7-4C0B-B08E-A714E403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0C4B-B7D0-4525-AE4B-778CA989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0483B-F279-4642-8654-1D49548D45C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rogramování 2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(objektový desig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le otevřeného kurzu MIT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B. Liskovové, D. Jacksona ad.</a:t>
            </a:r>
            <a:br>
              <a:rPr sz="2400"/>
            </a:b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Laboratory in Software Engineering</a:t>
            </a:r>
            <a:br>
              <a:rPr sz="2400"/>
            </a:b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van Ryant (mailto:ryant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@acm.org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á-li skupina objektů podobné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hování, které se řídí stejnými pravidly,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vyčleníme pravidla chování do zvláštního objektu, který nazýváme </a:t>
            </a:r>
            <a:r>
              <a:rPr b="1" lang="cs-CZ" sz="2800" spc="-1" strike="noStrike">
                <a:solidFill>
                  <a:srgbClr val="a50021"/>
                </a:solidFill>
                <a:latin typeface="Arial"/>
              </a:rPr>
              <a:t>tří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Tříd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je předpis chování společný všem instancím. Představuje množinu objektů, které je </a:t>
            </a:r>
            <a:r>
              <a:rPr b="0" i="1" lang="cs-CZ" sz="2400" spc="-1" strike="noStrike">
                <a:solidFill>
                  <a:srgbClr val="a50021"/>
                </a:solidFill>
                <a:latin typeface="Times New Roman"/>
              </a:rPr>
              <a:t>možné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tvoř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Instanc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je jednotlivý výskyt objektu, objekt </a:t>
            </a:r>
            <a:r>
              <a:rPr b="0" i="1" lang="cs-CZ" sz="2400" spc="-1" strike="noStrike">
                <a:solidFill>
                  <a:srgbClr val="a50021"/>
                </a:solidFill>
                <a:latin typeface="Times New Roman"/>
              </a:rPr>
              <a:t>skutečně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tvořený. Instance mívá hodnotu (tj. obsahuje paměť na uchování stav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ozn.: třída je instancí tzv.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metatří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jekt, třída, ins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nitřní struktura ob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nstruk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lokuje paměť a uvede instanci do počátečního stav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etoda (meth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utina, která je členem ob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kaz na objekt se předává do metody jako skrytý paramet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ěkteré metody jsou přístupné uvnitř i vně objektu (</a:t>
            </a:r>
            <a:r>
              <a:rPr b="1" lang="cs-CZ" sz="2000" spc="-1" strike="noStrike">
                <a:solidFill>
                  <a:srgbClr val="333399"/>
                </a:solidFill>
                <a:latin typeface="Courier New"/>
              </a:rPr>
              <a:t>public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,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iné jsou navenek skryty a přístupné jsou jen z jiných metod (</a:t>
            </a:r>
            <a:r>
              <a:rPr b="1" lang="cs-CZ" sz="2000" spc="-1" strike="noStrike">
                <a:solidFill>
                  <a:srgbClr val="333399"/>
                </a:solidFill>
                <a:latin typeface="Courier New"/>
              </a:rPr>
              <a:t>privat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le (field, attribu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měnné, které jsou členem objektu, zachycují okamžitý stav in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ypicky jsou přístupné uvnitř metod, ale nikoli vně objektu (</a:t>
            </a:r>
            <a:r>
              <a:rPr b="1" lang="cs-CZ" sz="2000" spc="-1" strike="noStrike">
                <a:solidFill>
                  <a:srgbClr val="333399"/>
                </a:solidFill>
                <a:latin typeface="Courier New"/>
              </a:rPr>
              <a:t>privat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 – realizují princip </a:t>
            </a:r>
            <a:r>
              <a:rPr b="0" lang="cs-CZ" sz="2000" spc="-1" strike="noStrike">
                <a:solidFill>
                  <a:srgbClr val="a50021"/>
                </a:solidFill>
                <a:latin typeface="Arial"/>
              </a:rPr>
              <a:t>skrývání informa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roměnná typu třída (clas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močará implementace tříd a jejich instancí v Delphi (podobně v Javě, 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rukturovaný datový typ </a:t>
            </a:r>
            <a:r>
              <a:rPr b="0" i="1" lang="cs-CZ" sz="2400" spc="-1" strike="noStrike">
                <a:solidFill>
                  <a:srgbClr val="333399"/>
                </a:solidFill>
                <a:latin typeface="Arial"/>
              </a:rPr>
              <a:t>tříd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podobný jako zázn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měnná tohoto typu </a:t>
            </a:r>
            <a:r>
              <a:rPr b="0" lang="cs-CZ" sz="2400" spc="-1" strike="noStrike">
                <a:solidFill>
                  <a:srgbClr val="a50021"/>
                </a:solidFill>
                <a:latin typeface="Arial"/>
              </a:rPr>
              <a:t>odkazuj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na </a:t>
            </a:r>
            <a:r>
              <a:rPr b="0" i="1" lang="cs-CZ" sz="2400" spc="-1" strike="noStrike">
                <a:solidFill>
                  <a:srgbClr val="333399"/>
                </a:solidFill>
                <a:latin typeface="Arial"/>
              </a:rPr>
              <a:t>instanci tříd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podobně jako parametr předaný odkaz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př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4034520" y="3962520"/>
            <a:ext cx="4707000" cy="2562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C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cs-CZ" sz="1800" spc="-1" strike="noStrike">
                <a:solidFill>
                  <a:srgbClr val="333399"/>
                </a:solidFill>
                <a:latin typeface="Courier New"/>
              </a:rPr>
              <a:t>priv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: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g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pub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procedur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etX(val: Intege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funct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GetX: Integ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va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, b: T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ědě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dědění, pozdní vazba met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3. Anke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ědění a pozdní vazba metod</a:t>
            </a:r>
            <a:br>
              <a:rPr sz="2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iz </a:t>
            </a:r>
            <a:r>
              <a:rPr b="1" lang="cs-CZ" sz="1800" spc="-1" strike="noStrike">
                <a:solidFill>
                  <a:srgbClr val="0070c0"/>
                </a:solidFill>
                <a:latin typeface="Courier New"/>
                <a:ea typeface="Courier New"/>
              </a:rPr>
              <a:t>K:\IVT\ryant\cetba\mit_sw_engineering\lec</a:t>
            </a:r>
            <a:r>
              <a:rPr b="1" lang="cs-CZ" sz="1800" spc="-1" strike="noStrike">
                <a:solidFill>
                  <a:srgbClr val="0070c0"/>
                </a:solidFill>
                <a:latin typeface="Courier New"/>
              </a:rPr>
              <a:t>3</a:t>
            </a:r>
            <a:r>
              <a:rPr b="1" lang="cs-CZ" sz="1800" spc="-1" strike="noStrike">
                <a:solidFill>
                  <a:srgbClr val="0070c0"/>
                </a:solidFill>
                <a:latin typeface="Courier New"/>
                <a:ea typeface="Courier New"/>
              </a:rPr>
              <a:t>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pište příklad dvou tříd TA a TB, kde TB dědí z 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o napíše program </a:t>
            </a:r>
            <a:r>
              <a:rPr b="1" lang="cs-CZ" sz="2000" spc="-1" strike="noStrike">
                <a:solidFill>
                  <a:srgbClr val="333399"/>
                </a:solidFill>
                <a:latin typeface="Courier New"/>
              </a:rPr>
              <a:t>VirtualDem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? Proč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 čemu slouží šablona metody („template method“)? K čemu slouží třída, která je rámcem („framework“) pro jiné tříd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jakých pravidel se řídí přiřaz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stance potomka do proměnné typu předk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měnné typu předka do proměnné typu potomk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ědění, šablona, ráme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614880" y="2666880"/>
            <a:ext cx="1683360" cy="19234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vaz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z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ejZázn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kažZázn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895480" y="1676520"/>
            <a:ext cx="1497240" cy="137376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ni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u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DejZázn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AutoShape 6"/>
          <p:cNvCxnSpPr>
            <a:stCxn id="80" idx="2"/>
            <a:endCxn id="79" idx="3"/>
          </p:cNvCxnSpPr>
          <p:nvPr/>
        </p:nvCxnSpPr>
        <p:spPr>
          <a:xfrm rot="5400000">
            <a:off x="2687040" y="2676600"/>
            <a:ext cx="573840" cy="134208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82" name="Text Box 7"/>
          <p:cNvSpPr/>
          <p:nvPr/>
        </p:nvSpPr>
        <p:spPr>
          <a:xfrm>
            <a:off x="2895480" y="3809880"/>
            <a:ext cx="1497240" cy="137376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asop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ční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DejZázn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AutoShape 8"/>
          <p:cNvCxnSpPr>
            <a:stCxn id="82" idx="0"/>
            <a:endCxn id="79" idx="3"/>
          </p:cNvCxnSpPr>
          <p:nvPr/>
        </p:nvCxnSpPr>
        <p:spPr>
          <a:xfrm flipV="1" rot="16200000">
            <a:off x="2885760" y="3050280"/>
            <a:ext cx="176760" cy="134208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84" name="Přímá spojovací čára 32"/>
          <p:cNvSpPr/>
          <p:nvPr/>
        </p:nvSpPr>
        <p:spPr>
          <a:xfrm>
            <a:off x="609480" y="3124080"/>
            <a:ext cx="16765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římá spojovací čára 35"/>
          <p:cNvSpPr/>
          <p:nvPr/>
        </p:nvSpPr>
        <p:spPr>
          <a:xfrm flipV="1">
            <a:off x="2894760" y="4266720"/>
            <a:ext cx="14972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římá spojovací čára 36"/>
          <p:cNvSpPr/>
          <p:nvPr/>
        </p:nvSpPr>
        <p:spPr>
          <a:xfrm flipV="1">
            <a:off x="2894760" y="2133720"/>
            <a:ext cx="14972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ovéPole 72"/>
          <p:cNvSpPr/>
          <p:nvPr/>
        </p:nvSpPr>
        <p:spPr>
          <a:xfrm>
            <a:off x="4800600" y="1828800"/>
            <a:ext cx="3886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ámec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0070c0"/>
                </a:solidFill>
                <a:latin typeface="Arial"/>
              </a:rPr>
              <a:t>(framewor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lekce tříd, které si programátor přizpůsobí tím, že je podědí do svých potomk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př.: Svazek, Kniha, Časop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Šablo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0070c0"/>
                </a:solidFill>
                <a:latin typeface="Arial"/>
              </a:rPr>
              <a:t>(template metho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stra výpočetního postu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užívá metody, které jsou implementovány v potomcí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př.: </a:t>
            </a:r>
            <a:r>
              <a:rPr b="0" lang="cs-CZ" sz="1800" spc="-1" strike="noStrike">
                <a:solidFill>
                  <a:srgbClr val="0070c0"/>
                </a:solidFill>
                <a:latin typeface="Arial"/>
              </a:rPr>
              <a:t>UkažZázna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je šablona, používá metodu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DejZázn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římá spojovací čára 30"/>
          <p:cNvSpPr/>
          <p:nvPr/>
        </p:nvSpPr>
        <p:spPr>
          <a:xfrm>
            <a:off x="609480" y="3809880"/>
            <a:ext cx="16765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římá spojovací čára 34"/>
          <p:cNvSpPr/>
          <p:nvPr/>
        </p:nvSpPr>
        <p:spPr>
          <a:xfrm flipV="1">
            <a:off x="2894760" y="4723920"/>
            <a:ext cx="14972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římá spojovací čára 40"/>
          <p:cNvSpPr/>
          <p:nvPr/>
        </p:nvSpPr>
        <p:spPr>
          <a:xfrm flipV="1">
            <a:off x="2894760" y="2590920"/>
            <a:ext cx="14972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16200000">
            <a:off x="2295360" y="352404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pecifikace met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kontrakty metod, dokazování správné implementa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4. Anke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pecifikace metod, kontrakty.</a:t>
            </a:r>
            <a:br>
              <a:rPr sz="24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iz </a:t>
            </a:r>
            <a:r>
              <a:rPr b="1" lang="cs-CZ" sz="1600" spc="-1" strike="noStrike">
                <a:solidFill>
                  <a:srgbClr val="0070c0"/>
                </a:solidFill>
                <a:latin typeface="Courier New"/>
                <a:ea typeface="Courier New"/>
              </a:rPr>
              <a:t>lec4.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 čemu slouží kontrakt metod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je to precondi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je to postcon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je to frame condi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aký je rozdíl mezi operační a deklarativní specifikací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ůkazy správno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st nedokazuje bezchyb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gramy, jejichž chování se nedá spolehlivě opakovat, nemá smysl testovat (např. multithreading, remoting aj. systémy paralelních proces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rávnost programu můžeme dokáz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datečným důkazem (např. podle Hoarových pravid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strukcí podle formálních pravidel (correct by constru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iz </a:t>
            </a:r>
            <a:r>
              <a:rPr b="1" lang="cs-CZ" sz="2400" spc="-1" strike="noStrike">
                <a:solidFill>
                  <a:srgbClr val="333399"/>
                </a:solidFill>
                <a:latin typeface="Courier New"/>
              </a:rPr>
              <a:t>http://en.wikipedia.org/wiki/Hoare_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Implementační strategie a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est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valita softwaru a význam desig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jektově orientované program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jektové model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ecifikace met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st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ynamické datové strukt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ecifikace objek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eslabení spřaže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jim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lymorfismus, podtřídy a podtypy, interfej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ávrhové vz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5. Anke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stování</a:t>
            </a:r>
            <a:br>
              <a:rPr sz="24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iz </a:t>
            </a:r>
            <a:r>
              <a:rPr b="1" lang="cs-CZ" sz="1600" spc="-1" strike="noStrike">
                <a:solidFill>
                  <a:srgbClr val="0070c0"/>
                </a:solidFill>
                <a:latin typeface="Courier New"/>
                <a:ea typeface="Courier New"/>
              </a:rPr>
              <a:t>lec5.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ři techniky verifikace a jejich nevýh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euristiky pro konstrukci test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okryt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ezní přípa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ozor na duplikáty, násobné reference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aký je rozdíl mezi black box a clear box testy? (testy systému vs. strukturní tes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aký je rozdíl mezi testováním zdola nahoru a shora dolů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 je to regresní test? K čemu slouží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Implementační strategie a test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i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urz MI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. lek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ezentace „Programování 1 – algoritmizace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apitola „Několikanásobný výběr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éma „Testován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ezentace „Programování 3 – projektování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apitola „Implementační strategie a testování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pecifikace objekt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bstraktní datový typ (AD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ecifikuje </a:t>
            </a:r>
            <a:r>
              <a:rPr b="1" lang="cs-CZ" sz="2800" spc="-1" strike="noStrike">
                <a:solidFill>
                  <a:srgbClr val="a50021"/>
                </a:solidFill>
                <a:latin typeface="Arial"/>
              </a:rPr>
              <a:t>chování objektu navenek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mocí </a:t>
            </a:r>
            <a:r>
              <a:rPr b="1" lang="cs-CZ" sz="2800" spc="-1" strike="noStrike">
                <a:solidFill>
                  <a:srgbClr val="333399"/>
                </a:solidFill>
                <a:latin typeface="Arial"/>
              </a:rPr>
              <a:t>oper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tím současně</a:t>
            </a:r>
            <a:r>
              <a:rPr b="1" lang="cs-CZ" sz="2800" spc="-1" strike="noStrike">
                <a:solidFill>
                  <a:srgbClr val="a50021"/>
                </a:solidFill>
                <a:latin typeface="Arial"/>
              </a:rPr>
              <a:t> abstrahuj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od implementace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od </a:t>
            </a:r>
            <a:r>
              <a:rPr b="1" lang="cs-CZ" sz="2800" spc="-1" strike="noStrike">
                <a:solidFill>
                  <a:srgbClr val="333399"/>
                </a:solidFill>
                <a:latin typeface="Arial"/>
              </a:rPr>
              <a:t>vnitřní reprezenta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pecifikace A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ignatura (syntaktická pravidl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xiomy (sémantická pravidl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pecifikace objekt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.: Zásobník – signatura AD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3"/>
          <p:cNvSpPr/>
          <p:nvPr/>
        </p:nvSpPr>
        <p:spPr>
          <a:xfrm>
            <a:off x="4191120" y="3276720"/>
            <a:ext cx="18288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4"/>
          <p:cNvSpPr/>
          <p:nvPr/>
        </p:nvSpPr>
        <p:spPr>
          <a:xfrm>
            <a:off x="990720" y="1828800"/>
            <a:ext cx="18288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5"/>
          <p:cNvSpPr/>
          <p:nvPr/>
        </p:nvSpPr>
        <p:spPr>
          <a:xfrm>
            <a:off x="6629400" y="5257800"/>
            <a:ext cx="18288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6"/>
          <p:cNvSpPr/>
          <p:nvPr/>
        </p:nvSpPr>
        <p:spPr>
          <a:xfrm>
            <a:off x="1371600" y="54864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AutoShape 7"/>
          <p:cNvCxnSpPr>
            <a:stCxn id="111" idx="7"/>
            <a:endCxn id="108" idx="3"/>
          </p:cNvCxnSpPr>
          <p:nvPr/>
        </p:nvCxnSpPr>
        <p:spPr>
          <a:xfrm flipH="1" flipV="1" rot="5400000">
            <a:off x="2281320" y="3341880"/>
            <a:ext cx="1463040" cy="2893320"/>
          </a:xfrm>
          <a:prstGeom prst="curvedConnector5">
            <a:avLst>
              <a:gd name="adj1" fmla="val 46566"/>
              <a:gd name="adj2" fmla="val 50000"/>
              <a:gd name="adj3" fmla="val 465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Text Box 8"/>
          <p:cNvSpPr/>
          <p:nvPr/>
        </p:nvSpPr>
        <p:spPr>
          <a:xfrm>
            <a:off x="1678680" y="53341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AutoShape 9"/>
          <p:cNvCxnSpPr>
            <a:stCxn id="115" idx="6"/>
            <a:endCxn id="110" idx="0"/>
          </p:cNvCxnSpPr>
          <p:nvPr/>
        </p:nvCxnSpPr>
        <p:spPr>
          <a:xfrm>
            <a:off x="6629400" y="4762440"/>
            <a:ext cx="915120" cy="496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16" name="Oval 10"/>
          <p:cNvSpPr/>
          <p:nvPr/>
        </p:nvSpPr>
        <p:spPr>
          <a:xfrm>
            <a:off x="3048120" y="30481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AutoShape 11"/>
          <p:cNvCxnSpPr>
            <a:stCxn id="116" idx="6"/>
            <a:endCxn id="108" idx="1"/>
          </p:cNvCxnSpPr>
          <p:nvPr/>
        </p:nvCxnSpPr>
        <p:spPr>
          <a:xfrm>
            <a:off x="3276360" y="3162240"/>
            <a:ext cx="1183320" cy="248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18" name="Text Box 12"/>
          <p:cNvSpPr/>
          <p:nvPr/>
        </p:nvSpPr>
        <p:spPr>
          <a:xfrm>
            <a:off x="6249960" y="426708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mp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AutoShape 13"/>
          <p:cNvCxnSpPr>
            <a:stCxn id="109" idx="5"/>
            <a:endCxn id="116" idx="1"/>
          </p:cNvCxnSpPr>
          <p:nvPr/>
        </p:nvCxnSpPr>
        <p:spPr>
          <a:xfrm flipH="1" rot="16200000">
            <a:off x="2579400" y="2580120"/>
            <a:ext cx="471960" cy="531000"/>
          </a:xfrm>
          <a:prstGeom prst="curvedConnector5">
            <a:avLst>
              <a:gd name="adj1" fmla="val 60534"/>
              <a:gd name="adj2" fmla="val 50000"/>
              <a:gd name="adj3" fmla="val 6053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0" name="AutoShape 14"/>
          <p:cNvCxnSpPr>
            <a:stCxn id="116" idx="2"/>
            <a:endCxn id="108" idx="2"/>
          </p:cNvCxnSpPr>
          <p:nvPr/>
        </p:nvCxnSpPr>
        <p:spPr>
          <a:xfrm flipH="1" flipV="1" rot="10800000">
            <a:off x="3047040" y="3161880"/>
            <a:ext cx="1143720" cy="572400"/>
          </a:xfrm>
          <a:prstGeom prst="curvedConnector5">
            <a:avLst>
              <a:gd name="adj1" fmla="val -55541"/>
              <a:gd name="adj2" fmla="val 49968"/>
              <a:gd name="adj3" fmla="val -5554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1" name="Text Box 15"/>
          <p:cNvSpPr/>
          <p:nvPr/>
        </p:nvSpPr>
        <p:spPr>
          <a:xfrm>
            <a:off x="3278880" y="27432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u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6"/>
          <p:cNvSpPr/>
          <p:nvPr/>
        </p:nvSpPr>
        <p:spPr>
          <a:xfrm>
            <a:off x="3888000" y="190512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AutoShape 17"/>
          <p:cNvCxnSpPr>
            <a:stCxn id="124" idx="2"/>
            <a:endCxn id="109" idx="6"/>
          </p:cNvCxnSpPr>
          <p:nvPr/>
        </p:nvCxnSpPr>
        <p:spPr>
          <a:xfrm rot="10800000">
            <a:off x="2818800" y="2285280"/>
            <a:ext cx="1219680" cy="115200"/>
          </a:xfrm>
          <a:prstGeom prst="curvedConnector5">
            <a:avLst>
              <a:gd name="adj1" fmla="val 49985"/>
              <a:gd name="adj2" fmla="val 49843"/>
              <a:gd name="adj3" fmla="val 49985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25" name="Text Box 18"/>
          <p:cNvSpPr/>
          <p:nvPr/>
        </p:nvSpPr>
        <p:spPr>
          <a:xfrm>
            <a:off x="6402960" y="220968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AutoShape 19"/>
          <p:cNvCxnSpPr>
            <a:stCxn id="127" idx="2"/>
            <a:endCxn id="108" idx="7"/>
          </p:cNvCxnSpPr>
          <p:nvPr/>
        </p:nvCxnSpPr>
        <p:spPr>
          <a:xfrm flipV="1" rot="10800000">
            <a:off x="5750640" y="2705040"/>
            <a:ext cx="802440" cy="705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24" name="Oval 20"/>
          <p:cNvSpPr/>
          <p:nvPr/>
        </p:nvSpPr>
        <p:spPr>
          <a:xfrm>
            <a:off x="4038480" y="22860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21"/>
          <p:cNvSpPr/>
          <p:nvPr/>
        </p:nvSpPr>
        <p:spPr>
          <a:xfrm>
            <a:off x="6553080" y="25909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22"/>
          <p:cNvSpPr/>
          <p:nvPr/>
        </p:nvSpPr>
        <p:spPr>
          <a:xfrm>
            <a:off x="6400800" y="4648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AutoShape 23"/>
          <p:cNvCxnSpPr>
            <a:stCxn id="124" idx="6"/>
            <a:endCxn id="108" idx="0"/>
          </p:cNvCxnSpPr>
          <p:nvPr/>
        </p:nvCxnSpPr>
        <p:spPr>
          <a:xfrm>
            <a:off x="4266720" y="2400480"/>
            <a:ext cx="839160" cy="8769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9" name="AutoShape 24"/>
          <p:cNvCxnSpPr>
            <a:stCxn id="127" idx="6"/>
            <a:endCxn id="108" idx="6"/>
          </p:cNvCxnSpPr>
          <p:nvPr/>
        </p:nvCxnSpPr>
        <p:spPr>
          <a:xfrm flipH="1">
            <a:off x="6019560" y="2705040"/>
            <a:ext cx="762480" cy="1029600"/>
          </a:xfrm>
          <a:prstGeom prst="curvedConnector5">
            <a:avLst>
              <a:gd name="adj1" fmla="val -29995"/>
              <a:gd name="adj2" fmla="val 49982"/>
              <a:gd name="adj3" fmla="val -2999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" name="AutoShape 25"/>
          <p:cNvCxnSpPr>
            <a:stCxn id="108" idx="5"/>
            <a:endCxn id="115" idx="2"/>
          </p:cNvCxnSpPr>
          <p:nvPr/>
        </p:nvCxnSpPr>
        <p:spPr>
          <a:xfrm flipH="1" rot="16200000">
            <a:off x="5723640" y="4084920"/>
            <a:ext cx="705240" cy="650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p: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ck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St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op: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ck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E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ush: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ck, Element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St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mpty: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ck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Bool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reate: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St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nto textový zápis signatury vyjadřuje totéž co obrázek na předchozím sním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.: Zásobník – signatura AD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p (Create) =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p (Push (s, x)) = 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op (Create) =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op (Push (s, x)) =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mpty (Create) = 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mpty (Push (s, x)) = 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.: Zásobník – axiomy AD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6. Anke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ecifikace objektů</a:t>
            </a:r>
            <a:br>
              <a:rPr sz="2000"/>
            </a:b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i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70c0"/>
                </a:solidFill>
                <a:latin typeface="Courier New"/>
                <a:ea typeface="Courier New"/>
              </a:rPr>
              <a:t>K:\IVT\ryant\cetba\mit_sw_engineering\lec</a:t>
            </a:r>
            <a:r>
              <a:rPr b="1" lang="cs-CZ" sz="1400" spc="-1" strike="noStrike">
                <a:solidFill>
                  <a:srgbClr val="0070c0"/>
                </a:solidFill>
                <a:latin typeface="Times New Roman"/>
              </a:rPr>
              <a:t>7</a:t>
            </a:r>
            <a:r>
              <a:rPr b="1" lang="cs-CZ" sz="1400" spc="-1" strike="noStrike">
                <a:solidFill>
                  <a:srgbClr val="0070c0"/>
                </a:solidFill>
                <a:latin typeface="Courier New"/>
                <a:ea typeface="Courier New"/>
              </a:rPr>
              <a:t>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70c0"/>
                </a:solidFill>
                <a:latin typeface="Courier New"/>
                <a:ea typeface="Courier New"/>
              </a:rPr>
              <a:t>K:\IVT\ryant\cetba\mit_sw_engineering\lec</a:t>
            </a:r>
            <a:r>
              <a:rPr b="1" lang="cs-CZ" sz="1400" spc="-1" strike="noStrike">
                <a:solidFill>
                  <a:srgbClr val="0070c0"/>
                </a:solidFill>
                <a:latin typeface="Times New Roman"/>
              </a:rPr>
              <a:t>8</a:t>
            </a:r>
            <a:r>
              <a:rPr b="1" lang="cs-CZ" sz="1400" spc="-1" strike="noStrike">
                <a:solidFill>
                  <a:srgbClr val="0070c0"/>
                </a:solidFill>
                <a:latin typeface="Courier New"/>
                <a:ea typeface="Courier New"/>
              </a:rPr>
              <a:t>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70c0"/>
                </a:solidFill>
                <a:latin typeface="Courier New"/>
                <a:ea typeface="Courier New"/>
              </a:rPr>
              <a:t>K:\IVT\ryant\cetba\mit_sw_engineering\lec</a:t>
            </a:r>
            <a:r>
              <a:rPr b="1" lang="cs-CZ" sz="1400" spc="-1" strike="noStrike">
                <a:solidFill>
                  <a:srgbClr val="0070c0"/>
                </a:solidFill>
                <a:latin typeface="Times New Roman"/>
              </a:rPr>
              <a:t>9</a:t>
            </a:r>
            <a:r>
              <a:rPr b="1" lang="cs-CZ" sz="1400" spc="-1" strike="noStrike">
                <a:solidFill>
                  <a:srgbClr val="0070c0"/>
                </a:solidFill>
                <a:latin typeface="Courier New"/>
                <a:ea typeface="Courier New"/>
              </a:rPr>
              <a:t>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o j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cs-CZ" sz="1800" spc="-1" strike="noStrike">
                <a:solidFill>
                  <a:srgbClr val="a50021"/>
                </a:solidFill>
                <a:latin typeface="Times New Roman"/>
              </a:rPr>
              <a:t>abstraktní datový typ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(abstract data type, ADT) a k čemu slouží? (viz Wikipedi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o je </a:t>
            </a:r>
            <a:r>
              <a:rPr b="1" i="1" lang="cs-CZ" sz="1800" spc="-1" strike="noStrike">
                <a:solidFill>
                  <a:srgbClr val="a50021"/>
                </a:solidFill>
                <a:latin typeface="Times New Roman"/>
              </a:rPr>
              <a:t>signatur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operace? Uveďte příklad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yjmenujte 4 třídy operací (lekce 7). Čím se liší </a:t>
            </a:r>
            <a:r>
              <a:rPr b="1" lang="cs-CZ" sz="1600" spc="-1" strike="noStrike">
                <a:solidFill>
                  <a:srgbClr val="333399"/>
                </a:solidFill>
                <a:latin typeface="Arial"/>
              </a:rPr>
              <a:t>Creator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cs-CZ" sz="1600" spc="-1" strike="noStrike">
                <a:solidFill>
                  <a:srgbClr val="333399"/>
                </a:solidFill>
                <a:latin typeface="Arial"/>
              </a:rPr>
              <a:t>Producer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 čemu slouží obor hodnot reprezentace ve srovnání s oborem abstraktních hodnot? (lekce 8.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o je to </a:t>
            </a:r>
            <a:r>
              <a:rPr b="1" i="1" lang="cs-CZ" sz="1800" spc="-1" strike="noStrike">
                <a:solidFill>
                  <a:srgbClr val="a50021"/>
                </a:solidFill>
                <a:latin typeface="Times New Roman"/>
              </a:rPr>
              <a:t>vystavení reprezentac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(representation exposure) a čím je nebezpečné? Proč má být užití abstraktního typu nezávislé na reprezentaci? (lekce 8.6, příp. 7.5 první odstave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oukromá položka (private 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a50021"/>
                </a:solidFill>
                <a:latin typeface="Times New Roman"/>
              </a:rPr>
              <a:t>obranná kopie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(defensive cop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o je </a:t>
            </a:r>
            <a:r>
              <a:rPr b="1" i="1" lang="cs-CZ" sz="1800" spc="-1" strike="noStrike">
                <a:solidFill>
                  <a:srgbClr val="a50021"/>
                </a:solidFill>
                <a:latin typeface="Times New Roman"/>
              </a:rPr>
              <a:t>reprezentační invariant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? K čemu slouží? (lekce 8.3, 8.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o je </a:t>
            </a:r>
            <a:r>
              <a:rPr b="1" i="1" lang="cs-CZ" sz="1800" spc="-1" strike="noStrike">
                <a:solidFill>
                  <a:srgbClr val="a50021"/>
                </a:solidFill>
                <a:latin typeface="Times New Roman"/>
              </a:rPr>
              <a:t>abstrakční funkc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? Je to funkce? K čemu slouží? (lekce 8.3, 9.1, 9.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eslabení spřaženo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2"/>
          <p:cNvSpPr/>
          <p:nvPr/>
        </p:nvSpPr>
        <p:spPr>
          <a:xfrm>
            <a:off x="2514600" y="3962520"/>
            <a:ext cx="6324480" cy="251460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3"/>
          <p:cNvSpPr/>
          <p:nvPr/>
        </p:nvSpPr>
        <p:spPr>
          <a:xfrm>
            <a:off x="304920" y="1447920"/>
            <a:ext cx="6476760" cy="121896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ř.: Teploměr (klouzavý průmě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774360" y="1981080"/>
            <a:ext cx="1143720" cy="3682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epl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4431960" y="5486400"/>
            <a:ext cx="1220040" cy="3682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ist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7175160" y="5486400"/>
            <a:ext cx="1410480" cy="3682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rray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2756160" y="2971800"/>
            <a:ext cx="1497600" cy="3682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unningS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AutoShape 8"/>
          <p:cNvCxnSpPr>
            <a:stCxn id="143" idx="2"/>
            <a:endCxn id="146" idx="2"/>
          </p:cNvCxnSpPr>
          <p:nvPr/>
        </p:nvCxnSpPr>
        <p:spPr>
          <a:xfrm flipV="1" rot="16200000">
            <a:off x="5016240" y="3017160"/>
            <a:ext cx="1296000" cy="4433040"/>
          </a:xfrm>
          <a:prstGeom prst="bentConnector3">
            <a:avLst>
              <a:gd name="adj1" fmla="val -16893"/>
            </a:avLst>
          </a:prstGeom>
          <a:ln w="1260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47" name="AutoShape 9"/>
          <p:cNvCxnSpPr>
            <a:stCxn id="142" idx="2"/>
            <a:endCxn id="146" idx="2"/>
          </p:cNvCxnSpPr>
          <p:nvPr/>
        </p:nvCxnSpPr>
        <p:spPr>
          <a:xfrm flipV="1" rot="16200000">
            <a:off x="3596760" y="4436640"/>
            <a:ext cx="1296000" cy="1594440"/>
          </a:xfrm>
          <a:prstGeom prst="bentConnector3">
            <a:avLst>
              <a:gd name="adj1" fmla="val -16893"/>
            </a:avLst>
          </a:prstGeom>
          <a:ln w="1260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48" name="AutoShape 10"/>
          <p:cNvCxnSpPr>
            <a:stCxn id="144" idx="2"/>
            <a:endCxn id="146" idx="0"/>
          </p:cNvCxnSpPr>
          <p:nvPr/>
        </p:nvCxnSpPr>
        <p:spPr>
          <a:xfrm rot="5400000">
            <a:off x="3068640" y="3745440"/>
            <a:ext cx="815040" cy="57960"/>
          </a:xfrm>
          <a:prstGeom prst="bentConnector3">
            <a:avLst>
              <a:gd name="adj1" fmla="val 49889"/>
            </a:avLst>
          </a:prstGeom>
          <a:ln w="1260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49" name="AutoShape 21"/>
          <p:cNvCxnSpPr>
            <a:stCxn id="141" idx="2"/>
            <a:endCxn id="150" idx="0"/>
          </p:cNvCxnSpPr>
          <p:nvPr/>
        </p:nvCxnSpPr>
        <p:spPr>
          <a:xfrm flipH="1">
            <a:off x="1340640" y="2376360"/>
            <a:ext cx="5400" cy="13485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151" name="Text Box 26"/>
          <p:cNvSpPr/>
          <p:nvPr/>
        </p:nvSpPr>
        <p:spPr>
          <a:xfrm>
            <a:off x="376200" y="5181480"/>
            <a:ext cx="18403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W rozhra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(aplikačně nezávislá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rstv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7"/>
          <p:cNvSpPr/>
          <p:nvPr/>
        </p:nvSpPr>
        <p:spPr>
          <a:xfrm>
            <a:off x="383760" y="152388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plik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800640" y="3733920"/>
            <a:ext cx="1081440" cy="3682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m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2983320" y="4191120"/>
            <a:ext cx="929160" cy="3682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9"/>
          <p:cNvSpPr/>
          <p:nvPr/>
        </p:nvSpPr>
        <p:spPr>
          <a:xfrm>
            <a:off x="5574600" y="4876920"/>
            <a:ext cx="1017360" cy="3682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AutoShape 30"/>
          <p:cNvCxnSpPr>
            <a:stCxn id="153" idx="1"/>
            <a:endCxn id="155" idx="2"/>
          </p:cNvCxnSpPr>
          <p:nvPr/>
        </p:nvCxnSpPr>
        <p:spPr>
          <a:xfrm rot="10800000">
            <a:off x="5041080" y="4585680"/>
            <a:ext cx="511920" cy="48492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56" name="AutoShape 31"/>
          <p:cNvCxnSpPr>
            <a:stCxn id="142" idx="3"/>
            <a:endCxn id="153" idx="2"/>
          </p:cNvCxnSpPr>
          <p:nvPr/>
        </p:nvCxnSpPr>
        <p:spPr>
          <a:xfrm flipV="1">
            <a:off x="5673600" y="5271480"/>
            <a:ext cx="410400" cy="40860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157" name="Rectangle 32"/>
          <p:cNvSpPr/>
          <p:nvPr/>
        </p:nvSpPr>
        <p:spPr>
          <a:xfrm>
            <a:off x="304920" y="2743200"/>
            <a:ext cx="2133360" cy="373392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AutoShape 33"/>
          <p:cNvCxnSpPr>
            <a:stCxn id="141" idx="3"/>
            <a:endCxn id="144" idx="0"/>
          </p:cNvCxnSpPr>
          <p:nvPr/>
        </p:nvCxnSpPr>
        <p:spPr>
          <a:xfrm>
            <a:off x="1940040" y="2174760"/>
            <a:ext cx="1566000" cy="78840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155" name="Text Box 34"/>
          <p:cNvSpPr/>
          <p:nvPr/>
        </p:nvSpPr>
        <p:spPr>
          <a:xfrm>
            <a:off x="4659840" y="4191120"/>
            <a:ext cx="764280" cy="3682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E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6"/>
          <p:cNvSpPr/>
          <p:nvPr/>
        </p:nvSpPr>
        <p:spPr>
          <a:xfrm>
            <a:off x="5574600" y="1981080"/>
            <a:ext cx="1055520" cy="3682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istE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0" name="AutoShape 37"/>
          <p:cNvCxnSpPr>
            <a:stCxn id="159" idx="3"/>
            <a:endCxn id="161" idx="1"/>
          </p:cNvCxnSpPr>
          <p:nvPr/>
        </p:nvCxnSpPr>
        <p:spPr>
          <a:xfrm>
            <a:off x="6651720" y="2174400"/>
            <a:ext cx="6991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161" name="Text Box 38"/>
          <p:cNvSpPr/>
          <p:nvPr/>
        </p:nvSpPr>
        <p:spPr>
          <a:xfrm>
            <a:off x="7371360" y="1981080"/>
            <a:ext cx="1017360" cy="368280"/>
          </a:xfrm>
          <a:prstGeom prst="rect">
            <a:avLst/>
          </a:prstGeom>
          <a:solidFill>
            <a:srgbClr val="ff99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AutoShape 39"/>
          <p:cNvCxnSpPr>
            <a:stCxn id="143" idx="0"/>
            <a:endCxn id="161" idx="2"/>
          </p:cNvCxnSpPr>
          <p:nvPr/>
        </p:nvCxnSpPr>
        <p:spPr>
          <a:xfrm flipV="1">
            <a:off x="7880040" y="2375640"/>
            <a:ext cx="1080" cy="31014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lg" type="arrow" w="lg"/>
          </a:ln>
        </p:spPr>
      </p:cxnSp>
      <p:cxnSp>
        <p:nvCxnSpPr>
          <p:cNvPr id="163" name="AutoShape 40"/>
          <p:cNvCxnSpPr>
            <a:stCxn id="159" idx="1"/>
            <a:endCxn id="155" idx="0"/>
          </p:cNvCxnSpPr>
          <p:nvPr/>
        </p:nvCxnSpPr>
        <p:spPr>
          <a:xfrm flipV="1" rot="10800000">
            <a:off x="5041080" y="2174400"/>
            <a:ext cx="511920" cy="200736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4" name="Rectangle 41"/>
          <p:cNvSpPr/>
          <p:nvPr/>
        </p:nvSpPr>
        <p:spPr>
          <a:xfrm>
            <a:off x="2514600" y="2743200"/>
            <a:ext cx="6324480" cy="114300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2"/>
          <p:cNvSpPr/>
          <p:nvPr/>
        </p:nvSpPr>
        <p:spPr>
          <a:xfrm>
            <a:off x="6373800" y="2819520"/>
            <a:ext cx="237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ningS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(aplikačně nezávislá vrstv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3"/>
          <p:cNvSpPr/>
          <p:nvPr/>
        </p:nvSpPr>
        <p:spPr>
          <a:xfrm>
            <a:off x="6411960" y="4038480"/>
            <a:ext cx="237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(aplikačně nezávislá vrstv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3"/>
          <p:cNvSpPr/>
          <p:nvPr/>
        </p:nvSpPr>
        <p:spPr>
          <a:xfrm>
            <a:off x="6858000" y="1447920"/>
            <a:ext cx="1981080" cy="121896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7"/>
          <p:cNvSpPr/>
          <p:nvPr/>
        </p:nvSpPr>
        <p:spPr>
          <a:xfrm>
            <a:off x="6936120" y="15238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v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působ prá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áce v učebn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ád učeb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ygiena a ergonomie při prá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da opřít v kříži, opřít lokty (výška židle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loha monitoru vzhledem k ok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kládání souborů a přístup k souborů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de jsou uložené prezentace, cvičení ap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am se ukládají projekty v Pascalu a jiné soub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ipojení teploměru ke 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2057400"/>
            <a:ext cx="12956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MT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60-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565240" y="6172200"/>
            <a:ext cx="32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iz http://www.pselectronic.cz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23880" y="2286000"/>
            <a:ext cx="85680" cy="85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52280" y="5029200"/>
            <a:ext cx="199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nektor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-sub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o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amice, 9 z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í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na kabel, s kry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8640" y="213372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TS (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23880" y="2895480"/>
            <a:ext cx="85680" cy="85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8640" y="274320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TS (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523880" y="4800600"/>
            <a:ext cx="85680" cy="85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9000" y="464832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GND 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733400" y="3438360"/>
            <a:ext cx="838440" cy="781200"/>
            <a:chOff x="1733400" y="3438360"/>
            <a:chExt cx="838440" cy="781200"/>
          </a:xfrm>
        </p:grpSpPr>
        <p:sp>
          <p:nvSpPr>
            <p:cNvPr id="180" name=""/>
            <p:cNvSpPr/>
            <p:nvPr/>
          </p:nvSpPr>
          <p:spPr>
            <a:xfrm>
              <a:off x="2038320" y="3457440"/>
              <a:ext cx="228600" cy="7621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809720" y="3533760"/>
              <a:ext cx="76212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1733400" y="3438360"/>
              <a:ext cx="1526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3124080" y="3962520"/>
            <a:ext cx="276480" cy="399960"/>
            <a:chOff x="3124080" y="3962520"/>
            <a:chExt cx="276480" cy="399960"/>
          </a:xfrm>
        </p:grpSpPr>
        <p:sp>
          <p:nvSpPr>
            <p:cNvPr id="184" name=""/>
            <p:cNvSpPr/>
            <p:nvPr/>
          </p:nvSpPr>
          <p:spPr>
            <a:xfrm>
              <a:off x="3400560" y="3962520"/>
              <a:ext cx="0" cy="399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5400000">
              <a:off x="3103200" y="4030560"/>
              <a:ext cx="304920" cy="26352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86" name=""/>
          <p:cNvCxnSpPr>
            <a:stCxn id="172" idx="6"/>
            <a:endCxn id="170" idx="0"/>
          </p:cNvCxnSpPr>
          <p:nvPr/>
        </p:nvCxnSpPr>
        <p:spPr>
          <a:xfrm flipV="1">
            <a:off x="1609200" y="2057040"/>
            <a:ext cx="5820480" cy="272160"/>
          </a:xfrm>
          <a:prstGeom prst="bentConnector4">
            <a:avLst>
              <a:gd name="adj1" fmla="val 44436"/>
              <a:gd name="adj2" fmla="val 184105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87" name=""/>
          <p:cNvCxnSpPr>
            <a:stCxn id="175" idx="6"/>
            <a:endCxn id="180" idx="0"/>
          </p:cNvCxnSpPr>
          <p:nvPr/>
        </p:nvCxnSpPr>
        <p:spPr>
          <a:xfrm>
            <a:off x="1609200" y="2938320"/>
            <a:ext cx="543960" cy="51984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88" name=""/>
          <p:cNvCxnSpPr>
            <a:stCxn id="185" idx="0"/>
            <a:endCxn id="170" idx="1"/>
          </p:cNvCxnSpPr>
          <p:nvPr/>
        </p:nvCxnSpPr>
        <p:spPr>
          <a:xfrm flipV="1">
            <a:off x="3404880" y="2437560"/>
            <a:ext cx="3377160" cy="1723320"/>
          </a:xfrm>
          <a:prstGeom prst="bentConnector3">
            <a:avLst>
              <a:gd name="adj1" fmla="val 49733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89" name=""/>
          <p:cNvCxnSpPr>
            <a:stCxn id="177" idx="6"/>
            <a:endCxn id="170" idx="2"/>
          </p:cNvCxnSpPr>
          <p:nvPr/>
        </p:nvCxnSpPr>
        <p:spPr>
          <a:xfrm flipV="1">
            <a:off x="1609200" y="2819160"/>
            <a:ext cx="5820480" cy="202464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90" name=""/>
          <p:cNvCxnSpPr>
            <a:stCxn id="180" idx="2"/>
            <a:endCxn id="177" idx="6"/>
          </p:cNvCxnSpPr>
          <p:nvPr/>
        </p:nvCxnSpPr>
        <p:spPr>
          <a:xfrm rot="5400000">
            <a:off x="1568520" y="4259520"/>
            <a:ext cx="624600" cy="54396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91" name=""/>
          <p:cNvCxnSpPr>
            <a:stCxn id="181" idx="0"/>
            <a:endCxn id="185" idx="3"/>
          </p:cNvCxnSpPr>
          <p:nvPr/>
        </p:nvCxnSpPr>
        <p:spPr>
          <a:xfrm flipH="1" flipV="1" rot="5400000">
            <a:off x="2835720" y="3895200"/>
            <a:ext cx="2160" cy="53244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92" name=""/>
          <p:cNvSpPr/>
          <p:nvPr/>
        </p:nvSpPr>
        <p:spPr>
          <a:xfrm>
            <a:off x="2288520" y="2971800"/>
            <a:ext cx="16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porový trimr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x. 1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337000" y="2438280"/>
            <a:ext cx="137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+napájení 2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,75–7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545960" y="289548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emě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469280" y="160020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stup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444040" y="4343400"/>
            <a:ext cx="42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 sichr jakákoli malá dioda, není nut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7. Anke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eslabení spřaženosti (decoupling)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iz </a:t>
            </a:r>
            <a:r>
              <a:rPr b="1" lang="cs-CZ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lec</a:t>
            </a:r>
            <a:r>
              <a:rPr b="1" lang="cs-CZ" sz="2000" spc="-1" strike="noStrike">
                <a:solidFill>
                  <a:srgbClr val="0070c0"/>
                </a:solidFill>
                <a:latin typeface="Courier New"/>
              </a:rPr>
              <a:t>10</a:t>
            </a:r>
            <a:r>
              <a:rPr b="1" lang="cs-CZ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o je </a:t>
            </a:r>
            <a:r>
              <a:rPr b="1" i="1" lang="cs-CZ" sz="2400" spc="-1" strike="noStrike">
                <a:solidFill>
                  <a:srgbClr val="a50021"/>
                </a:solidFill>
                <a:latin typeface="Times New Roman"/>
              </a:rPr>
              <a:t>silná soudržnost, slabá spřaženos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strong cohesion, weak coupling)? Co je </a:t>
            </a:r>
            <a:r>
              <a:rPr b="1" i="1" lang="cs-CZ" sz="2400" spc="-1" strike="noStrike">
                <a:solidFill>
                  <a:srgbClr val="a50021"/>
                </a:solidFill>
                <a:latin typeface="Times New Roman"/>
              </a:rPr>
              <a:t>robustnos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robustness)? (opaková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lavička a tělo rutiny: jak přispívá k robustnosti? (abstrakce parametrizac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k </a:t>
            </a:r>
            <a:r>
              <a:rPr b="1" i="1" lang="cs-CZ" sz="2400" spc="-1" strike="noStrike">
                <a:solidFill>
                  <a:srgbClr val="a50021"/>
                </a:solidFill>
                <a:latin typeface="Times New Roman"/>
              </a:rPr>
              <a:t>rozhra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interface) zeslabuje spřaženost? Nakreslete typické schema dvou tříd a rozhraní mezi nimi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k můžete v Delphi implementovat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bjekt, který má jedinou instanc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? Uveďte příklad takového objektu z programu </a:t>
            </a:r>
            <a:r>
              <a:rPr b="0" lang="cs-CZ" sz="2400" spc="-1" strike="noStrike">
                <a:solidFill>
                  <a:srgbClr val="333399"/>
                </a:solidFill>
                <a:latin typeface="Courier New"/>
              </a:rPr>
              <a:t>Teplomě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a posuďte výhody a nevýhody různých způsobů implement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ýjim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8. Anke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jimky (Assertions and Exceptions)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i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lec</a:t>
            </a:r>
            <a:r>
              <a:rPr b="1" lang="cs-CZ" sz="2000" spc="-1" strike="noStrike">
                <a:solidFill>
                  <a:srgbClr val="0070c0"/>
                </a:solidFill>
                <a:latin typeface="Times New Roman"/>
              </a:rPr>
              <a:t>11</a:t>
            </a:r>
            <a:r>
              <a:rPr b="1" lang="cs-CZ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70c0"/>
                </a:solidFill>
                <a:latin typeface="Courier New"/>
              </a:rPr>
              <a:t>Delphi Language Guide, strana 1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o je </a:t>
            </a:r>
            <a:r>
              <a:rPr b="1" i="1" lang="cs-CZ" sz="2400" spc="-1" strike="noStrike">
                <a:solidFill>
                  <a:srgbClr val="a50021"/>
                </a:solidFill>
                <a:latin typeface="Times New Roman"/>
              </a:rPr>
              <a:t>preconditio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? Co je </a:t>
            </a:r>
            <a:r>
              <a:rPr b="1" i="1" lang="cs-CZ" sz="2400" spc="-1" strike="noStrike">
                <a:solidFill>
                  <a:srgbClr val="a50021"/>
                </a:solidFill>
                <a:latin typeface="Times New Roman"/>
              </a:rPr>
              <a:t>invarian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? (opakování)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k zajistíme, aby invariant platil na určitém místě v program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čem spočívá rozdíl mezi </a:t>
            </a:r>
            <a:r>
              <a:rPr b="1" i="1" lang="cs-CZ" sz="2400" spc="-1" strike="noStrike">
                <a:solidFill>
                  <a:srgbClr val="a50021"/>
                </a:solidFill>
                <a:latin typeface="Times New Roman"/>
              </a:rPr>
              <a:t>výjimko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i="1" lang="cs-CZ" sz="2400" spc="-1" strike="noStrike">
                <a:solidFill>
                  <a:srgbClr val="a50021"/>
                </a:solidFill>
                <a:latin typeface="Times New Roman"/>
              </a:rPr>
              <a:t>chybo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? Jak obvykle ošetřujeme výjimky a jak chyby? (checked / unchecked exceptions – viz MIT 10.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č definujeme vlastní třídy výjimek? (srovnejte MIT 10.12 a DLG s.16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č se nemají zneužívat výjimky? Uveďte příklad zneužití výjimky (viz MIT 10.8 nebo DLG s.16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dtřídy a podtypy, rozhra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9. Anke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dtřídy a podtypy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iz </a:t>
            </a:r>
            <a:r>
              <a:rPr b="1" lang="cs-CZ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lec</a:t>
            </a:r>
            <a:r>
              <a:rPr b="1" lang="cs-CZ" sz="2000" spc="-1" strike="noStrike">
                <a:solidFill>
                  <a:srgbClr val="0070c0"/>
                </a:solidFill>
                <a:latin typeface="Courier New"/>
              </a:rPr>
              <a:t>12</a:t>
            </a:r>
            <a:r>
              <a:rPr b="1" lang="cs-CZ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.pdf</a:t>
            </a:r>
            <a:r>
              <a:rPr b="1" lang="cs-CZ" sz="2000" spc="-1" strike="noStrike">
                <a:solidFill>
                  <a:srgbClr val="0070c0"/>
                </a:solidFill>
                <a:latin typeface="Courier New"/>
              </a:rPr>
              <a:t>, </a:t>
            </a:r>
            <a:r>
              <a:rPr b="1" lang="cs-CZ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lec</a:t>
            </a:r>
            <a:r>
              <a:rPr b="1" lang="cs-CZ" sz="2000" spc="-1" strike="noStrike">
                <a:solidFill>
                  <a:srgbClr val="0070c0"/>
                </a:solidFill>
                <a:latin typeface="Courier New"/>
              </a:rPr>
              <a:t>14</a:t>
            </a:r>
            <a:r>
              <a:rPr b="1" lang="cs-CZ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.pdf</a:t>
            </a:r>
            <a:r>
              <a:rPr b="1" lang="cs-CZ" sz="2000" spc="-1" strike="noStrike">
                <a:solidFill>
                  <a:srgbClr val="0070c0"/>
                </a:solidFill>
                <a:latin typeface="Courier New"/>
              </a:rPr>
              <a:t>, </a:t>
            </a:r>
            <a:r>
              <a:rPr b="1" lang="cs-CZ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lec</a:t>
            </a:r>
            <a:r>
              <a:rPr b="1" lang="cs-CZ" sz="2000" spc="-1" strike="noStrike">
                <a:solidFill>
                  <a:srgbClr val="0070c0"/>
                </a:solidFill>
                <a:latin typeface="Courier New"/>
              </a:rPr>
              <a:t>15</a:t>
            </a:r>
            <a:r>
              <a:rPr b="1" lang="cs-CZ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o je </a:t>
            </a:r>
            <a:r>
              <a:rPr b="1" i="1" lang="cs-CZ" sz="2400" spc="-1" strike="noStrike">
                <a:solidFill>
                  <a:srgbClr val="a50021"/>
                </a:solidFill>
                <a:latin typeface="Times New Roman"/>
              </a:rPr>
              <a:t>polymorfismu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? Jak se např. implementuje? Co je </a:t>
            </a:r>
            <a:r>
              <a:rPr b="1" i="1" lang="cs-CZ" sz="2400" spc="-1" strike="noStrike">
                <a:solidFill>
                  <a:srgbClr val="a50021"/>
                </a:solidFill>
                <a:latin typeface="Times New Roman"/>
              </a:rPr>
              <a:t>dědičnos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? Co je </a:t>
            </a:r>
            <a:r>
              <a:rPr b="1" i="1" lang="cs-CZ" sz="2400" spc="-1" strike="noStrike">
                <a:solidFill>
                  <a:srgbClr val="a50021"/>
                </a:solidFill>
                <a:latin typeface="Times New Roman"/>
              </a:rPr>
              <a:t>šablon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i="1" lang="cs-CZ" sz="2400" spc="-1" strike="noStrike">
                <a:solidFill>
                  <a:srgbClr val="a50021"/>
                </a:solidFill>
                <a:latin typeface="Times New Roman"/>
              </a:rPr>
              <a:t>rámec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? (opaková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o je </a:t>
            </a:r>
            <a:r>
              <a:rPr b="1" i="1" lang="cs-CZ" sz="2400" spc="-1" strike="noStrike">
                <a:solidFill>
                  <a:srgbClr val="a50021"/>
                </a:solidFill>
                <a:latin typeface="Times New Roman"/>
              </a:rPr>
              <a:t>kontrak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metody? (opaková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terou vlastnost objektů porušuje dědění (lec15.2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k se liší dědění typů od dědění tříd (podtyp od podtřídy)? Co je </a:t>
            </a:r>
            <a:r>
              <a:rPr b="1" i="1" lang="cs-CZ" sz="2400" spc="-1" strike="noStrike">
                <a:solidFill>
                  <a:srgbClr val="a50021"/>
                </a:solidFill>
                <a:latin typeface="Times New Roman"/>
              </a:rPr>
              <a:t>substituční princip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lec14.3)? Proč se má při dědění dodržov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o je </a:t>
            </a:r>
            <a:r>
              <a:rPr b="1" i="1" lang="cs-CZ" sz="2400" spc="-1" strike="noStrike">
                <a:solidFill>
                  <a:srgbClr val="a50021"/>
                </a:solidFill>
                <a:latin typeface="Times New Roman"/>
              </a:rPr>
              <a:t>wrappe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lec15.3 na konci), </a:t>
            </a:r>
            <a:r>
              <a:rPr b="1" i="1" lang="cs-CZ" sz="2400" spc="-1" strike="noStrike">
                <a:solidFill>
                  <a:srgbClr val="a50021"/>
                </a:solidFill>
                <a:latin typeface="Times New Roman"/>
              </a:rPr>
              <a:t>compositio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i="1" lang="cs-CZ" sz="2400" spc="-1" strike="noStrike">
                <a:solidFill>
                  <a:srgbClr val="a50021"/>
                </a:solidFill>
                <a:latin typeface="Times New Roman"/>
              </a:rPr>
              <a:t>forwarding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lec15.4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rovnejte implementaci </a:t>
            </a:r>
            <a:r>
              <a:rPr b="1" i="1" lang="cs-CZ" sz="2400" spc="-1" strike="noStrike">
                <a:solidFill>
                  <a:srgbClr val="a50021"/>
                </a:solidFill>
                <a:latin typeface="Times New Roman"/>
              </a:rPr>
              <a:t>rozhra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s děděním </a:t>
            </a:r>
            <a:r>
              <a:rPr b="1" i="1" lang="cs-CZ" sz="2400" spc="-1" strike="noStrike">
                <a:solidFill>
                  <a:srgbClr val="a50021"/>
                </a:solidFill>
                <a:latin typeface="Times New Roman"/>
              </a:rPr>
              <a:t>z abstraktní tříd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lec15.5). (to navazuje na šablonu a ráme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Návrhové vz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Návrhové vzory –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to je? Příkla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vrhové v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zory p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ytvá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ctory, prototype, single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h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terator, ob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rukt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rappers (adapter, decorator, facade, prox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Návrhové vz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ndardní řešení dílčího problému v architektuře SW systé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í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nížit pracnost při vývo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rozumitelnost (vzorová řešení vytvářejí „jazyk“ systémové architektu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lepšit opakovanou použitelnost k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bustnost architekt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roč nepoužívat návrhové vz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většují složitost systému, někdy zhoršují srozumitel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horšují efektivi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př. forwarding ve wrapper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ukvapovat se: počkat na problém, který návrhový vzor opravdu ře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a50021"/>
                </a:solidFill>
                <a:latin typeface="Arial"/>
              </a:rPr>
              <a:t>(je to podobné jako s optimalizac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B. Liskov, D. Jackson et al.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Laboratory in Software Enginee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 MIT Open Coursware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online] [S.L. MIT: 2005. cit. 2005] Dostup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http://ocw.mit.edu/OcwWeb/Electrical-Engineering-and-Computer-Science/6-170Fall-2005/LectureNotes/index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Unified Modeling Language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n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Dostupn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z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www.uml.or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Borland.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Delphi Language Gu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Wikipedia.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n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Dostupn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z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www.wikipedia.or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Fac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actory method (tovární metod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př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tvoření iterátoru v kolek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lekce může vytvářet svoje prv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bstract Factory (tovární objek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terfejs, který specifikuje sadu souvisejících továrních metod (klient nezná implementac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užití místo dispečera v systému IP-telefonů, který vytváří a sděluje instance objekt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Factory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5" descr="Image:FactoryMethod.svg"/>
          <p:cNvPicPr/>
          <p:nvPr/>
        </p:nvPicPr>
        <p:blipFill>
          <a:blip r:embed="rId1"/>
          <a:stretch/>
        </p:blipFill>
        <p:spPr>
          <a:xfrm>
            <a:off x="1219320" y="1295280"/>
            <a:ext cx="6705360" cy="395784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6"/>
          <p:cNvSpPr/>
          <p:nvPr/>
        </p:nvSpPr>
        <p:spPr>
          <a:xfrm>
            <a:off x="446040" y="5904000"/>
            <a:ext cx="569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http://en.wikipedia.org/wiki/Image:FactoryMethod.sv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roto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lternativa k Factory: každá instance může vytvořit svoji kopii metodou </a:t>
            </a:r>
            <a:r>
              <a:rPr b="1" i="1" lang="cs-CZ" sz="3200" spc="-1" strike="noStrike">
                <a:solidFill>
                  <a:srgbClr val="a50021"/>
                </a:solidFill>
                <a:latin typeface="Arial"/>
              </a:rPr>
              <a:t>Clone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př. klonování sady záznamů v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S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ingleton (jedináček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diná instance třídy (zaručeně jediná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imitivně: unit nebo metody tří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le: vytváří se a ruší se při spuštění a při dokončení programu, pořadí se nedá dobře ovliv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vykle třída s metodou </a:t>
            </a:r>
            <a:r>
              <a:rPr b="1" i="1" lang="cs-CZ" sz="3200" spc="-1" strike="noStrike">
                <a:solidFill>
                  <a:srgbClr val="a50021"/>
                </a:solidFill>
                <a:latin typeface="Arial"/>
              </a:rPr>
              <a:t>GetInstance()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s jedinou soukromou instan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př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vladač jediného sériového portu v počítač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wrapper ovladače zvukové karty ap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It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př. v 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příkaz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99"/>
                </a:solidFill>
                <a:latin typeface="Courier New"/>
              </a:rPr>
              <a:t>foreach (TElem x in MyEnumerable)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yEnumer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usí implementovat IEnumerable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usí obsahovat lokální třídu, která implementuje IEnum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ady db záznamů (recordset) a možnost jejich klonování (shallow cop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v.: Jak udělat iterátor nad typem Str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It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3" descr="http://www.dofactory.com/Patterns/Diagrams/iterator.gif"/>
          <p:cNvPicPr/>
          <p:nvPr/>
        </p:nvPicPr>
        <p:blipFill>
          <a:blip r:embed="rId1"/>
          <a:stretch/>
        </p:blipFill>
        <p:spPr>
          <a:xfrm>
            <a:off x="1523880" y="1523880"/>
            <a:ext cx="6019920" cy="447228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4"/>
          <p:cNvSpPr/>
          <p:nvPr/>
        </p:nvSpPr>
        <p:spPr>
          <a:xfrm>
            <a:off x="2395440" y="18111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1678680" y="6172200"/>
            <a:ext cx="588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http://www.dofactory.com/Patterns/PatternIterator.asp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hraní sledovaného subjektu poskytuje možnost registrace pozorovatelů (metod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zorovatelé se registruj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edovaný si pamatuje kolekci registrovaných pozorovatel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edovaný zavolá smluvenou metodu všech registrovaných pozorovatel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př.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alkulátor průběžně propočítává hodnoty v tabulce a o každé změně dá vědět registrovaným pozorovatelům (aktualizace tabulky, grafu apo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rap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rap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izpůsobí interface implementovaného objektu potřebám aplikace (např. v knihovně nebo v modulu staženém z internetu), např. </a:t>
            </a:r>
            <a:r>
              <a:rPr b="1" lang="cs-CZ" sz="2800" spc="-1" strike="noStrike">
                <a:solidFill>
                  <a:srgbClr val="333399"/>
                </a:solidFill>
                <a:latin typeface="Courier New"/>
              </a:rPr>
              <a:t>MMSystemWaveWrap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rozdíl od dědění může omezit specifikaci třídy (pomocí obdélníku definovat čtvere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ruhy wrapper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izpůsobuje rozhraní, nemá vlastní funkč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eco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chovává rozhraní, ale přidává funkčnost do oper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přidává nové operace, využívá staré – forwar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ac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hraní vyšší úrovně pro skupinu objek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x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krývá složitý přístup k ob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př. v RMI zastupuje vzdálený objekt a převádí volání metod na posílání zprá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rox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4" descr="Image:Proxy pattern diagram.svg"/>
          <p:cNvPicPr/>
          <p:nvPr/>
        </p:nvPicPr>
        <p:blipFill>
          <a:blip r:embed="rId1"/>
          <a:stretch/>
        </p:blipFill>
        <p:spPr>
          <a:xfrm>
            <a:off x="990720" y="1600200"/>
            <a:ext cx="7162560" cy="399744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5"/>
          <p:cNvSpPr/>
          <p:nvPr/>
        </p:nvSpPr>
        <p:spPr>
          <a:xfrm>
            <a:off x="1209960" y="6056280"/>
            <a:ext cx="654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http://en.wikipedia.org/wiki/Image:Proxy_pattern_diagram.sv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valita softwar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odel–View–Controller (MV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návrhový, nýbrž architekturní vz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ypicky v 3-vrstvých webových aplikací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ýká se prezentace a přístupu k datům, nikoli aplikační logiky ani samotného uložení dat (např. d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del: přístup k datům, např. do databá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iew: prezentace, např. webová strán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ontroller: koordinuje aktualizaci dat mezi view a úložiště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2520" y="0"/>
            <a:ext cx="31968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ff"/>
                </a:solidFill>
                <a:latin typeface="Arial"/>
              </a:rPr>
              <a:t>odbočka pro srovná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10. Anke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Návrhové vzory</a:t>
            </a:r>
            <a:br>
              <a:rPr sz="36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70c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70c0"/>
                </a:solidFill>
                <a:latin typeface="Courier New"/>
                <a:ea typeface="Courier New"/>
              </a:rPr>
              <a:t>lec18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70c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70c0"/>
                </a:solidFill>
                <a:latin typeface="Courier New"/>
                <a:ea typeface="Courier New"/>
              </a:rPr>
              <a:t>http://en.wikipedia.org/wiki/Design_pattern_%28computer_science%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 čemu slouží? Co to je? Uveďte příkla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veďte 3 třídy </a:t>
            </a:r>
            <a:r>
              <a:rPr b="1" i="1" lang="cs-CZ" sz="2800" spc="-1" strike="noStrike">
                <a:solidFill>
                  <a:srgbClr val="a50021"/>
                </a:solidFill>
                <a:latin typeface="Times New Roman"/>
              </a:rPr>
              <a:t>návrhových vzo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 čemu se použí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cto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totyp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inglet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terat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serv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rapp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e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le otevřeného kurzu MIT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B. Liskovové, D. Jacksona ad.</a:t>
            </a:r>
            <a:br>
              <a:rPr sz="2400"/>
            </a:b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Laboratory in Software Engineering</a:t>
            </a:r>
            <a:br>
              <a:rPr sz="2400"/>
            </a:b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van Ryant, 2006–2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1. Anke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vod k SE - osnova k první kapitole</a:t>
            </a:r>
            <a:br>
              <a:rPr sz="2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iz </a:t>
            </a:r>
            <a:r>
              <a:rPr b="1" lang="cs-CZ" sz="1800" spc="-1" strike="noStrike">
                <a:solidFill>
                  <a:srgbClr val="0070c0"/>
                </a:solidFill>
                <a:latin typeface="Courier New"/>
                <a:ea typeface="Courier New"/>
              </a:rPr>
              <a:t>lec1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o je to softwarové inženýrství (software engineer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 čemu slouží SE? K čemu by mělo slouž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o znamená „bugs/kloc“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o je to „kvalita“, příp. „kvalita softwaru“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č záleží na design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ká chyba zahubila Netscap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o znamená KI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avidlo optimalizace pro exp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jek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sémantika objektů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ákladní pojmy objektově orientovaného programován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2. Anke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émantika objektů</a:t>
            </a:r>
            <a:br>
              <a:rPr sz="24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iz </a:t>
            </a:r>
            <a:r>
              <a:rPr b="0" lang="cs-CZ" sz="1600" spc="-1" strike="noStrike">
                <a:solidFill>
                  <a:srgbClr val="333399"/>
                </a:solidFill>
                <a:latin typeface="Arial"/>
              </a:rPr>
              <a:t>Delphi Language Guid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kapitola </a:t>
            </a:r>
            <a:r>
              <a:rPr b="0" lang="cs-CZ" sz="1600" spc="-1" strike="noStrike">
                <a:solidFill>
                  <a:srgbClr val="333399"/>
                </a:solidFill>
                <a:latin typeface="Arial"/>
              </a:rPr>
              <a:t>„Classes and Objects“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viz str.1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aký je rozdíl mezi třídou a její instancí (tj. objektem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 je to pole (field) a metoda (method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dy a kam se umísťují do paměti instance tříd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 obsahuje proměnná typu clas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 vy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íše následující program a proč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ůže proměnná typu class obsahovat hodnotu </a:t>
            </a:r>
            <a:r>
              <a:rPr b="1" lang="cs-CZ" sz="1800" spc="-1" strike="noStrike">
                <a:solidFill>
                  <a:srgbClr val="333399"/>
                </a:solidFill>
                <a:latin typeface="Courier New"/>
              </a:rPr>
              <a:t>nil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? Co to znamená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 je to konstruktor, co je to destruktor? K čemu slouží?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(viz str. 146, 14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Times New Roman"/>
              </a:rPr>
              <a:t>Pozn.: dědičnost (inheritance, ancestor class) zatím ignoruj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120920" y="3352680"/>
            <a:ext cx="35946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program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P;</a:t>
            </a:r>
            <a:r>
              <a:rPr b="0" lang="en-US" sz="1600" spc="-1" strike="noStrike">
                <a:solidFill>
                  <a:srgbClr val="009999"/>
                </a:solidFill>
                <a:latin typeface="Courier New"/>
              </a:rPr>
              <a:t>{$APPTYPE CONSOLE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typ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TC=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clas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x:Integer;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en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va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a, b: T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 := TC.Create; a.x := 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 := a; b.x := 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rite(a.x); readl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en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841320" y="3657600"/>
            <a:ext cx="262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iz </a:t>
            </a:r>
            <a:r>
              <a:rPr b="1" lang="cs-CZ" sz="1600" spc="-1" strike="noStrike">
                <a:solidFill>
                  <a:srgbClr val="0070c0"/>
                </a:solidFill>
                <a:latin typeface="Courier New"/>
                <a:ea typeface="Courier New"/>
              </a:rPr>
              <a:t>lec</a:t>
            </a:r>
            <a:r>
              <a:rPr b="1" lang="cs-CZ" sz="1600" spc="-1" strike="noStrike">
                <a:solidFill>
                  <a:srgbClr val="0070c0"/>
                </a:solidFill>
                <a:latin typeface="Courier New"/>
              </a:rPr>
              <a:t>2</a:t>
            </a:r>
            <a:r>
              <a:rPr b="1" lang="cs-CZ" sz="1600" spc="-1" strike="noStrike">
                <a:solidFill>
                  <a:srgbClr val="0070c0"/>
                </a:solidFill>
                <a:latin typeface="Courier New"/>
                <a:ea typeface="Courier New"/>
              </a:rPr>
              <a:t>.pdf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st. 1 Variables,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eferences and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jekt, třída, ins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Dosud jsme používali objekty jako skupiny rutin. Proč se rutiny shlukují do skup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máhají nám mentálně zvládnout složitost systé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-28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ěci ve světě rozlišuj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chován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jak se projevují vůči svému okol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účel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objekty zvenku vypadají jako </a:t>
            </a:r>
            <a:br>
              <a:rPr sz="2000"/>
            </a:br>
            <a:r>
              <a:rPr b="1" lang="cs-CZ" sz="2000" spc="-1" strike="noStrike">
                <a:solidFill>
                  <a:srgbClr val="a50021"/>
                </a:solidFill>
                <a:latin typeface="Arial"/>
              </a:rPr>
              <a:t>účelově vymezené celk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skupiny rut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-28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jekt </a:t>
            </a: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skrývá informac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které nepotřebujeme znát k jeho uži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jekt uvnitř obsahuje datové položky (podob. jako zázn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obně může obsahovat i skryté ruti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van Ryant</cp:lastModifiedBy>
  <dcterms:modified xsi:type="dcterms:W3CDTF">2016-02-11T23:35:59Z</dcterms:modified>
  <cp:revision>2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